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04CC5-575A-486F-8E21-7C057AB5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A117C-7BBD-470B-BB85-92CAB4F1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D085A-01FF-420B-8D11-A5D843DB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9555D-83B1-41B3-97BA-ED7D9922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DC71-5795-48CB-836D-7954DCD4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70F6-D29A-4B0F-ACA2-71B05406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67DF-88A2-46E9-8C33-6CE9A77A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05DC-77B5-4697-9EFE-638C9DBB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CFA7-A785-4339-8934-7DCD0C24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CE36-3726-4A31-BECD-98CCC206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6DF4-7479-4ABE-A484-37DACF29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D295C-2BB7-4151-A48B-4FFFD631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54DE-FA60-4A5D-A41B-1109469D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F4E6-BD2D-458C-B422-2C818671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701B-63C1-4211-91F4-DA6CB5DE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B6A6-E89B-495F-B0D3-32E2EF2D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AF9C-4760-498B-8880-77BEF78E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77C21-6905-4263-9085-FBE7D575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888AE-C301-4F87-9DF8-E9E2999F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B358B-ADD5-4ADF-8700-845CEA6D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B19CA-895F-46A5-B730-9ED2B17E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118C2-7F48-4B0F-8312-790DBF53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C4D3A-3945-4F05-AA0E-B6EB741C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490EC-7ED9-46F0-827D-71171568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7740-D54B-4D14-8574-26F5537E33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AFC4-681D-47DB-8900-A915884809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ФУНКЦИИ УПРАВЛЕНИЯ И ИХ ВЗАИМОСВЯЗЬ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866920" y="4266720"/>
            <a:ext cx="3124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сенко Е.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урс «Основы менеджмент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гнозирование и план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огнозиров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это взгляд в будущее, оценка возможных путей развития, последствий тех или иных решений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ланиров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же - это разработка последовательности действий, позволяющей достигнуть желаемого. В работе менеджера они тесно связ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чему прогнозировать слож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огда прогноз основан на хорошо изученных закономерностях и осуществляется наверня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ако встающие перед менеджером проблемы прогнозирования обычно не позволяют дать однозначный обоснованный прогноз. Почему же остается неопределен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неопредел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пределенности, связанные с недостаточными знаниями о природе (например, нам неизвестен точный объем полезных ископаемых в конкретном месторождении, а потому мы не можем точно предсказать развитие добывающей промышленности и объем налоговых поступлений от ее предприятий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пределенности природных явлений, таких, как погода, влияющая на урожайность, на затраты на отопление, на туризм, на загрузку транспортных путей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пределенности, связанные с осуществлением действующих (неожиданные аварии) и проектируемых (возможные ошибки разработчиков или физическая невозможность осуществления процесса, которую заранее не удалось предсказать) технологических проце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неопредел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ие возможные неопределенности связаны с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ближайшим окружением фир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менеджер которой занимается прогнозирова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и, связанные с деятельностью участников экономической жизни (прежде всего партнеров и конкурентов нашей фирмы), в частности, с их деловой активностью, финансовым положением, соблюдением обязательст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и, связанные с социальными и административными факторами в конкретных регионах, в которых наша фирма имеет деловые интере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ое значение имеют и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неопределенности на уровне стра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в част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ь будущей рыночной ситуации в стране, в том числе отсутствие достоверной информации о будущих действиях поставщиков в связи с меняющимися предпочтениями потребител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и, связанные с колебаниями цен (динамикой инфляции), нормы процента, валютных курсов и других макроэкономических показател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и, порожденные нестабильностью законодательства и текущей экономической политики (т.е. с деятельностью руководства страны, министерств и ведомств), связанные с политической ситуацией, действиями партий, профсоюзов, экологических и других организаций в масштабе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 сценарие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рименении метода сценариев необходимо осуществить два этапа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строение исчерпывающего, но обозримого набора сценари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рогнозирование в рамках каждого конкретного сценария с целью получения ответов на интересующие менеджера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мер сценарного под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, просыпаясь утром, ленивый и недобросовестный менеджер может рассмотреть несколько сценариев своего поведения (шутка !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йти на рабо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статься дома без всяких объясн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статься дома, сославшись на болезн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звонить вышестоящему менеджеру и сообщить о том, что надо отправляться на переговоры, а самому остаться дома,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рогнозировать развитие событий в каждом из этих сценариев предоставляем В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Ю.Ор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ы 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хнология планирования хорошо разработана и постоянно используется. Исходя из миссии и основных принципов фирмы, отвечающих на вопрос "Зачем?", формулируютс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ратегические це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указывающие, что делать в целом. Затем они конкретизируются до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да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а те - до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онкретных зада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Далее подсчитываются необходимы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сур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материальные, финансовые, кадровые, временные - и при необходимости пересматриваются задания, задачи и цели. В результате получают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ально осуществимый пл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Очень важно, что необходимы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зерв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лучай непредвиденных обстоятель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емь этапов в процессе планировани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ап 1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еполагани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формулировка целей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го именно вы (или ваша фирма) хотите достичь? Это - самый трудный этап. Его нельзя формализовать. Личность менеджера проявляется именно в том, какие цели он став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ап 2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бор, анализ и оценка способов достижения поставленных целей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можно действовать разными способами. Какой из них представляется наилучшим? Какие можно сразу отбросить как нецелесообразны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ап 3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ление перечня необходимых действи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конкретно нужно сделать, чтобы осуществить выбранный на предыдущем этапе вариант достижения поставленных целей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ап 4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ление программы работ (плана мероприятий)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ом порядке лучше всего выполнять намеченные на предыдущем этапе действия, учитывая, что многие из них связаны между собой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емь этапов в процессе планировани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тап 5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нализ ресурсов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материальные, финансовые, информационные, кадровые ресурсы понадобятся для реализации плана? Сколько времени уйдет на его выполнени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тап 6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нализ разработанного варианта план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ает ли разработанный план поставленные на этапе 1 задачи? Являются ли затраты ресурсов приемлемыми? Есть ли соображения по улучшению плана, возникшие в ходе его разработки при движении от этапа 2 к этапу 5? Возможно, целесообразно вернуться к этапу 2 или 3, или даже к этапу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тап 7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дготовка детального плана действи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еобходимо детализировать разработанный на предыдущих этапах план, выбрать согласованные между собой сроки выполнения отдельных работ, рассчитать необходимые ресурсы. Кто будет отвечать за отдельные участки рабо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тап 8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троль за выполнением плана, внесение необходимых изменений в случае необходимост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оль как функцию менеджмента обсудим в одном из дальнейших разделов настоящей гла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здание организационных структур как функция менедж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у функцию менеджмента превосходно выразил великий полководец А.В.Суворов: "Каждый солдат должен знать свой маневр". Не надо удивляться, что мы цитируем генерала. Эффективность управления в армии выявляется самым жестким образом - в борьбе с врагом. Если офицер не сумел организовать своих подчиненных в согласованно действующую боевую единицу - он погибает вместе со своей командой. Для обычного менеджера ситуация лучше - в крайнем случае разорится его фир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им образом, каждый сотрудник фирмы должен знать, что ему надо делать в той или иной ситуации. Лишь в очень маленьких организациях менеджер может сам рассказать каждому об его обязанност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Основные функции управ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Управлять - значи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нозировать и планировать, организовывать, руководить командой, координировать и контролировать"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ри Файо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Виды оргструк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Жест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ей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ейно-штаб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ейно-функцион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визион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даптив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но-целе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р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л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те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тсорсинг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язующие проце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сс коммуник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процесс обмена информацией между двумя и более людьми. Благодаря коммуникациям руководители (аппарат управления) получает информацию, необходимую для принятия решений, и доводит принятые решения до работников предприятия. Если коммуникации на предприятии налажены плохо, решения могут быть ошибоч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сс принятия реш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выбор альтерна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цессе выполнения функций управления менеджерам приходится принимать большое количество реш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ланировании: постановка целей, определение необходимых ресурсов, выбор способов достижения целей и задач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существлении функции организовывания: структура производства, структура управления, организация производственного процесса, вспомогательных служб и обслуживающего производства, организация труда рабочих и специалис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сс мотивации включает установление и оценку неудовлетворенных потребностей, формирование целей удовлетворения потребностей, определение стимулирующих воздействий (мер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ия контроля связана с принятием решений о том, что, когда и как контролировать, какие виды и формы контроля использовать, как анализировать полученную информацию, а также решения по осуществлению корректирующих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намизм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намизм функций выражается в необходимости их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дстройки на все возрастающие изменения во внешней сред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этого требуется освоение существующих методов и способов выполнения функций, использование нестандартных решений, творческого подхода к решению пробл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гласно кибернетическому принципу Эшби, который гласит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только разнообразие может уничтожить разнообрази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ожно утверждать, что только применение разнообразных методов функционирования системы может сделать ее поведение предсказуемым, т. е. можно утверждать, что для поддержания интереса, чувства удовлетворенности сотрудников процессом и результатом труда, которые являются основой мотивации, при применении методов воздействия на поведение сотрудников необходимы новизна (для того, на кого направлено воздействие) с элементами приятной неожиданности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Чем большим диапазоном инструментов управления владеет менеджер, чем выше его понимание среды, тем эффективность функционирования предприятия выш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ункциональная структура менеджмен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4360" y="2309760"/>
          <a:ext cx="748800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309760"/>
                    <a:ext cx="748800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функции упр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1981080"/>
            <a:ext cx="568800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к функция менеджмента предполагает решение о том, какие должны быть ЦЕЛИ организации и ЧТО должны делать члены организации для достижения этих целей. По сути, это ответы на следующие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де мы находимся в настоящее врем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Руководители должны трезво оценивать сильные  и слабые стороны организации в таких областях как финансы, маркетинг, производство, научные исследования и разработки, трудовые ресур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да мы хотим двигать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Руководители при выборе направлений развития организации должны оценивать возможности и угрозы в окружающей среде (конкуренция, клиенты, законодательство, политика, экономика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мы собираемся это сдела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Руководители должны решить как в целом, так и в частностях, что делать для достижения поставленных ц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ганиза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структуризация внутренних элементов организации с целью выполнения планов и достижения целей.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          Создание структуры управления организацией (подбор исполнителей, делегирование заданий, наделение их полномочиями в использовании ресурс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          Организация совместного выполнения установленных р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создание в среде исполнителей внутренних побуждений к действиям, направленным на эффективное достижение целей орган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трол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процесс обеспечения того, что организация действительно достигает своих целей. Существуют три аспекта управленческого контроля. Первое – это установление стандартов – точное определение целей, которые должны быть достигнуты в установленный отрезок времени. Второе – это измерение того, что было действительно достигнуто в установленном отрезке времени и сравнение с ожидаемыми результатами. Третье – это принятие решений для корректировки свои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язующие проце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ятие реш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мун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3933720"/>
            <a:ext cx="2879640" cy="2664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92720" y="2205000"/>
            <a:ext cx="2664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11:09:59Z</dcterms:created>
  <dc:creator>Елена</dc:creator>
  <dc:description/>
  <dc:language>en-US</dc:language>
  <cp:lastModifiedBy>Елена</cp:lastModifiedBy>
  <dcterms:modified xsi:type="dcterms:W3CDTF">2008-06-30T12:24:11Z</dcterms:modified>
  <cp:revision>3</cp:revision>
  <dc:subject/>
  <dc:title>ФУНКЦИИ УПРАВЛЕНИЯ И ИХ ВЗАИМОСВЯЗЬ</dc:title>
</cp:coreProperties>
</file>