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F0B-2CA5-4317-AB69-027C3D76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D1C-41A6-46EB-B210-399C7F77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064E9-54A5-42A4-B022-BE4804C3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47275-FA14-4194-85F9-84360766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78C5F-7075-467A-9F0E-1677452C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F0D5B-4921-4A8C-98A9-2825E82C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5D25A-997E-41C8-BD93-5FD5B98F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83907-9183-4F8A-884A-9E59C0BD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0BE73-FC9B-4FCC-8FE9-2ED957FF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FEF26-CA9C-4906-B53E-46F99DFC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B83F8-A6B9-4758-B091-367D823A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407-BF3D-445E-BD79-0D45AC25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C560-961F-4A72-8A0D-76ACD932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D354-2736-4215-8F15-1BB658B9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107D-7134-4AD6-BBAA-DCCE72EC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2569-9DEB-4A88-B8C1-1A66127E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655C-8CE1-4311-BCEE-4A790EDC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E0F4-81FC-455E-A537-7F548ED0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CEDA-77FE-4BFF-A709-34F42734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3744-1CE3-40E7-B3C5-8B3D20EC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F36-7626-4259-861A-E670199E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AEE7-DDF8-42CF-870A-08119D91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A854-3B0D-4888-A300-9C07DD57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E463-E6E4-4BD7-9065-5C4B7020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02B1-768A-427C-BB2E-4FFD428C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FD6B-4AAD-43C7-830F-179A4987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B43A6-A834-4CA1-B62B-5CCE223B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696A1-C6DF-4C97-B2C2-D6B68DAA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80566-EB18-46DC-A170-50590C04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9A195-A371-4EBD-8AA6-42A38A61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92296-E2C9-471E-8CF7-88CE90E1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EB5-3C6D-414B-BEC2-8ADD1EEE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D3F90-1167-47DD-A531-836C1C68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8EFA0-7ED5-44DF-96C3-D5645647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4CF97-CB63-4821-B111-D70FACC1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ED1C1-4FD9-41AF-AE61-D01429E2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D8557-61D6-4420-844D-46437700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19B85-CD4D-4D1D-AAAE-AE505D82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99629-2932-4842-8A45-EB5DDD94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DC2B0-BFD7-4FCC-A10E-56402126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59D60-0B4F-48DE-B1F4-8A7B3728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E310C-4441-42DE-A672-F111B1BC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0089-EB51-4E9B-8126-8C2F508A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72BB6-616E-4739-BF83-40699035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9616F-4D1F-46F9-A3F6-00D2AA27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57528-6E8E-4660-8E4A-1EE2E63C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4A0B-5156-49AD-B78C-82F3DEC8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3BBB0-BAA5-4783-9085-2C716992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DD42D-6399-4C9B-ABFA-4D7D6D25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54FAC-3194-4CE0-A5D8-09C16BDC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01B83-3E84-4B20-8D21-C3819044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DD122-2787-4068-8CAA-9FC10224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5F1D4-764C-427F-8265-4048A3EF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7D8-EFFA-4C88-8D15-2CEFB355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98B69-E305-4069-9933-7FDC1625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CD001-09F0-44AF-8B78-F5F2B470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641AA-BFAE-4F74-A50E-D7D1C2FA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C7254-B7D6-479C-A9DB-699D6BE4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94640-7507-4359-BAFD-4AA62FD6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D684B-2AC1-4CC2-91F7-C7434BDB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5E36C-7B3D-4A65-B0A6-26FD7B25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8A4E9-ABD0-475C-AA02-FABA3057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0A6D0-FDF2-49A8-8A65-BB8E947E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75C98-2682-4D63-B116-743DC5B9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23A-0415-4FA7-BB8A-0A462385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92ED5-402E-40DA-8632-3D114B50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D889C-9A3C-4179-992B-D708BD8D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91D6E-442C-4276-B9BC-16709679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36D48-8039-42DA-B731-9A3B96CB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6AF43-118C-4738-8BFC-6872DAAD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BAB45-B4F0-4585-9EA3-9993D641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0BC1D-26CF-46C5-9DEC-ACB2EFF4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79E8B-6611-443E-914A-DBB15704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28131-D0F8-44E8-8A7B-08A4EC64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135E5-0634-46F9-A0C4-1CC30143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916-9C57-4523-BD9F-5765622A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BD6A3-B6F3-406E-94A7-42817462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7243F-4F7E-442E-8DC8-7850AE0A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DC229-44AC-4A5D-B94C-9C58CE73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532C4-36CB-4A11-8A7F-231E4D9D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7A8D0-A8E6-4383-BAE7-C34C7B1D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BB1B1-2DA5-4AF7-9660-D29E0ACF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41F57-1C3E-4D43-97DB-A84FB7B5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DF2E4-78F9-4598-84E6-959B1EF8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E47A4-5DB8-4BD5-98C1-9BED66A0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3E3BF-BC2F-435A-8153-78A5B48E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1B3C-38AD-4755-B312-5ACB52A3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397F2-B4D5-442F-B079-937D9197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4D98E-1553-48A8-BF04-2DC0133B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3A829-3D4C-45B7-8F47-796D1B06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AC92E-D8C5-465D-97E0-A943BBF1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6757F-3A05-405C-8DEB-54DF2B45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5E187-7E0D-484A-A04C-2F4A0DFA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A9F26-BDF6-40A5-81AF-40A089EB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33F2E-8F07-4699-8797-C4136D9E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8AA58-94B4-4141-812D-7B964134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B53EF-673D-434A-942C-5939F1EF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4AF-9009-428E-80D8-95B58581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06111-95E1-4E13-8F2D-2A712D34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80A62-CC90-4B07-B8D6-447F8262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7644E-EF89-4879-8700-B6CE8391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16900-0902-44C4-BF9F-503238A1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B6F07-80ED-4CE6-9B13-F0ACF8DF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7FD3C-77A0-4F03-97E5-6476968B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C7CF4-EB0F-40FF-BB95-FD2FA847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3BB53-B1E0-40B9-B703-8F8ACA52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25AC8-C558-4056-9101-AC3FF1A2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442F2-0ED2-4900-87AA-2547D3AF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A9E8-F8B8-44A6-8715-5DB0161D438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0BB4-637C-4B9B-BF65-2FE4CA442CA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1BF7-24C6-4790-BDF2-16A39A20088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003B-872F-407B-B0C0-6628669936C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1111-3BB3-4DE7-AFEA-F49B89C1BA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A2DA-3B5F-4142-96A6-3FAE8A47CEA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DC32-1F2A-48AD-BF46-086B1FEF396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70F5-DD51-4EBE-AC7C-48E21538B3F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E7DD-A013-41DA-A90F-6D855F9043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84120" y="450720"/>
            <a:ext cx="8435880" cy="23288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5867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43329"/>
                </a:solidFill>
                <a:latin typeface="Franklin Gothic Book"/>
              </a:rPr>
              <a:t>6.1 Сущность, функции и особенности кредита. Виды кредитов. Денежно-кредитная политика государства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43329"/>
                </a:solidFill>
                <a:latin typeface="Franklin Gothic Book"/>
              </a:rPr>
              <a:t>Автор: Клюев С.В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43329"/>
                </a:solidFill>
                <a:latin typeface="Franklin Gothic Book"/>
              </a:rPr>
              <a:t>Ярославль 2011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3604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водится ЦБ РФ от лица государств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Денежно-кредитная политика -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вокупность мер эконом. регулирования, денежного обращения и кредита путем воздействия на инвестиционную активность, на уровень и динамику инфляции и другие процессы макроэкономи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196640"/>
            <a:ext cx="8686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оцентные ставки по операциям ЦБ (Банк России может устанавливать одну или несколько ставок по операциям, может проводить политику без фиксации ставок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ормативы обязательных резервов, депонируемых в Банке Росси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(размер обязательных резервов устанавливается советом директоров. Нормативы  ≤ 20% и не могут быть одновременно изменены более, чем на 5 пунктов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3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перации на открытом рынке (купля-продажа Банком России за свой счет ц/б у КБ следовательно увеличение или уменьшение свободных денежных средств у КБ. Лимит операций утверждается советом директоров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4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ефинансирование банков (кредитование ЦБ коммерческих банков, в том числе учет/переучет векселей. Нижняя граница кредитов -12%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5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алютное регулирование (валютное регулирование - купля-продажа Банком России иностранной валюты с целью воздействия на курс рубля, т.е. валютной интервенцией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6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Установление ориентиров роста Д. массы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7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ямые количественные ограничени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(ограничение объемов предоставляемых кредитов и т.д.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8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ыпуск облигаций от своего имен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2" descr=""/>
          <p:cNvPicPr/>
          <p:nvPr/>
        </p:nvPicPr>
        <p:blipFill>
          <a:blip r:embed="rId1"/>
          <a:stretch/>
        </p:blipFill>
        <p:spPr>
          <a:xfrm>
            <a:off x="182520" y="2852640"/>
            <a:ext cx="88758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"/>
          <p:cNvSpPr/>
          <p:nvPr/>
        </p:nvSpPr>
        <p:spPr>
          <a:xfrm>
            <a:off x="539640" y="162864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коном. отношения между кредиторами и заемщиками, которые заключаются в передаче ссуженной стоимости для использования на условиях возвратности, срочности, платности и в интересах общественных потребност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едит возникает из-за несоответствия потребностей в деньгах и их налич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92160" y="457200"/>
            <a:ext cx="8899560" cy="1170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1. Кредиторы и заемщики должны быть самостоятельными субъектами, которые гарантируют выполнение обязательств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2. Интересы кредиторов и заемщиков должны удовлетворяться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ерераспределительная (перераспределяется стоимость общественного продукта. Перераспределение временное, и оно охватывает только временно свободные денежные средства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мена действительных денег кредитными деньгами (в оборот входит ссуженная стоимость и выполняет работу, свойственную обычным деньгам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19700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зависимости от формы ссуженной ст-ти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товар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денеж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смешан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зависимости от того, кто участник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банковский кредит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коммерческий (Предприятие №1 → Предприятие №2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государственный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международный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гражданский (частный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3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зависимости от цели кредитования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производствен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потребительск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4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Другие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прям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косвенная (с промежуточными звеньями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явная/скрыт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новая/стар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развитая/неразвит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отрасл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торгов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промышлен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с/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срочност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краткосроч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среднесроч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долгосроч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 возврат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 сроч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 плат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 обеспечен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5) целевой характер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авка рефинансирования ЦБ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няя ставка по межбанковским кредита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прос на креди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епень рис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ровень инфляц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о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руг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46160" y="-219240"/>
            <a:ext cx="8845560" cy="18464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еспеченная непрерывность производст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спользование на расширение производства (Необоснованные кредиты - негативное влияние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лияние кредита на денежную сферу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тупление и изъятие денег - через банки на кредитной основе (денежная масса увеличивается или уменьшается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12:07:17Z</dcterms:modified>
  <cp:revision>24</cp:revision>
  <dc:subject/>
  <dc:title>Бюджетная система Российской Федерации </dc:title>
</cp:coreProperties>
</file>