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FE98-1921-473D-9E65-98320ABE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A16-394E-444B-B69F-0ED61E42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308-B7E7-49B5-A475-89CBBC1E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E3F-751C-48B2-BE19-0698C7DF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4041-3F81-42A7-82BF-2A507DAD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FEC7-AF6C-4048-A74A-29136C36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18E6-96E7-42B6-A5B8-B83E4BC9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1167-8155-479D-B585-899E0AC4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BA40-5B16-45F6-9AFC-D663EDAC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9BE4-3D7B-459E-B75A-6B789EEF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20AB-B716-49C0-847B-318D89AD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266-E929-43EF-92CA-3A67CAC2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2D78-A7CB-4EA6-AA47-2BBCB01B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D809-2550-4FC4-976D-FAE0B413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F322-F1C5-4E19-AD6A-F6C6F555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6D14-FDF1-4F4D-90F0-5AC531FC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4B97-BD60-4E57-8190-6FC428EA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F4E83-84F2-45C9-AD20-6578C410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215CB-7844-4B41-B4F7-38770EB6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1A504-056D-4E6E-9D13-47E74E49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AF7C3-75BB-4E61-A0FA-43CD2460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AA812-7E7D-4CA4-B330-178CFC65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052A-6600-4839-ABA3-A0D3A8DA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79AB6-CD17-40C4-9AD8-52D8B42F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B354F-4FA9-4D83-87AD-8904D327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35C85-48B4-4355-A3BE-11DB1956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DD081-D1E1-4644-AB96-7F355878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4BEFF-5151-4C1C-A7DD-38056875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D6B50-4978-4E76-AD10-9004A7DF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01092-C6BD-4C93-9874-AEDA66A3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D1CE9-D54F-44F5-BA8C-84F71660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20927-8FAA-4FBE-8B00-FAC795CF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E6CEF-CA9B-4D38-86F6-AC4CDDBB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4637-9604-4F0C-8517-48A5E863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1F991-58C9-4C6E-A435-D260B4DF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E8E04-A8FB-4F1F-8FE7-D8451E50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3CDD7-9446-4EEE-A5BE-AA1B020F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172C9-2213-446C-A641-185FEFA2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02621-6FF3-4015-B264-8CEDCE01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8DA15-4DCF-488C-9F70-AEA45DAE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0CB19-4D95-4B24-8655-581D4BC4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FCF54-E038-4936-AAA4-63796CCE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984FC-40D7-4BC6-A928-2F9B4F3B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C339A-BA5C-4294-83A2-78F9D598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5D7B-2EC6-424D-B9E6-6E4212AC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117C8-937A-463A-B0EE-4DF8D2EF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EFE61-40AC-48FC-B338-72375A8C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86526-7D9D-4C4E-8C54-1E5F3FDA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AC9A8-1E42-4009-A425-144085A5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3628F-0355-4A8A-B76F-B953AD57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D11C7-DD32-4218-9124-689EDE51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C32F2-94DB-482A-AA7E-57CDA895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F1209-111C-43E9-A2F3-F70C1A19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9C952-3A89-4476-A194-455F57E4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1CF6E-C7D0-4EA0-AF99-E239DDF0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E7D5-594A-435C-A0F7-0D9B9965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86DC5-416E-4F7B-81B5-86FF026E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B323-D92E-4FAA-9154-A84AAE86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387-E5B5-4B3D-A5AE-B9099B50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F2DD-3C00-4691-96B7-AD044B37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92934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53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4604-C92D-4115-8E9B-5FB4C0CBBFDF}" type="slidenum">
              <a:rPr b="0" lang="ru-RU" sz="1100" spc="-1" strike="noStrike">
                <a:solidFill>
                  <a:srgbClr val="d2533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92934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F364-0717-4153-B9EF-641C1803D95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92934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53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3D7A-AC4E-4933-B814-04E8EB28FD64}" type="slidenum">
              <a:rPr b="0" lang="ru-RU" sz="1100" spc="-1" strike="noStrike">
                <a:solidFill>
                  <a:srgbClr val="d2533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f2d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3f2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3f2d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3f2d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7459-0857-4E46-BEDA-1093CC2CFDC0}" type="slidenum">
              <a:rPr b="0" lang="ru-RU" sz="1100" spc="-1" strike="noStrike">
                <a:solidFill>
                  <a:srgbClr val="f3f2d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92934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53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A6EC-9BD1-4B69-9895-85C430EBC737}" type="slidenum">
              <a:rPr b="0" lang="ru-RU" sz="1100" spc="-1" strike="noStrike">
                <a:solidFill>
                  <a:srgbClr val="d2533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38164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059280" y="3540240"/>
            <a:ext cx="5689440" cy="1473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rebuchet MS"/>
              </a:rPr>
              <a:t>5.1 Сущность страхования. Признаки и функции. Тарифная ставка, отрасли страхования </a:t>
            </a:r>
            <a:endParaRPr b="0" lang="en-US" sz="2100" spc="-1" strike="noStrike">
              <a:solidFill>
                <a:srgbClr val="292934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92934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Автор: Клюев С.В.</a:t>
            </a:r>
            <a:endParaRPr b="0" lang="en-US" sz="1300" spc="-1" strike="noStrike">
              <a:solidFill>
                <a:srgbClr val="292934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Ярославль 2011</a:t>
            </a:r>
            <a:endParaRPr b="0" lang="en-US" sz="13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Страховая тарифная ставка (Брутто-ставка):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1) Нетто-ставка (идет на все выплаты страховых сумм и возмещений. Для этой цели формируются страховые резервные фонды)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2) Нагрузка (на ведение дела и формирование прибыли страховой компании)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Брутто-ставка = (Нетто – ставка) / (1- d),  где d - удельный вес нагрузки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95280" y="404280"/>
            <a:ext cx="7300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Страховая ответственность </a:t>
            </a: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- обязанность страховщика выплатить страховое возмещение или страховую сумму в оговариваемых случаях.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Страховой риск -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1) вероятность нанесения ущерба от страхового случая (вычисляется математически и является основой расчета основных тарифных ставок)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2) конкретный объект страхования по страховой сумме и степени вероятности ущерба.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Сострахование </a:t>
            </a:r>
            <a:r>
              <a:rPr b="0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- </a:t>
            </a: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разделение крупного риска на несколько страховщиков по договору с целью выравнивания страх. рисков.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Перестрахование</a:t>
            </a:r>
            <a:r>
              <a:rPr b="0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- передача части ответственности по взятым рискам другим страховщикам (страхование самого страховщика)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95120" y="0"/>
            <a:ext cx="7504200" cy="150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1341000"/>
            <a:ext cx="8137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Централизованное и децентрализованное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Индивидуальное и коллективное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Обязательное и добровольное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Разовое и накопительное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По отраслям: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1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Личное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пассажиров от несчастных случаев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военнослужащих за счет ср-в Минобороны и спец. ведомств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работников, связанных с выполнением особо опасных работ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2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Имущественное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Объекты - 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материальные ценности (здания, сооружения, машины, сырье, материалы, готовая продукция, урожай, животные)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Страховые случаи 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ихийные бедствия, воздействия технолог. факторов, пожары, взрывы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225360" y="237960"/>
            <a:ext cx="7473960" cy="15051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3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Социальное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защита конституционных прав граждан в случае временной потери или утраты трудоспособности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4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Профессиональной ответственности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Ответственность - 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обязанность лица, виновного в причинении ущерба, возместить его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Объекты - 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адвокаты, врачи, чья деятельность или бездеятельность может принести вред другим гражданам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5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Рисков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Объект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 - риск недополучения прибыли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недополучения прибыли в рез-те нарушения технических процессов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морское страхование грузов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банковских кредитов от рисков неплатежа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биржевых операций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5151600" y="1023840"/>
            <a:ext cx="3895560" cy="25113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4" descr=""/>
          <p:cNvPicPr/>
          <p:nvPr/>
        </p:nvPicPr>
        <p:blipFill>
          <a:blip r:embed="rId2"/>
          <a:stretch/>
        </p:blipFill>
        <p:spPr>
          <a:xfrm>
            <a:off x="549360" y="933480"/>
            <a:ext cx="44370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совокупность особых перераспределительных отношений между его участниками в связи с формирование целевого страхового фонда за счет денежных взносов участников и в связи с использованием его для возмещения ущерба субъектам хозяйствования или физического лица при происшедшем событии, который является страховым случаем.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292934"/>
                </a:solidFill>
                <a:latin typeface="Trebuchet MS"/>
              </a:rPr>
              <a:t>1. Перераспределение стоимости общественного продукта</a:t>
            </a: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292934"/>
                </a:solidFill>
                <a:latin typeface="Trebuchet MS"/>
              </a:rPr>
              <a:t>2. Перераспределительные отношения, обусловленные вероятностью наступления страхового случая </a:t>
            </a: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292934"/>
                </a:solidFill>
                <a:latin typeface="Trebuchet MS"/>
              </a:rPr>
              <a:t>3. Предусматривается распределение ущерба во времени</a:t>
            </a: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292934"/>
                </a:solidFill>
                <a:latin typeface="Trebuchet MS"/>
              </a:rPr>
              <a:t>4. Замкнутость раскладки ущерба (покрытие ущерба на одной территории) </a:t>
            </a: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226" name="Штриховая стрелка вправо 3">
            <a:hlinkClick r:id="" action="ppaction://hlinkshowjump?jump=nextslide"/>
          </p:cNvPr>
          <p:cNvSpPr/>
          <p:nvPr/>
        </p:nvSpPr>
        <p:spPr>
          <a:xfrm>
            <a:off x="4427640" y="3500280"/>
            <a:ext cx="2952720" cy="720720"/>
          </a:xfrm>
          <a:prstGeom prst="pie">
            <a:avLst/>
          </a:prstGeom>
          <a:solidFill>
            <a:srgbClr val="93a299"/>
          </a:solidFill>
          <a:ln w="399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имеры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27" name="Стрелка вправо 5">
            <a:hlinkClick r:id="rId2" action="ppaction://hlinksldjump"/>
          </p:cNvPr>
          <p:cNvSpPr/>
          <p:nvPr/>
        </p:nvSpPr>
        <p:spPr>
          <a:xfrm>
            <a:off x="4211640" y="5602320"/>
            <a:ext cx="2592360" cy="836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93a299"/>
          </a:solidFill>
          <a:ln w="399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алее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182520" y="365040"/>
            <a:ext cx="7450200" cy="1944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7286760" cy="302436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3"/>
          <p:cNvSpPr/>
          <p:nvPr/>
        </p:nvSpPr>
        <p:spPr>
          <a:xfrm>
            <a:off x="1056960" y="573264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34"/>
                </a:solidFill>
                <a:latin typeface="Calibri"/>
              </a:rPr>
              <a:t>m - частота наступления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1" name="Стрелка влево 4">
            <a:hlinkClick r:id="" action="ppaction://hlinkshowjump?jump=previousslide"/>
          </p:cNvPr>
          <p:cNvSpPr/>
          <p:nvPr/>
        </p:nvSpPr>
        <p:spPr>
          <a:xfrm>
            <a:off x="4427640" y="5516640"/>
            <a:ext cx="3168720" cy="1225440"/>
          </a:xfrm>
          <a:prstGeom prst="leftArrow">
            <a:avLst>
              <a:gd name="adj1" fmla="val 50000"/>
              <a:gd name="adj2" fmla="val 49956"/>
            </a:avLst>
          </a:prstGeom>
          <a:solidFill>
            <a:srgbClr val="93a299"/>
          </a:solidFill>
          <a:ln w="399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ернуться к признакам страхования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1. Распределительная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- рисковая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- сберегательная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- предупредительная (связана с использованием части средств страхового фонда на уменьшение степени последствий или на исключение страхового риска)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2. Контрольная (выражается в строго целевом формировании и использовании средств страхового фонда)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Предупредительные мероприятия: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пожарные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по борьбе с болезнями животных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профилактика простудных заболеваний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ДТП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противоселевые и противопаводковые мероприятия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Участники: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1) Страховщики - юридические лица любой организационно-правовой формы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2) Страхователи – юридические и физические лица, имеющие страховой интерес и вступающие в страховые отношения либо в силу закона, либо добровольно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34"/>
                </a:solidFill>
                <a:latin typeface="Trebuchet MS"/>
              </a:rPr>
              <a:t>1) экономическая потребность в страховании</a:t>
            </a:r>
            <a:endParaRPr b="0" lang="en-US" sz="4000" spc="-1" strike="noStrike">
              <a:solidFill>
                <a:srgbClr val="292934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34"/>
                </a:solidFill>
                <a:latin typeface="Trebuchet MS"/>
              </a:rPr>
              <a:t>2) величина страховой суммы, в которую оценивается ущерб в связи с возможными потерями</a:t>
            </a:r>
            <a:endParaRPr b="0" lang="en-US" sz="4000" spc="-1" strike="noStrike">
              <a:solidFill>
                <a:srgbClr val="292934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Trebuchet MS"/>
              </a:rPr>
              <a:t>размер денежных средств, на которые фактически застраховано имущество, жизнь, здоровье</a:t>
            </a:r>
            <a:endParaRPr b="0" lang="en-US" sz="28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Trebuchet MS"/>
              </a:rPr>
              <a:t>По имущественному страхованию страховая сумма не может превышать реальной стоимости имущества. </a:t>
            </a:r>
            <a:endParaRPr b="0" lang="en-US" sz="28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Trebuchet MS"/>
              </a:rPr>
              <a:t>По личному страхованию - зависит от материальных возможностей страхователя и наличия желания страховаться на ту или иную сумму.</a:t>
            </a:r>
            <a:endParaRPr b="0" lang="en-US" sz="28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24000" y="333360"/>
            <a:ext cx="737208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34"/>
                </a:solidFill>
                <a:latin typeface="Trebuchet MS"/>
              </a:rPr>
              <a:t>Страховое возмещение </a:t>
            </a:r>
            <a:r>
              <a:rPr b="0" lang="ru-RU" sz="3200" spc="-1" strike="noStrike">
                <a:solidFill>
                  <a:srgbClr val="292934"/>
                </a:solidFill>
                <a:latin typeface="Trebuchet MS"/>
              </a:rPr>
              <a:t>- причитающаяся к выплате страх. сумма страхователю (max возмещение ≤ Σ страхования)</a:t>
            </a:r>
            <a:endParaRPr b="0" lang="en-US" sz="32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34"/>
                </a:solidFill>
                <a:latin typeface="Trebuchet MS"/>
              </a:rPr>
              <a:t>Страховой взнос (платеж, премия) </a:t>
            </a:r>
            <a:r>
              <a:rPr b="0" lang="ru-RU" sz="3200" spc="-1" strike="noStrike">
                <a:solidFill>
                  <a:srgbClr val="292934"/>
                </a:solidFill>
                <a:latin typeface="Trebuchet MS"/>
              </a:rPr>
              <a:t>- плата в рублях с совокупной страховой суммы (может быть разовой и периодической)</a:t>
            </a:r>
            <a:endParaRPr b="0" lang="en-US" sz="32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34"/>
                </a:solidFill>
                <a:latin typeface="Trebuchet MS"/>
              </a:rPr>
              <a:t>Страховая тарифная ставка </a:t>
            </a:r>
            <a:r>
              <a:rPr b="0" lang="ru-RU" sz="3200" spc="-1" strike="noStrike">
                <a:solidFill>
                  <a:srgbClr val="292934"/>
                </a:solidFill>
                <a:latin typeface="Trebuchet MS"/>
              </a:rPr>
              <a:t>- цена страхового риска или плата с единицы страховой суммы</a:t>
            </a:r>
            <a:endParaRPr b="0" lang="en-US" sz="32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11:51:08Z</dcterms:modified>
  <cp:revision>22</cp:revision>
  <dc:subject/>
  <dc:title>Бюджетная система Российской Федерации </dc:title>
</cp:coreProperties>
</file>