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0E8D-46F6-4916-90F2-6988F401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F4AB-4B04-4BBC-9A1F-C2A81B6E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9D26-1089-4424-9598-9FF88DEB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E494-37E0-4482-9EE6-CBA44F4CE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CB8F-1E08-4F01-A826-FB1A70495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FF2A-402D-44F6-BC1F-DA0EF4AF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0FED-27B8-45D0-8966-D2801332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0773-3A22-415E-9B33-188F88DD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4F4D-7F42-41F9-8AC4-4BB87F04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4857-B020-485D-ADE7-44158D54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48A9-FE41-439F-BBDE-EB429258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CC0D-15E9-46B6-8434-BF352128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CFC9-4DF8-4AC5-A707-B3C9F1A7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4052-E3D2-4948-BB0E-0C739DB7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0F96-9E13-4305-ADD0-31A58FAA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ED9C-0630-4463-8EBA-4DF6AFA0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EE21-CA80-444C-B807-9DA9EA3C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7BD20-B4FB-4D57-B4FA-FE8D5CCFD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BA56D-81E3-4759-8E8A-B3EC8F55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D0A8E-AFED-4F10-A8A8-C042EF40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C724C-6D56-41F1-8A60-6D7C4021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4DC02-E4BF-4CA6-8C91-E102EE50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9110-7DD0-49FD-9479-9395E726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57F4F-512F-41F4-BA28-4C78CD87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04483-398D-4EB2-BACF-12BB0596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51641-69D5-4EC6-B609-988B9AEC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F0CA9-D859-4570-9B9B-471F0613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46F1E-F2A8-461A-8AF2-C95CE2B5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A41A1-DEAD-461A-9444-0D57055EE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1949B-1BD5-4C22-A0F4-286DDF3BC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31DCD-8D05-44A1-9196-D062046F4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78BAE-44D0-46F8-B36C-2B7D0237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D56BD-1823-44AD-86B7-E391285F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6FF3-9543-4FCE-92F7-8E122EB7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6E2BD-AA48-4941-BD91-47EA1B3D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CC61B-BDB8-425C-8A38-7E09B856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4B4D1-3577-4D37-BC7F-AE887278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4FDFB-A765-4C84-B422-F320EB40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07C06-8E1D-47D5-ABF7-89B791F3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0A95B-EED1-4B1A-B5DE-30948DE9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EBDBF-D85C-4817-B3F8-49831C96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3539E-7B46-40FF-8DAF-A0E776538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45A27-65C9-4EBF-8E2B-55AF5A8CC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ACF4-7B45-4BFB-8E06-0F77F75A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AD46-9292-4E01-8F14-A99C30FE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5136-7502-4ED1-AD19-70129D50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E646-E744-4077-A861-750BBAE9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0230-90B2-4B51-A7B7-8A85042F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a566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18B4-7145-4B00-840C-D5192156A8B7}" type="slidenum">
              <a:rPr b="0" lang="ru-RU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1f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29FE-CBC3-4C98-881F-04DA028A8F3A}" type="slidenum">
              <a:rPr b="0" lang="ru-RU" sz="1200" spc="-1" strike="noStrike">
                <a:solidFill>
                  <a:srgbClr val="cce1f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1f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1191-F90B-4271-9578-38999BD54A56}" type="slidenum">
              <a:rPr b="0" lang="ru-RU" sz="1200" spc="-1" strike="noStrike">
                <a:solidFill>
                  <a:srgbClr val="cce1f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a566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071C-1DD1-4260-ABC2-79B75F5FB3DF}" type="slidenum">
              <a:rPr b="0" lang="ru-RU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-55440" y="19080"/>
            <a:ext cx="8991360" cy="5600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2339640" y="5445000"/>
            <a:ext cx="4419720" cy="868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Автор: Клюев С.В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Ярославль 2011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4e5b6f"/>
                </a:solidFill>
                <a:latin typeface="Calibri"/>
              </a:rPr>
              <a:t>Финансовая деятельность любого государства —</a:t>
            </a:r>
            <a:endParaRPr b="0" lang="en-US" sz="45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то процесс собирания, распределения (перераспределения) и использования денежных средств, обеспечивающих практическое выполнение функций государства и органов местного самоуправл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процессе осуществления финансовой деятельности государство решает в данной сфере следующие задач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бирания фондов денежных средст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спределения и использования этих средст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4e5b6f"/>
                </a:solidFill>
                <a:latin typeface="Calibri"/>
              </a:rPr>
              <a:t>Методы собирания фондов денежных средств:</a:t>
            </a:r>
            <a:endParaRPr b="0" lang="en-US" sz="45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логовый метод — используется государством для изъятия части доходов граждан, государственных и негосударственных предприятий, организаций и учреждений в бюджет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етод обязательных платежей юридическими и физическими лицами в пенсионный фонд, фонды социального страхования, обязательного медицинского страхования и другие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осударство использует метод добровольного привлечения денежных средств в форме вкладов населения в банк, приобретения облигаций и других ценных бумаг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етод взимания сборов и пошлин, т.е. плата за оказываемые услуги (судебная, таможенная пошлина и др.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етод страхования (формирования страховых фондов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эмиссия денег (дополнительный выпуск денежных средств в обращение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4e5b6f"/>
                </a:solidFill>
                <a:latin typeface="Calibri"/>
              </a:rPr>
              <a:t>Методы распределения фондов денежных средств:</a:t>
            </a:r>
            <a:endParaRPr b="0" lang="en-US" sz="45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инансирова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редитова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плата страховых возмеще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уществление расчетов между различными субъект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4e5b6f"/>
                </a:solidFill>
                <a:latin typeface="Calibri"/>
              </a:rPr>
              <a:t>Финансовая система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ставляет собой систему отношений, ориентированных на объек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539640" y="2781360"/>
            <a:ext cx="8379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5b6f"/>
                </a:solidFill>
                <a:latin typeface="Calibri"/>
              </a:rPr>
              <a:t>В управлении финансами</a:t>
            </a:r>
            <a:r>
              <a:rPr b="0" lang="ru-RU" sz="3600" spc="-1" strike="noStrike">
                <a:solidFill>
                  <a:srgbClr val="4e5b6f"/>
                </a:solidFill>
                <a:latin typeface="Calibri"/>
              </a:rPr>
              <a:t>, как и в любой управляемой системе, выделяются объекты и субъекты управления.</a:t>
            </a:r>
            <a:endParaRPr b="0" lang="en-US" sz="3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бъектами выступают разнообразные виды финансовых отношени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убъектами —организационные структуры, осуществляющие управление. В соответствии с классификацией финансовых отношений по их сферам выделяют три группы объектов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инансы предприяти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траховые отношени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осударственные финанс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м соответствуют следующие субъекты управления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инансовые службы (отделы) предприяти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траховые орган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инансовые орган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логовые инспекци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7:57:21Z</dcterms:created>
  <dc:creator>Александр</dc:creator>
  <dc:description/>
  <dc:language>en-US</dc:language>
  <cp:lastModifiedBy>Александр</cp:lastModifiedBy>
  <dcterms:modified xsi:type="dcterms:W3CDTF">2011-03-24T09:43:15Z</dcterms:modified>
  <cp:revision>7</cp:revision>
  <dc:subject/>
  <dc:title>Сущность и функции финансов</dc:title>
</cp:coreProperties>
</file>