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CE7-2431-43B3-AFE4-4F0CE155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ECB-E92E-41C0-BA17-50200D84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E7A-3108-44C6-9503-9017048D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12F-0E56-43FC-8DAE-0B505570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8B3-BDF0-48BE-82B7-C291FD5E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0F83-D157-402D-8532-AC4917D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5DCF-7627-4EA9-8D8A-D7E44D9C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9B7B-1AA1-4DB3-99EA-79F7E11E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BE2D-B2D4-49C1-B338-6BDF5606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C54-9B98-42A3-85AC-F5943D3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1785-F461-4620-90D0-6FA3FE3D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FA8-DA47-4ED5-8EF5-69C7F75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D7FB-9001-480E-A205-164C480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1AEB-7929-429A-AA58-8715DF4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C439-483F-4960-B306-1B89ABAF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B18B-7018-47BB-89F8-60E8FF37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A845-4578-4B3F-8964-5EEF87ED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E3AE-D2BB-4A08-8028-BA3E0C34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861E-5771-4117-B243-60CA26BB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EFA6-3C5E-4DCC-93B5-DCEAE47D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13DC-2414-40C5-8F78-B45DE210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B6D4-0AE4-4117-B922-3E3F0C2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03C-6BC9-477E-AB33-6BC8003B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B187-60BE-4FE0-9446-AFD28161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4470-BDB9-4598-8E09-3C4811D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0AF8-6A48-4C50-8C73-0A1295A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34FB-4DBE-4F32-8312-CC0A130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BCC0-A3D6-49EF-BDB3-8506CB9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704F-5CC5-42A4-AE74-A3CAD716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1BD1-E2CA-4110-9F49-65229C85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581E-D95B-4C91-A7EF-30F76F1A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59AB-C9CE-4B97-9B33-4DB6D33A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D8A3-BA1E-4218-8434-B312319D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449-89E6-43AB-8E6D-DC65981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098F-2C59-4947-80F7-7307A8E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81F7F-41C1-49B3-A241-6F9237F8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05ED-F74F-47C8-A031-8050CF7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96BF-984A-4C52-8DF8-DEBFEB42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C4B32-660A-40FC-BDC6-F9D3BC51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30A3-A8B1-42D1-ABBE-893C9CA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F1CB-9E11-406F-A0E3-3290AFC3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C80A-9BCD-4A34-BBF9-DB384A93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60CB-C90B-47A5-ABAB-7E4BA719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99E1-BEDE-480B-BF6E-56F6F9B7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2DE-DB26-4819-B00F-BC3DCC40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CD0BA-107F-4963-826D-B4BBD4B6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4CA2E-6BC8-4C05-8B5F-D962236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85FD-DDE5-461E-B770-D29C3F1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E26F2-8C60-4A00-958F-1DFDFBA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854CF-E4F1-4BD2-B801-C88AC860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4CF6-40F1-4791-884E-B5471E58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36DA-72EC-44AA-8ED0-BA58888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D2E2-2CCE-4561-BD2C-A79D779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94232-2F86-439F-9116-21BBE3A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AA62-1661-4B90-B575-BED78887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578-134A-45B8-BEEA-B8FF79FE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4636-6D92-4B1E-9A8F-CFCE868D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29F-C33E-4545-AB57-9D86859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0DB-14E9-44D8-9C24-AA3350B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DF7-175B-46AE-B1CF-9EAB1D7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4CA1-BD58-4474-BC9A-0C2836E7EC33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736A-C7AF-4977-B398-31711F1C406D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1649-E300-4007-90AB-5C2D58216233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CFE0-BF78-482D-A0E1-52CCF70E573C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7B4-61F4-492E-BAEB-553FCD16A3AB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втор: Клюев С.В.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Ярославль 2011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324000" y="620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Тема 1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Понятие о финансах и управление им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00400" y="272520"/>
            <a:ext cx="54864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ddea"/>
                </a:solidFill>
                <a:latin typeface="Calibri"/>
              </a:rPr>
              <a:t>Понятие финансов</a:t>
            </a: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 появилось в 13-15 вв. в торговых городах Италии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Позже Ф. стали обозначать отношения между населением и государством 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В процессе первой Буржуазной революции монарх был оттаржен от казны, и возникла система управления притоком денежных средств в казну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66600" y="1768320"/>
            <a:ext cx="2494080" cy="669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Program Files (x86)\Microsoft Office\MEDIA\CAGCAT10\j0234131.wmf"/>
          <p:cNvPicPr/>
          <p:nvPr/>
        </p:nvPicPr>
        <p:blipFill>
          <a:blip r:embed="rId2"/>
          <a:stretch/>
        </p:blipFill>
        <p:spPr>
          <a:xfrm>
            <a:off x="250920" y="249228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1) Финансы существуют между двумя субъектами с разными полномочиями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2) Эти отношения – денежные (материальной основой являются деньги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3) В процессе этих отношений формируются государством денежные фонды и осуществляются расходы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4) Поступление денежных средств в казну является принудительным (Достигалось правовой деятельностью государства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5) Использование ср-в из казны осуществлялось в соответствии с интересами государства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1) денежные отношения, возникающие в процессе распределения и перераспределения стоимости общественного продукта и части национального богатства в связи с формированием денежных  доходов и накоплений у субъектов хозяйствования и государства, а также в связи с использованием их на расширенное воспроизводство, материальное стимулирование работников, социальные и другие потребности общества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2) совокупность всех денежных ср-в, используемых в гос-ве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денежный характер (натуральные отношения НЕ относятся к финансам)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ы связаны с получением доходов и накоплений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распределительный характер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В финансах всегда есть движение денежных средств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403" name="Picture 2" descr="C:\Program Files (x86)\Microsoft Office\MEDIA\CAGCAT10\j0293844.wmf"/>
          <p:cNvPicPr/>
          <p:nvPr/>
        </p:nvPicPr>
        <p:blipFill>
          <a:blip r:embed="rId2"/>
          <a:stretch/>
        </p:blipFill>
        <p:spPr>
          <a:xfrm>
            <a:off x="6948360" y="2781360"/>
            <a:ext cx="17384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1) Распределительная (распределение национального дохода)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2) контрольная — контроль за распределением ВВП по соответствующим фондам и расходованием их по целевому назначению.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3) Стимулирующая - Использование распределенного дохода либо для расширения производства, либо для накоплений и соц. потребностей. 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Рычаги: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Бюджет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Це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Налоги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Экспортные и импортные пошли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4) Воспроизводственн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5) Регулирующ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1:35Z</dcterms:modified>
  <cp:revision>5</cp:revision>
  <dc:subject/>
  <dc:title>Сущность и функции финансов</dc:title>
</cp:coreProperties>
</file>