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B876-AB49-4C68-A737-0BC1D88A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FB8D-A7BB-44E6-AE57-ACC9224E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F33801-3B2D-4E41-8772-78FE2C6F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93ED6E-F5BA-4AD5-A66A-D5D68738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3EE52-BEC6-451E-B0A9-165C3AFC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A999D-5BB7-4267-95FD-F1B8BF3E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75502F-4C9B-4984-BDE5-37F224D8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96641A-E51C-4D3D-B168-3F91E9E5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37072-B1D9-48ED-9E7E-7DF69B8EB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60ADF-12C4-4E3F-AB1C-6075AEF4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ECBE1-E3E2-42E6-8C52-0C0A7E65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9873-19E9-436D-96CF-845BCF62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4808-0645-48D6-A370-5EBEBAF21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AFB2B-D60C-4407-AB4B-CCD358CE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3E181-CD56-4897-AD89-1DC55711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BD47A-602B-44D6-90CD-3CFE9981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610E-47A4-44B1-9A3D-18C4A549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97A5-6917-4D14-8A80-7AAEB0AB0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B1EF-4E22-473B-BFCE-917E73AC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A147-0DFB-426B-8E77-464B8384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58D3-30A9-46FD-95B0-1A1CDAAC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CC93-CC48-4762-8C98-706A993B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9B75-EF69-4253-8B5F-5CAE7E601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E068-E56C-4DC1-A789-206A83D8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76BF-A5A3-4F3C-934B-9D470B07F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3B23-19E3-486D-89D0-052D4D38F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1E164-04B8-4BB7-96CB-9E59D5AE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D25BB-F62D-417D-8DE5-6D6A4385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BD245-5886-4D92-A0CF-448CDF85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BF76F-0530-4944-8BAF-089A9E607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A5D82-06DB-446C-B2D1-76C53318D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3D3-4704-4414-876B-D3631577D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28262-FCAD-4AFF-B447-D11C709EF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CA0EE-1220-4CB4-8E8C-6BC1F3F2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C57F6-EC33-4E78-9442-03CA51BD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6F62A-2105-46DA-8EEB-1E31F3F5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E3A81-9DBB-46A4-AE2F-C291500A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8A69F-EC64-4600-BDBF-0BA3FF72D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37413-6A0E-4880-9A9F-BBE5301FD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2CE43-CF04-44A1-B2B2-D4DCD68C5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45466-80AB-46E4-B8F4-F66F36F61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B1480-77FC-496D-8F07-DD101DA1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728C-A262-4529-A19F-CC09CF45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803EF-50A1-4081-8AF4-0882EDCA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3E7C7-6252-4773-976B-73069019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362D3-70AD-4373-9164-F2D87D27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702654-A42C-412A-A54E-A51F045D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962D-E57B-4F59-AAE1-B18DAB6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CC1BD-5E23-4BD8-8435-2C13B6F9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F997D-76A1-43F0-92E7-DDB5C0E56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E97F4D-B96A-4439-BE8C-94BFEBEC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06795-6DF3-4E72-9B54-9CC401A9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E2EEE-08EA-4F20-83FB-ED7D8B96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CCC-D35C-4A03-BE10-709ECB5C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49AF5-53A3-4EDE-91D3-4B52D400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5776E-20A4-4F17-8341-73D45C2E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C3FED-5EFE-4CFB-80A7-177E9F63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1D16-82F2-4923-BCCA-02D96248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D21BB-1F78-40A9-9DF7-12996E72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F2746-C694-4E14-88A1-DB4E718E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B568A-5B2B-4C54-8FBC-14ACA200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39DDD9-A986-4D33-8C54-27007E22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CAC75-BCF9-46AD-898D-6BCC02AD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89018-015F-42D4-A463-B5365F16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826F-9E2C-4008-A24E-2FF6D25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EF765-2349-4F54-951F-7B0FA028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66525-1BA8-4552-B590-EFEF5CA3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F70DD-D01A-44F3-963F-E9D81CD1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041CE-7216-4D12-82B6-D3474AF0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ADB1A-848F-4547-8E3A-AF5DE6EE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BDC20-A9E9-4667-8EC9-0F0965C0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A0B85-8230-4874-B9E7-CF7DC30E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7BB70-9870-4F96-802D-A8ED958A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F0273-129C-44C8-A8A2-AB5A713E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9A1B7-1653-4D6A-8922-BDA7754B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0FD3-9374-411F-80F5-8AAD3EFE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4C79B-E965-4171-82AF-D33014B6F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F1318-9222-4267-9D90-18BBBDEE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04870-FA79-4902-8E86-9FD6BF736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A0249-ED49-42A2-978C-F4F30290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0FBF1-8E9E-4B2D-BBB8-0AC0EB5E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66483-FA20-4FB9-8EB6-F6E3B377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4F71-4CA9-4093-9B03-A5610377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D541E-4AD9-45BF-84EA-E9111E54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F7B78E-6CC5-4BEF-BF9E-9212ADA81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1BFA1-FC58-4188-88F0-9BCF676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EECB-C1D3-453F-AA65-72EA22CF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A7281-0B29-4447-BF9D-E20B0D36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57474-9393-4DAD-81E2-6C161FD5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BCE78-BF67-414F-B8BF-726B77F6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BE8B7-1016-488E-915B-02DDD9BAD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F3DF6-7E8C-443A-8B2C-895B95528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F2A01-155A-42E8-8988-8F11F595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AEB23-BC26-448A-9EFC-5935E06E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2C0AB-28EE-4F7B-980E-373BBA89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AD7A6-77A4-4627-BA40-8450BB0D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9A3421-4D9E-481E-85B4-12982428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1650-9B2F-473A-8B02-D5CB8940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99062-1F6D-4A0F-87F0-CD8657FD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5A142-E861-43CC-811B-37FC32C3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E24F7-E030-4CF8-86E3-4316A6AF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A7873-DBC4-4B87-9A6C-8B5D59F7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8AAE4-1BE8-43B4-9646-4B1F57C29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E5B48-2DB1-4F8B-941C-7DE0D59CA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64D87-E0E1-4C10-981F-53BAE0997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2B9BB9-FA75-434D-AA78-176401A7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66DC65-296F-419C-A0F7-85E2AE94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41135-BBA0-47F7-94C0-B7BB4999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AF40-F5AA-4919-B731-08E18A47A9D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7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D86E-F445-425F-912C-72BF96AE8AB5}" type="slidenum">
              <a:rPr b="0" lang="ru-RU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11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Straight Connector 13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Straight Connector 14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363A-793B-4325-BAE9-007847CC7662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Picture 11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Straight Connector 9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Straight Connector 10"/>
            <p:cNvSpPr/>
            <p:nvPr/>
          </p:nvSpPr>
          <p:spPr>
            <a:xfrm flipH="1" flipV="1">
              <a:off x="4831920" y="34340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37F6-C947-4C50-BA2E-E12100A245E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Group 12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4CC1-E672-4ED7-AB2B-848516BAEB9A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5" name="Group 13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Straight Connector 16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Straight Connector 17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20F5-13C7-4C52-BD81-2D08B7890913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3" name="Group 9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Straight Connector 14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Straight Connector 15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3FD0-4410-4852-A4BC-D9B9552A710E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1" name="Group 10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Straight Connector 15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Straight Connector 16"/>
            <p:cNvSpPr/>
            <p:nvPr/>
          </p:nvSpPr>
          <p:spPr>
            <a:xfrm flipH="1" flipV="1">
              <a:off x="4831920" y="193392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B3F1-BCF5-4C44-8BCB-3ABECF45C8FA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Straight Connector 12"/>
            <p:cNvSpPr/>
            <p:nvPr/>
          </p:nvSpPr>
          <p:spPr>
            <a:xfrm flipV="1">
              <a:off x="6565680" y="601560"/>
              <a:ext cx="216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Straight Connector 13"/>
            <p:cNvSpPr/>
            <p:nvPr/>
          </p:nvSpPr>
          <p:spPr>
            <a:xfrm flipV="1">
              <a:off x="6563520" y="3613680"/>
              <a:ext cx="1440" cy="246960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211B-2BE9-4B23-B45E-A18D27659BAC}" type="slidenum">
              <a:rPr b="0" lang="ru-RU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Заголовок 1" descr=""/>
          <p:cNvPicPr/>
          <p:nvPr/>
        </p:nvPicPr>
        <p:blipFill>
          <a:blip r:embed="rId1"/>
          <a:stretch/>
        </p:blipFill>
        <p:spPr>
          <a:xfrm>
            <a:off x="1189080" y="133200"/>
            <a:ext cx="6778440" cy="34815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3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3.3 Государственный долг, его показатели  и управление им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дзаголовок 2"/>
          <p:cNvSpPr/>
          <p:nvPr/>
        </p:nvSpPr>
        <p:spPr>
          <a:xfrm>
            <a:off x="1523880" y="5013360"/>
            <a:ext cx="6400800" cy="13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люев С.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Ярославль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вся сумма выпущенных и непогашенных долговых обязательств государства, включая начисление процентов, которые должны быть выплачены по этим обязательствам.</a:t>
            </a: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95d1d"/>
                </a:solidFill>
                <a:latin typeface="Times New Roman"/>
              </a:rPr>
              <a:t>Государственный долг-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1. – основной (вся сумма задолжностей, срок уплаты по которым еще не наступил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текущий (расходы по выплате процентов и погашению обязательств, срок оплаты по которым наступил)</a:t>
            </a: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lvl="1" marL="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2. – Внешний (обязательства, возникшие в валюте иностранного государства)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lvl="1" marL="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– </a:t>
            </a:r>
            <a:r>
              <a:rPr b="0" lang="ru-RU" sz="2200" spc="-1" strike="noStrike">
                <a:solidFill>
                  <a:srgbClr val="262626"/>
                </a:solidFill>
                <a:latin typeface="Times New Roman"/>
              </a:rPr>
              <a:t>Внутренний (обязательства, возникшие в национальной валюте)</a:t>
            </a:r>
            <a:endParaRPr b="0" lang="en-US" sz="22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56560" cy="105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95d1d"/>
                </a:solidFill>
                <a:latin typeface="Times New Roman"/>
              </a:rPr>
              <a:t>Государственный долг подразделяется на: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служат активы, находящиеся в распоряжении Правительства. РФ не несет ответственности по тем долгам, которые не были ею гарантированы. Величина ГД свидетельствует о Финансовом положении страны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895d1d"/>
                </a:solidFill>
                <a:latin typeface="Times New Roman"/>
              </a:rPr>
              <a:t>Обеспечением ГД РФ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90480" y="1204560"/>
            <a:ext cx="7755120" cy="114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895d1d"/>
                </a:solidFill>
                <a:latin typeface="Times New Roman"/>
              </a:rPr>
              <a:t>Показатели ГД</a:t>
            </a:r>
            <a:endParaRPr b="0" lang="en-US" sz="5400" spc="-1" strike="noStrike">
              <a:solidFill>
                <a:srgbClr val="895d1d"/>
              </a:solidFill>
              <a:latin typeface="Times New Roman"/>
            </a:endParaRPr>
          </a:p>
        </p:txBody>
      </p:sp>
      <p:pic>
        <p:nvPicPr>
          <p:cNvPr id="434" name="Picture 2" descr=""/>
          <p:cNvPicPr/>
          <p:nvPr/>
        </p:nvPicPr>
        <p:blipFill>
          <a:blip r:embed="rId1"/>
          <a:stretch/>
        </p:blipFill>
        <p:spPr>
          <a:xfrm>
            <a:off x="468360" y="3738600"/>
            <a:ext cx="82803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Times New Roman"/>
              </a:rPr>
              <a:t>совокупность мероприятий связанная с установлением предельных ежегодных значений гос.долга, погашением задолжностей и выплатой процентов, с изменением условий выпущенных займов, с определением условий и выпуском новых займов, снижением стоимости обслуживания гос.долга, с осуществлением контроля за заимствованиями субъектов.</a:t>
            </a: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95d1d"/>
                </a:solidFill>
                <a:latin typeface="Times New Roman"/>
              </a:rPr>
              <a:t>Управление государственным долгом -</a:t>
            </a:r>
            <a:endParaRPr b="0" lang="en-US" sz="48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23640" y="2060640"/>
            <a:ext cx="8569080" cy="48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1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. Установление ежегодных значений производится с графиком платежей, предельные значения устанавливает бюджет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2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Если страна испытывает финансовые, бюджетные трудности, то она может прибегнуть к рефинансированию и реструктуризации ГД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Рефинансирование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погашение старой задолжности путем выпуска нового займа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Реструктуризац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погашение долговых обязательств с одновременным заимствованием в объемах погашаемых долговых обязательств, с установлением иных условий обслуживания долга и сроков погашения ГД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3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Изменение условий выпущенных займов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Конверс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изменение доходности займа (% ставки)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Консолидац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изменение срока действия выпущенного займа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 u="sng">
                <a:solidFill>
                  <a:srgbClr val="262626"/>
                </a:solidFill>
                <a:uFillTx/>
                <a:latin typeface="Times New Roman"/>
              </a:rPr>
              <a:t>Унификация ГД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- объединение нескольких займов в один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Отсрочка погашения займа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lvl="1" marL="77616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Аннулирование ГД 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3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Определение условий выпуска новых займов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  <a:p>
            <a:pPr marL="365040" indent="-365040">
              <a:spcBef>
                <a:spcPts val="374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62626"/>
                </a:solidFill>
                <a:latin typeface="Times New Roman"/>
              </a:rPr>
              <a:t>4. </a:t>
            </a:r>
            <a:r>
              <a:rPr b="0" lang="ru-RU" sz="1500" spc="-1" strike="noStrike">
                <a:solidFill>
                  <a:srgbClr val="262626"/>
                </a:solidFill>
                <a:latin typeface="Times New Roman"/>
              </a:rPr>
              <a:t>Контроль за заимствованием.</a:t>
            </a:r>
            <a:endParaRPr b="0" lang="en-US" sz="1500" spc="-1" strike="noStrike">
              <a:solidFill>
                <a:srgbClr val="262626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77547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5d1d"/>
                </a:solidFill>
                <a:latin typeface="Times New Roman"/>
              </a:rPr>
              <a:t>Управление государственным долгом включает:</a:t>
            </a:r>
            <a:endParaRPr b="0" lang="en-US" sz="4000" spc="-1" strike="noStrike">
              <a:solidFill>
                <a:srgbClr val="895d1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Заголовок 1" descr=""/>
          <p:cNvPicPr/>
          <p:nvPr/>
        </p:nvPicPr>
        <p:blipFill>
          <a:blip r:embed="rId1"/>
          <a:stretch/>
        </p:blipFill>
        <p:spPr>
          <a:xfrm>
            <a:off x="890640" y="1390680"/>
            <a:ext cx="7351560" cy="211464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" descr="C:\Program Files (x86)\Microsoft Office\MEDIA\CAGCAT10\j0217698.wmf"/>
          <p:cNvPicPr/>
          <p:nvPr/>
        </p:nvPicPr>
        <p:blipFill>
          <a:blip r:embed="rId2"/>
          <a:stretch/>
        </p:blipFill>
        <p:spPr>
          <a:xfrm>
            <a:off x="3348000" y="3860640"/>
            <a:ext cx="24670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10:38:04Z</dcterms:modified>
  <cp:revision>14</cp:revision>
  <dc:subject/>
  <dc:title>Бюджетная система Российской Федерации </dc:title>
</cp:coreProperties>
</file>