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4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5B5E-8A21-44A7-83C8-46EA14794CC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3D14-1A2A-480F-A3C2-CEF11E7FA6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C785-8B74-4AA2-91C7-930C8AAB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DA98-01AF-434C-A3FE-C0E2A69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43AD-D30B-4F80-88C1-C3F733FD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603-B364-4059-B9C2-359EE67E0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8DC3D-5DE4-4771-9A5A-69AA729F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98C25-B207-4602-B225-A1298C4B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8FD3-B0FB-4123-94B7-89C96376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D159-4D75-44B4-964B-C1412D1E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ED835-C1B4-4A9B-943F-26E626BA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3919-7823-4E79-B94C-2057631F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D7F8-EE7D-4C53-875B-BEFABB579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1E7-28A4-49F1-BE79-25325F8C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D250-5A26-491F-B3D8-A25AFD19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59F1-A5F3-454B-B728-FB53EC33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E8E9B-37C7-4EEE-A8A5-9AF1CB52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7B709-E5B3-464C-8D65-F3B4DAF7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3EDD8-5CE8-463A-AD7C-FE0E511A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E18D0-8660-4C8D-AC35-4B9638A7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9438-1493-4B96-92C5-6B46AEB2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220C8-5CE1-48E6-A206-17971972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444A3-081B-402F-8CA9-095F8815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2F67D-B3E0-45DC-B71D-AC0A4832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B360-D008-4344-BB54-F819A4E2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CA06-5A06-4CEE-B856-F11DFFDE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22027-8C56-4EA3-9CB5-70001AAB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FC45C-1B8C-4AB8-8C04-0193B4FD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32382-4213-45E8-8E39-09177F85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60D7-8541-47C2-BC69-8D79E934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73AF7-DA5A-4307-9CE6-4B34FF4AC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AD33E-08AA-4C55-BC9C-0436E694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5202-B4F5-44BB-8514-41B08DED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855A6-7CE1-4F2B-8376-4ED4AA4C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A82B0-F95A-4A56-8216-920478F97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E2318-7F23-485D-A8E6-09B32D00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2A8DB-25C0-4D0E-8F40-10F95935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3EDBE-D702-4DBB-875A-5CA54118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D4DF7E-C8E0-4227-8A20-12783126F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F85A7-DD0A-4B9E-AD99-C0CA2764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80939-629D-4982-AD9A-0B539ACB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1677E-A70B-49DE-B02A-335CB038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536FF-0E2D-40CE-8E34-CF218C4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97E14-A29B-4937-A354-44F1C54BF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5E27-FE2C-4B41-8EA3-FDCCF30E3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C42AB-BD97-4D60-B6E3-5EE5A6C3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8976-4B50-4F68-807C-C6689656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4DDF5-7837-4A15-BB25-9B674E58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B43DF-CF59-4798-8D6E-A348EBE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C1408-332F-459B-984F-853C94C0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4D335-F76C-4458-9B38-7EA10D99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8F95-AE8F-4744-9381-A889AD9D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34387-CC1B-492C-9B82-84287764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AD3F-AF07-4219-BAA3-40F8AE3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2A26C-4CF2-4788-8795-16F6A07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A7AB8-E14D-4E10-BE81-4C0CBF7D9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1C79-4AE9-4720-AB04-4C2AF4E2A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D96-5872-49E3-A4AB-01C4A479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A0F86-266E-4D20-BA51-648370F7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1A858-DC8C-4EEF-B537-28FDB288F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E45AD-11E1-4EF5-B91E-74077868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34F3A-EDC8-4874-A5C6-496E98FE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89CAA-1717-4F5C-8C67-DC93BEC2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CB71C-F631-4A39-BD98-2EBF8DEA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99C668-ECC2-44F1-920B-9155B148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DF127-7AFA-438F-865B-9E1BA1E6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E1271-C39A-4E37-B4BF-48DFB664A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9EC48-72B1-4BB9-9B12-9C63DBA94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E36C-4938-46E4-872B-A49A5340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4642-6786-49AB-9AC8-814C66F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9CE9-0D90-41AA-815A-15652293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A3C41-0F70-4262-BD97-065B7F76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70DB8-0AF0-4396-9CAA-90B13E727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6A488-CB8E-4F81-82B0-FA0A0353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AAD0D-5FFF-4EED-8E19-578F539E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16550-C836-49FC-8237-D0ABE3F4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F44CE-A487-4FD9-984C-496BB104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5D33-1430-4049-8C95-DFBE22F2C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A7F38-45A9-412C-8C27-A64B66FD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BDC-388B-40FC-97DE-A893598B8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BE1DA-6E5B-4DA4-991C-FAA328A3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E18A7-681B-4D0B-A580-BA367FBF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C77F9C-D902-4CEA-9E1C-0E20C3AE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10207-8A68-474F-9D6C-FA8ECD86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FBBB9-1288-4E1D-9863-7A2D694D4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F6FF5-436E-4DE0-A96D-88C62E34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39AD-F32C-44D9-A5FA-5E648A2F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CDF80-8865-4A68-874C-6491BCD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5ADC4-8840-4210-ABAD-2CE0C313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BDB5D-063D-400E-894F-4A5E5413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74B-3A46-44CE-9FEC-004569C8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42830-BBD5-42A6-8CB5-1D726C9D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B807F-A5B3-47FD-9D75-18F905C5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521CB-1AEB-4248-88B8-B9FE458D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1B5C8-3DE1-4BBC-977E-ACE5E2B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C8764-67A6-4B09-83CD-604C2687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DB8CC-17DA-4EE3-83DB-805EDCE5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E2886-52A3-4334-89B6-A401C74F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802E-99BA-4302-A800-3E91C98577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d004e"/>
              </a:gs>
              <a:gs pos="50000">
                <a:srgbClr val="ff4192"/>
              </a:gs>
              <a:gs pos="100000">
                <a:srgbClr val="cd004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ff9eb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8CE1-CD7D-4362-BF27-856ABEA3208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C5A15-7559-4C29-979C-DB9FE3B1DCB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AEB0-618B-4E17-8CC2-8C9AAB06280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509C-EABF-4E25-AB27-31F55CF1DC6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623-BBF9-40FF-882A-51E69331A87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6666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66666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9A29-4151-45C4-BDE3-3F3FED211EE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ff9eb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e0166b"/>
              </a:gs>
              <a:gs pos="100000">
                <a:srgbClr val="ff7aa9"/>
              </a:gs>
            </a:gsLst>
            <a:lin ang="16200000"/>
          </a:gradFill>
          <a:ln cap="rnd" w="3240">
            <a:solidFill>
              <a:srgbClr val="bc2665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2d2d2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2d2d2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400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CECDE-6694-4243-B95C-8257E4F9CED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" Target="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772400" cy="2620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666666"/>
                </a:solidFill>
                <a:latin typeface="Lucida Sans Unicode"/>
              </a:rPr>
              <a:t>3.2 Государственный кредит, его сущность, классификация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Подзаголовок 2"/>
          <p:cNvSpPr/>
          <p:nvPr/>
        </p:nvSpPr>
        <p:spPr>
          <a:xfrm>
            <a:off x="858960" y="3664080"/>
            <a:ext cx="77724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6666"/>
                </a:solidFill>
                <a:latin typeface="Lucida Sans Unicode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енежные отношения между государством и физическими и юридическими лицами, связанные с мобилизацией временно свободных денежных средств и использованием их для выполнения функций государств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о выступает в лице кредитора, заемщика, гаран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связан с движением бюджетных ср-в, следовательно является частью Финансовой системы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огашается за счет бюджетных ср-в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– отношения вторичного распределени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доброволе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осударственный кредит присущи возвратность, срочность, платность, обеспеченность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6836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1. Внутренний ГК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a) Гос. займ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b) Обращение части вкладов населением в гос.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c) Заимствование ср-в общегосударственного ссудного фонда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d) Казначейские ссуды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e) Гарантированные займ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Lucida Sans Unicode"/>
              </a:rPr>
              <a:t>2. Внешний ГК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2600" spc="-1" strike="noStrike">
                <a:solidFill>
                  <a:srgbClr val="000000"/>
                </a:solidFill>
                <a:latin typeface="Lucida Sans Unicode"/>
              </a:rPr>
              <a:t>совокупность отношений, с которыми Г. выступает на мировом рынке как заемщик или кредитор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нешний ГК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1) – в денежной форме (валюта страны кредитора, заемщика, третьей страны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 товарной форме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) – долгосрочны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08040" indent="-223920">
              <a:lnSpc>
                <a:spcPct val="80000"/>
              </a:lnSpc>
              <a:spcBef>
                <a:spcPts val="326"/>
              </a:spcBef>
              <a:buClr>
                <a:srgbClr val="ff388c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− 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краткосрочный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ff388c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454960" cy="1614600"/>
          </a:xfrm>
          <a:prstGeom prst="rect">
            <a:avLst/>
          </a:prstGeom>
          <a:ln w="0">
            <a:noFill/>
          </a:ln>
        </p:spPr>
      </p:pic>
      <p:sp>
        <p:nvSpPr>
          <p:cNvPr id="386" name="Выноска-облако 3">
            <a:hlinkClick r:id="" action="ppaction://hlinkshowjump?jump=nextslide"/>
          </p:cNvPr>
          <p:cNvSpPr/>
          <p:nvPr/>
        </p:nvSpPr>
        <p:spPr>
          <a:xfrm>
            <a:off x="6012000" y="2565360"/>
            <a:ext cx="2447640" cy="1044720"/>
          </a:xfrm>
          <a:prstGeom prst="cloudCallout">
            <a:avLst>
              <a:gd name="adj1" fmla="val -103087"/>
              <a:gd name="adj2" fmla="val 17273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Государственные зай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Стрелка вправо 5">
            <a:hlinkClick r:id="rId2" action="ppaction://hlinksldjump"/>
          </p:cNvPr>
          <p:cNvSpPr/>
          <p:nvPr/>
        </p:nvSpPr>
        <p:spPr>
          <a:xfrm>
            <a:off x="5364000" y="5516640"/>
            <a:ext cx="2016360" cy="865080"/>
          </a:xfrm>
          <a:prstGeom prst="rightArrow">
            <a:avLst>
              <a:gd name="adj1" fmla="val 50000"/>
              <a:gd name="adj2" fmla="val 49951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Lucida Sans Unicode"/>
              </a:rPr>
              <a:t>продолж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469800" y="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8691480" cy="5007240"/>
          </a:xfrm>
          <a:prstGeom prst="rect">
            <a:avLst/>
          </a:prstGeom>
          <a:ln w="0">
            <a:noFill/>
          </a:ln>
        </p:spPr>
      </p:pic>
      <p:sp>
        <p:nvSpPr>
          <p:cNvPr id="390" name="Стрелка влево 4"/>
          <p:cNvSpPr/>
          <p:nvPr/>
        </p:nvSpPr>
        <p:spPr>
          <a:xfrm>
            <a:off x="5508720" y="5084640"/>
            <a:ext cx="3311280" cy="1513080"/>
          </a:xfrm>
          <a:prstGeom prst="leftArrow">
            <a:avLst>
              <a:gd name="adj1" fmla="val 50000"/>
              <a:gd name="adj2" fmla="val 49949"/>
            </a:avLst>
          </a:prstGeom>
          <a:solidFill>
            <a:srgbClr val="ff388c"/>
          </a:solidFill>
          <a:ln w="5508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17bbfd"/>
                </a:solidFill>
                <a:uFillTx/>
                <a:latin typeface="Lucida Sans Unicode"/>
                <a:hlinkClick r:id="rId3" action="ppaction://hlinksldjump"/>
              </a:rPr>
              <a:t>Вернуться к формам гос. креди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Заголовок 2" descr=""/>
          <p:cNvPicPr/>
          <p:nvPr/>
        </p:nvPicPr>
        <p:blipFill>
          <a:blip r:embed="rId1"/>
          <a:stretch/>
        </p:blipFill>
        <p:spPr>
          <a:xfrm>
            <a:off x="457200" y="66600"/>
            <a:ext cx="8229600" cy="18590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C:\Program Files (x86)\Microsoft Office\MEDIA\CAGCAT10\j0284916.jpg"/>
          <p:cNvPicPr/>
          <p:nvPr/>
        </p:nvPicPr>
        <p:blipFill>
          <a:blip r:embed="rId2"/>
          <a:stretch/>
        </p:blipFill>
        <p:spPr>
          <a:xfrm>
            <a:off x="1835280" y="1757520"/>
            <a:ext cx="583236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13:14Z</dcterms:modified>
  <cp:revision>19</cp:revision>
  <dc:subject/>
  <dc:title>Сущность и функции финансов</dc:title>
</cp:coreProperties>
</file>