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7390E-6AC6-44E1-B362-73B03E91DA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7D4E-3047-4B84-85F8-0001286B9CC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257-9B14-4474-873F-CAA55FA2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1C35-DB6C-4801-9543-C62C428E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F809-746E-41B5-85B0-B8526F6F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04B-8318-46A0-93E1-0F0137EF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3974-A181-42B2-BD8E-38C40D73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BA8D-F337-4C31-AA6F-2F7A310E4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72F6-E360-4B91-998D-4E1D1CAA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4911-9C2D-4E0B-BC5F-A1287706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1CDE-A1E9-4D71-809C-DB6D778B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79B0-98D3-4008-9F5D-FAC5C23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B95B-9B63-493A-931A-0B29948B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12E8-6065-46E9-A622-FBDA9535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B49F-1805-4AED-9DBA-8F3A7FE2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E5FD0-0F29-4EE1-9BBC-266B3728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B18B9-054B-45EF-9D58-0E178D57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78B56-D4EB-4467-89DF-717E8914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AD75-2234-4693-9715-24273555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FC05A-E3C0-41CF-AF11-F6D9C1A5F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168A7D-8871-4A6F-94DF-51E0A24F7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0FCCFE-D2FA-4D76-8DFA-2020010A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A8BF87-1B25-40A1-9647-849EDE7C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385A23-8D76-4DF3-A669-D0A1C7D4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A3D7-5F66-4126-A701-43D12872F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0D953-B24C-45D8-88A6-C60A956C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82FB9-3D63-41C6-AAF6-B88C6E22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5D0C21-C277-48E6-9D56-C3775F41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A7358-DAE1-455C-AA64-386BDF5F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FA1C4-7BE1-4AB9-8573-A9D1541E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10289-32AB-4C7D-9F9E-B1D4CA3E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EC6446-4492-49C2-AA14-933E7C7C3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11F22-9284-42AF-949E-63E001CBC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7505F-D714-44A2-A284-5D07DD638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B4F0F-CA5A-46D2-9F33-41CD13A4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7AC4-E98D-4468-A850-497883D2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69699-A95E-42C7-8126-D8B1C033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B0825-7350-4CC9-8154-E72F9C59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E52D1-E5D1-452D-8C5A-FB12E2C2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44E3B-FBF9-40F7-AADD-12325C3D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98647-CBDD-4A1F-9328-93F8350B3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B1682-ED64-4631-B2FA-9BF58CA7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13423-565B-4B3A-9937-98170A34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874CC-4942-4EAF-8DE4-4A18E823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689C-6378-4758-97EA-AE1C2A0F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0DF2F-23BC-4E40-A225-36A961E83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F5D3-4A5F-4073-8DB6-D2512AA2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08C7A-E865-485F-A056-DBF25E02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C619A-2325-4B08-9B79-80269B7F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45C87-E94B-45C7-88EB-3CC73D6B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4A8A2-ED70-4D25-9179-82503209D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F35959-9C2C-4E9D-A11E-2937F426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B6A49-B63E-42B6-8D6A-32587F16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2F9465-E824-45F4-A13D-3F7A2E11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742E82-D92E-42FA-B103-4591EBC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6095A5-0FA4-42E6-9AC9-5596E519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5A00F-CB10-482B-9CB6-B7B24DF61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A88-943F-4A47-8520-71CBAB14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A4CDAC-1C7B-48FA-9DE1-07811361B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BF6BB-9AC5-4CC4-A42A-9CED7EDB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540631-369B-48F7-9C8C-08FE00E7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E100FE-2D12-44A4-8E8D-5DB8C28A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4191EB-135B-48B5-85DE-B2432EA5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632370-46C1-49CC-B310-065A38A3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8F8EF9-258B-43F8-BE0C-8C127A13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F912D-1C82-464B-A2B4-B9B9E214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ED6F2F-363B-48DA-B997-065ABB0E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77327-3823-4CB5-BFD8-F7F3759B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448B-EC4F-4CE1-9976-277375E7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A7D373-4453-40CB-B59C-40638153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A9130B-2AF6-41F8-B14D-7C587822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D6C4B8-4CD9-4969-821C-620F8142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BDDD34-E1D1-4CFF-99DA-3E83D30B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A445A9-8C65-42FE-9E89-149AD7B3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A50BA7-07DC-4F4C-84F6-D7FB5424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A4D5DB-12FA-4B94-B16F-9C5EFD573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A82025-6F0A-45C4-9A72-A59E931D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365D5F-82D2-4EA4-967C-37D425CF0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67FD5C-AA46-48A3-9909-D8B14860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055-994A-49EF-A3C5-2E23DD80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97992F-4806-4E65-AEE5-0A424141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56316A-0F91-4DF0-B526-6DB66AE3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F5275-8DBB-4C0E-BC49-795D0FFB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4089C3-51BE-4819-8FB0-9D8BF9F4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75D49E-13EB-4ADB-8A6F-C695B7BBB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ECED-0835-4599-BC58-CF9CC52E0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D56D-186F-4A63-84F1-51FD97ABB7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B4FD5-D004-4860-9EC0-41AF1A9A4EE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CC71-2E91-45AA-ACC6-EDD09EF517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5e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da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edfcc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edfc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f0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dac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f0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dac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dac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ddea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ccddea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cdd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dde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2FBA-8EA7-4154-951F-5F233A93B89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4D34-83F7-472E-A6C0-53AFD15250F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0615-169F-4063-A534-35EE8825D1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da0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d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da0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65e9c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da023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df8c1d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dac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d2aca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5FA3-056C-4183-91C0-8C47F3B009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2276640"/>
            <a:ext cx="61722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5e9c"/>
                </a:solidFill>
                <a:latin typeface="Century Schoolbook"/>
              </a:rPr>
              <a:t>3.1 СУЩНОСТЬ И СТРУКТУРА ГФ,  ГОСУДАРСТВЕННЫЕ ДОХОДЫ И РАСХОДЫ</a:t>
            </a:r>
            <a:endParaRPr b="0" lang="en-US" sz="32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Автор: Клюев С.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65e9c"/>
                </a:solidFill>
                <a:latin typeface="Century Schoolbook"/>
              </a:rPr>
              <a:t>Ярославль 2011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1884240" y="476280"/>
            <a:ext cx="61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Тема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Государственные Финансы,  государственный кредит и долг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Г. РАСХОДЫ</a:t>
            </a:r>
            <a:r>
              <a:rPr b="0" lang="ru-RU" sz="3000" spc="-1" strike="noStrike">
                <a:solidFill>
                  <a:srgbClr val="465e9c"/>
                </a:solidFill>
                <a:latin typeface="Century Schoolbook"/>
              </a:rPr>
              <a:t> –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599840"/>
            <a:ext cx="7467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денежные отношения, связанные с использованием Финансовых ресурсов государства на различные его потребн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Фин. ресурсы, используемые государством для выполнения его функц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108000" y="3645000"/>
            <a:ext cx="868824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6840" y="333000"/>
            <a:ext cx="7467480" cy="61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Формы расходов совершенствуютс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арактер расходов и их структура непосредственно связаны с выполнением государством функциями и экон. возможностям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экономическ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социаль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) управленческ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4) оборонны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5) другие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ходы всех видов образуют систему гос. расходов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ОСНОВНЫЕ ПРИНЦИПЫ РАСХОДОВАНИЯ СР-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Целевая направленность средств (устанавливаются государством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Безвозвратность расходования средств (исключение – Гос. креди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Соблюдение режима экономии (должна быть разработана система мер и форм оптимизации затрат, которые ориентируются на рациональное использование затра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465e9c"/>
                </a:solidFill>
                <a:latin typeface="Century Schoolbook"/>
              </a:rPr>
              <a:t>ФОРМЫ ОСУЩЕСТВЛЕНИЯ ГОС. РАСХОД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амофинансирование (используется для покрытия расходов Гос. предприятиями путем использования собственных средст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юджетное финансирование (применяется для обеспечения затрат, имеющих общегосударственное значение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Кредитное обеспечение (применяется и Гос. предприятиями и Гос. структурами разных уровней управления и осуществляется в основном путем заимствования Ф. ресурсов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ГОСУДАРСТВЕННЫЕ ФИНАНСЫ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енные финансы – денежные отношения в процессе распределения и перераспределения стоимости общественного продукта и части нац. богатства в связи с формированием финансовых ресурсов у государства и его предприятий, а также использованием их на развитие производства и т.д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Задача ГФ – обеспечение государства денежными средствами для решения эконом., полит. и соц. задач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СУБЪЕКТЫ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Гос-во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Учреждения и предприяти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Население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СТРУКТУРА ГОСУДАРСТВЕННЫХ ФИНАНС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1) Гос. бюдже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2) Гос. кредит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Schoolbook"/>
              </a:rPr>
              <a:t>3) внебюджетные фонды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700" spc="-1" strike="noStrike">
                <a:solidFill>
                  <a:srgbClr val="465e9c"/>
                </a:solidFill>
                <a:latin typeface="Century Schoolbook"/>
              </a:rPr>
              <a:t>ГОС. БЮДЖЕТ </a:t>
            </a:r>
            <a:endParaRPr b="0" lang="en-US" sz="27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78920" y="765000"/>
            <a:ext cx="8280360" cy="570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едставляет собой форму образования и использования централизованного денежного фонда для обеспечения деятельности государств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Федеральный бюджет (решает задачи в границах Федерации: целевые программы; различные отрасли народного хозяйства; правопорядок; межд. деятельность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Региональный бюджет (решает задачи регионов, республик: Финансы образования; организации здравоохранения; охрана внутренней безопасности правопорядка, окружающей среды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Местный бюджет (решает задачи местного хоз-ва: создание инфраструктуры территории; подготовка трудовых кадров; решение задач коммунально-бытового характер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Гос. кредит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является заемщиком временно свободных денежных средств физических и юридических лиц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entury Schoolbook"/>
              </a:rPr>
              <a:t>Внебюджетные фонды р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ешают социальные и экономические вопросы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ГОСУДАРСТВЕННЫЕ ДОХОДЫ И РАСХОДЫ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6840" y="1599840"/>
            <a:ext cx="746748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. доходы –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) Д. отношения по мобилизации финансовых ресурсов государ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) Денежные средства, мобилизованные в распоряжение государства для выполнения его функций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671688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465e9c"/>
                </a:solidFill>
                <a:latin typeface="Century Schoolbook"/>
              </a:rPr>
              <a:t>ИСТОЧНИКИ ДОХОД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внутренние (Национальный доход своей страны, часть нац. богатства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·  внешние (НД других стран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осударство имеет разные статьи доходов. Совокупность доходов разных видов образует систему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Г. доходов, решающих задачи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1. стимулирование роста производ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2. ускорение темпов НТП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3. удовлетворение соц. и других потребностей обществ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465e9c"/>
                </a:solidFill>
                <a:latin typeface="Century Schoolbook"/>
              </a:rPr>
              <a:t>МЕТОДЫ МОБИЛИЗАЦИИ ДОХОДОВ:</a:t>
            </a:r>
            <a:endParaRPr b="0" lang="en-US" sz="3000" spc="-1" strike="noStrike">
              <a:solidFill>
                <a:srgbClr val="465e9c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907560"/>
            <a:ext cx="800244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1) Взимание налогов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2) Использование гос. займов и кредитов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3) Использование эмисси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da023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Schoolbook"/>
              </a:rPr>
              <a:t>4) Прочее (неналоговые, некредитные средства от эксплуатации гос. собственности и проведения Гос. операций; дивиденды от акций, находящихся в собственности; сдача в аренду Гос. имущества, средства от его продажи, доходы гос. предприятий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7:57:21Z</dcterms:created>
  <dc:creator>Александр</dc:creator>
  <dc:description/>
  <dc:language>en-US</dc:language>
  <cp:lastModifiedBy>Александр</cp:lastModifiedBy>
  <dcterms:modified xsi:type="dcterms:W3CDTF">2011-03-24T09:44:18Z</dcterms:modified>
  <cp:revision>14</cp:revision>
  <dc:subject/>
  <dc:title>Сущность и функции финансов</dc:title>
</cp:coreProperties>
</file>