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6.gif" ContentType="image/gif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A88-5E5A-4ADC-8D8B-F3D2CE8F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F08-6444-4CBE-BD96-2DFFD45F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D15-B7FC-4734-A4FF-FE559487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3EC-AD13-4933-B122-8F8A185F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8370D-1B69-4647-B253-B5010E4C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61CD8-ADAE-4BA4-BFA2-5B0C14F8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6FD5E-9EEE-4A5D-A2C1-2AD83D5D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01CDC-9AFE-4EA6-B2D1-6CD6ED9A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145AA-5B1A-44B1-8A8E-F911922A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9A7EA-EFB4-4489-8918-CF6AFD72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DBF3F-340E-4173-AF6C-4D402B75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73F-B8C9-454B-BFF3-EDBD9715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896B8-976A-4E38-ABA6-F6C8BE3C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5107E-3E81-4D95-BFDE-94750BC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36532-BFBF-4317-A2F3-C12BF9D4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0AACB-03CE-4526-8934-2919496BD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0A10F-A890-4EC7-BA38-7131E9AF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EFB09-5173-48B8-A90C-558D6C31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0BED8-CA5A-4611-9188-8BE29E60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A4E8C-80D4-4522-9C73-25B21E75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1C564-EE5C-47B3-BE84-B55E54F8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BF08D-07B3-4AA8-8C45-786529BF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293-4924-4805-90DA-93DBAC82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EAA23-9C0E-4788-B704-DD3C03DB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C9D22-E50D-479D-81ED-9001ECBA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6DAB0-D5AE-46F2-866F-572F5881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9E9C3-A04F-4278-B148-827768E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F5993-43F1-4ED0-86B6-6C0AB267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9D595-4BEB-490C-9E5D-40EDB3EF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F0584-021D-48E8-9C9F-7D81D0F5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43AA2-FB08-4F80-8462-943FE6FB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370B77-50FD-4D51-88F4-0940421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9122C-228F-4246-81FA-E32E7AA6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63D-4E96-4230-9144-C3A880DE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B39C5-9025-4809-A6D6-99BBAB08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28C1E-C727-4580-93B8-B8B69677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C903C0-0DDD-46CA-A4F8-D180F68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EF4D5-20D7-4926-B64E-67231961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6AD49-1C54-45B4-BDBF-9CE87931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E4064-DF84-40F7-80A3-F547159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37C00-C8AB-4652-B88F-959DAC28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79EB9-45D9-455B-8DA7-5DC278D6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A4542-7187-46E9-8319-B649939D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3B070-FCA2-4B91-89A1-7D43055C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654-E0AD-47A3-B47C-EF519DB2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ACCF3-20CF-4C1D-8EEC-D8E9D260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F85BF-82CF-480E-85E6-E554E088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D4A7D-666C-4048-8CC3-18763778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2AE9D-4C50-45E7-8130-D825B1BE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7EE12-3FC5-465C-9D73-2DD88A51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DD859-FC6B-4EB4-A245-E7EA09EF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62AFC-6C3D-477B-928E-8877C686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7EE20-BDE5-4A55-95DD-AE864087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F76C8-E71E-4A10-B38A-9383D905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55DB6-E933-4CB9-984E-1D0B54C4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324-C5C3-4677-B79F-6BCBFA7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9A397-7223-4223-B8A6-4054AFE9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9A8-DE60-4F55-AE9C-0D6507E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B08-6A47-4501-9036-9C45838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14C-D37A-4D07-9F45-5FE97D7A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F20-76BC-4217-B09D-A867EE539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7176-1A16-449F-9698-77C8A69ED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4320-B795-4620-877D-26B7F7C69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55A-4DAF-4466-81C6-788359ECA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51AB-E333-41BB-B3B9-8548628C3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ЧЕСКИ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356920" y="4581000"/>
            <a:ext cx="6527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зор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фимов Евгений Федо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выборе метода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 ли проблема комплексного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блема или возмож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классифицировать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еально существующая или надуманная про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финансовая проблема или она связана с отношениями между люд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зойдет, если не принимать никакого ре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уникальность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ли последовательность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Задачи руководителя при продумывании 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руг лиц, способных разработать и реализовать способы ее решения и получения положительного ис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рок разрешения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 утвердить способы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ть выделение требуемых средств решения проблемы (трудовых, материальных, финансов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внутренние элементы проблемы, установить степень их влияния на реше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критерию приняти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1100880" y="1007640"/>
            <a:ext cx="67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выражаться чи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принимать одно из следующих знач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243080" y="1628640"/>
            <a:ext cx="5829120" cy="2521080"/>
            <a:chOff x="1243080" y="1628640"/>
            <a:chExt cx="5829120" cy="2521080"/>
          </a:xfrm>
        </p:grpSpPr>
        <p:sp>
          <p:nvSpPr>
            <p:cNvPr id="332" name="AutoShape 38"/>
            <p:cNvSpPr/>
            <p:nvPr/>
          </p:nvSpPr>
          <p:spPr>
            <a:xfrm>
              <a:off x="1243080" y="1628640"/>
              <a:ext cx="582912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35"/>
            <p:cNvGrpSpPr/>
            <p:nvPr/>
          </p:nvGrpSpPr>
          <p:grpSpPr>
            <a:xfrm>
              <a:off x="1700280" y="2035440"/>
              <a:ext cx="1142280" cy="1382400"/>
              <a:chOff x="1700280" y="2035440"/>
              <a:chExt cx="1142280" cy="1382400"/>
            </a:xfrm>
          </p:grpSpPr>
          <p:sp>
            <p:nvSpPr>
              <p:cNvPr id="334" name="Line 37"/>
              <p:cNvSpPr/>
              <p:nvPr/>
            </p:nvSpPr>
            <p:spPr>
              <a:xfrm flipV="1">
                <a:off x="170028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>
                <a:off x="170028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2"/>
            <p:cNvGrpSpPr/>
            <p:nvPr/>
          </p:nvGrpSpPr>
          <p:grpSpPr>
            <a:xfrm>
              <a:off x="3529440" y="2035440"/>
              <a:ext cx="1142280" cy="1382400"/>
              <a:chOff x="3529440" y="2035440"/>
              <a:chExt cx="1142280" cy="1382400"/>
            </a:xfrm>
          </p:grpSpPr>
          <p:sp>
            <p:nvSpPr>
              <p:cNvPr id="337" name="Line 34"/>
              <p:cNvSpPr/>
              <p:nvPr/>
            </p:nvSpPr>
            <p:spPr>
              <a:xfrm flipV="1">
                <a:off x="352944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52944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9"/>
            <p:cNvGrpSpPr/>
            <p:nvPr/>
          </p:nvGrpSpPr>
          <p:grpSpPr>
            <a:xfrm>
              <a:off x="5472360" y="2035440"/>
              <a:ext cx="1142280" cy="1382400"/>
              <a:chOff x="5472360" y="2035440"/>
              <a:chExt cx="1142280" cy="1382400"/>
            </a:xfrm>
          </p:grpSpPr>
          <p:sp>
            <p:nvSpPr>
              <p:cNvPr id="340" name="Line 31"/>
              <p:cNvSpPr/>
              <p:nvPr/>
            </p:nvSpPr>
            <p:spPr>
              <a:xfrm flipV="1">
                <a:off x="547236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0"/>
              <p:cNvSpPr/>
              <p:nvPr/>
            </p:nvSpPr>
            <p:spPr>
              <a:xfrm>
                <a:off x="547236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8"/>
            <p:cNvSpPr/>
            <p:nvPr/>
          </p:nvSpPr>
          <p:spPr>
            <a:xfrm>
              <a:off x="1800720" y="2474280"/>
              <a:ext cx="819360" cy="79524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290" h="1760">
                  <a:moveTo>
                    <a:pt x="0" y="1670"/>
                  </a:moveTo>
                  <a:cubicBezTo>
                    <a:pt x="133" y="1470"/>
                    <a:pt x="54" y="1622"/>
                    <a:pt x="75" y="1190"/>
                  </a:cubicBezTo>
                  <a:cubicBezTo>
                    <a:pt x="80" y="1090"/>
                    <a:pt x="60" y="980"/>
                    <a:pt x="105" y="890"/>
                  </a:cubicBezTo>
                  <a:cubicBezTo>
                    <a:pt x="141" y="818"/>
                    <a:pt x="161" y="804"/>
                    <a:pt x="210" y="755"/>
                  </a:cubicBezTo>
                  <a:cubicBezTo>
                    <a:pt x="222" y="719"/>
                    <a:pt x="246" y="687"/>
                    <a:pt x="255" y="650"/>
                  </a:cubicBezTo>
                  <a:cubicBezTo>
                    <a:pt x="265" y="611"/>
                    <a:pt x="257" y="568"/>
                    <a:pt x="270" y="530"/>
                  </a:cubicBezTo>
                  <a:cubicBezTo>
                    <a:pt x="284" y="489"/>
                    <a:pt x="326" y="463"/>
                    <a:pt x="345" y="425"/>
                  </a:cubicBezTo>
                  <a:cubicBezTo>
                    <a:pt x="357" y="401"/>
                    <a:pt x="369" y="342"/>
                    <a:pt x="375" y="320"/>
                  </a:cubicBezTo>
                  <a:cubicBezTo>
                    <a:pt x="400" y="232"/>
                    <a:pt x="376" y="318"/>
                    <a:pt x="420" y="230"/>
                  </a:cubicBezTo>
                  <a:cubicBezTo>
                    <a:pt x="443" y="183"/>
                    <a:pt x="426" y="172"/>
                    <a:pt x="465" y="125"/>
                  </a:cubicBezTo>
                  <a:cubicBezTo>
                    <a:pt x="477" y="111"/>
                    <a:pt x="495" y="105"/>
                    <a:pt x="510" y="95"/>
                  </a:cubicBezTo>
                  <a:cubicBezTo>
                    <a:pt x="553" y="30"/>
                    <a:pt x="567" y="47"/>
                    <a:pt x="630" y="5"/>
                  </a:cubicBezTo>
                  <a:cubicBezTo>
                    <a:pt x="685" y="12"/>
                    <a:pt x="751" y="0"/>
                    <a:pt x="795" y="35"/>
                  </a:cubicBezTo>
                  <a:cubicBezTo>
                    <a:pt x="827" y="61"/>
                    <a:pt x="846" y="142"/>
                    <a:pt x="855" y="170"/>
                  </a:cubicBezTo>
                  <a:cubicBezTo>
                    <a:pt x="877" y="235"/>
                    <a:pt x="892" y="293"/>
                    <a:pt x="930" y="350"/>
                  </a:cubicBezTo>
                  <a:cubicBezTo>
                    <a:pt x="947" y="468"/>
                    <a:pt x="967" y="597"/>
                    <a:pt x="1005" y="710"/>
                  </a:cubicBezTo>
                  <a:cubicBezTo>
                    <a:pt x="1015" y="740"/>
                    <a:pt x="1029" y="769"/>
                    <a:pt x="1035" y="800"/>
                  </a:cubicBezTo>
                  <a:cubicBezTo>
                    <a:pt x="1062" y="933"/>
                    <a:pt x="1067" y="1061"/>
                    <a:pt x="1110" y="1190"/>
                  </a:cubicBezTo>
                  <a:cubicBezTo>
                    <a:pt x="1116" y="1207"/>
                    <a:pt x="1132" y="1219"/>
                    <a:pt x="1140" y="1235"/>
                  </a:cubicBezTo>
                  <a:cubicBezTo>
                    <a:pt x="1174" y="1302"/>
                    <a:pt x="1194" y="1373"/>
                    <a:pt x="1215" y="1445"/>
                  </a:cubicBezTo>
                  <a:cubicBezTo>
                    <a:pt x="1224" y="1475"/>
                    <a:pt x="1235" y="1505"/>
                    <a:pt x="1245" y="1535"/>
                  </a:cubicBezTo>
                  <a:cubicBezTo>
                    <a:pt x="1250" y="1550"/>
                    <a:pt x="1260" y="1580"/>
                    <a:pt x="1260" y="1580"/>
                  </a:cubicBezTo>
                  <a:cubicBezTo>
                    <a:pt x="1240" y="1600"/>
                    <a:pt x="1206" y="1612"/>
                    <a:pt x="1200" y="1640"/>
                  </a:cubicBezTo>
                  <a:cubicBezTo>
                    <a:pt x="1197" y="1656"/>
                    <a:pt x="1236" y="1642"/>
                    <a:pt x="1245" y="1655"/>
                  </a:cubicBezTo>
                  <a:cubicBezTo>
                    <a:pt x="1263" y="1681"/>
                    <a:pt x="1265" y="1715"/>
                    <a:pt x="1275" y="1745"/>
                  </a:cubicBezTo>
                  <a:cubicBezTo>
                    <a:pt x="1277" y="1752"/>
                    <a:pt x="1285" y="1755"/>
                    <a:pt x="1290" y="17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3632040" y="2313720"/>
              <a:ext cx="1102680" cy="96120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736" h="2127">
                  <a:moveTo>
                    <a:pt x="56" y="0"/>
                  </a:moveTo>
                  <a:cubicBezTo>
                    <a:pt x="0" y="167"/>
                    <a:pt x="50" y="313"/>
                    <a:pt x="101" y="465"/>
                  </a:cubicBezTo>
                  <a:cubicBezTo>
                    <a:pt x="124" y="533"/>
                    <a:pt x="128" y="595"/>
                    <a:pt x="161" y="660"/>
                  </a:cubicBezTo>
                  <a:cubicBezTo>
                    <a:pt x="64" y="806"/>
                    <a:pt x="142" y="963"/>
                    <a:pt x="191" y="1110"/>
                  </a:cubicBezTo>
                  <a:cubicBezTo>
                    <a:pt x="151" y="1231"/>
                    <a:pt x="242" y="1348"/>
                    <a:pt x="311" y="1440"/>
                  </a:cubicBezTo>
                  <a:cubicBezTo>
                    <a:pt x="339" y="1478"/>
                    <a:pt x="357" y="1523"/>
                    <a:pt x="386" y="1560"/>
                  </a:cubicBezTo>
                  <a:cubicBezTo>
                    <a:pt x="408" y="1588"/>
                    <a:pt x="438" y="1609"/>
                    <a:pt x="461" y="1635"/>
                  </a:cubicBezTo>
                  <a:cubicBezTo>
                    <a:pt x="521" y="1703"/>
                    <a:pt x="554" y="1791"/>
                    <a:pt x="611" y="1860"/>
                  </a:cubicBezTo>
                  <a:cubicBezTo>
                    <a:pt x="643" y="1898"/>
                    <a:pt x="681" y="1930"/>
                    <a:pt x="716" y="1965"/>
                  </a:cubicBezTo>
                  <a:cubicBezTo>
                    <a:pt x="776" y="2025"/>
                    <a:pt x="811" y="2087"/>
                    <a:pt x="896" y="2115"/>
                  </a:cubicBezTo>
                  <a:cubicBezTo>
                    <a:pt x="961" y="2108"/>
                    <a:pt x="1040" y="2127"/>
                    <a:pt x="1091" y="2085"/>
                  </a:cubicBezTo>
                  <a:cubicBezTo>
                    <a:pt x="1110" y="2069"/>
                    <a:pt x="1120" y="2044"/>
                    <a:pt x="1136" y="2025"/>
                  </a:cubicBezTo>
                  <a:cubicBezTo>
                    <a:pt x="1283" y="1853"/>
                    <a:pt x="1087" y="2089"/>
                    <a:pt x="1226" y="1950"/>
                  </a:cubicBezTo>
                  <a:cubicBezTo>
                    <a:pt x="1259" y="1917"/>
                    <a:pt x="1286" y="1880"/>
                    <a:pt x="1316" y="1845"/>
                  </a:cubicBezTo>
                  <a:cubicBezTo>
                    <a:pt x="1416" y="1724"/>
                    <a:pt x="1266" y="1887"/>
                    <a:pt x="1376" y="1740"/>
                  </a:cubicBezTo>
                  <a:cubicBezTo>
                    <a:pt x="1393" y="1717"/>
                    <a:pt x="1416" y="1700"/>
                    <a:pt x="1436" y="1680"/>
                  </a:cubicBezTo>
                  <a:cubicBezTo>
                    <a:pt x="1446" y="1650"/>
                    <a:pt x="1451" y="1618"/>
                    <a:pt x="1466" y="1590"/>
                  </a:cubicBezTo>
                  <a:cubicBezTo>
                    <a:pt x="1476" y="1571"/>
                    <a:pt x="1502" y="1564"/>
                    <a:pt x="1511" y="1545"/>
                  </a:cubicBezTo>
                  <a:cubicBezTo>
                    <a:pt x="1557" y="1454"/>
                    <a:pt x="1560" y="1389"/>
                    <a:pt x="1616" y="1305"/>
                  </a:cubicBezTo>
                  <a:cubicBezTo>
                    <a:pt x="1628" y="1138"/>
                    <a:pt x="1628" y="967"/>
                    <a:pt x="1691" y="810"/>
                  </a:cubicBezTo>
                  <a:cubicBezTo>
                    <a:pt x="1705" y="680"/>
                    <a:pt x="1736" y="551"/>
                    <a:pt x="1736" y="4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"/>
            <p:cNvSpPr/>
            <p:nvPr/>
          </p:nvSpPr>
          <p:spPr>
            <a:xfrm>
              <a:off x="5610600" y="2191680"/>
              <a:ext cx="1200600" cy="109116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1890" h="2415">
                  <a:moveTo>
                    <a:pt x="0" y="0"/>
                  </a:moveTo>
                  <a:cubicBezTo>
                    <a:pt x="10" y="30"/>
                    <a:pt x="17" y="61"/>
                    <a:pt x="30" y="90"/>
                  </a:cubicBezTo>
                  <a:cubicBezTo>
                    <a:pt x="37" y="106"/>
                    <a:pt x="53" y="118"/>
                    <a:pt x="60" y="135"/>
                  </a:cubicBezTo>
                  <a:cubicBezTo>
                    <a:pt x="78" y="179"/>
                    <a:pt x="79" y="231"/>
                    <a:pt x="105" y="270"/>
                  </a:cubicBezTo>
                  <a:cubicBezTo>
                    <a:pt x="150" y="337"/>
                    <a:pt x="167" y="409"/>
                    <a:pt x="210" y="480"/>
                  </a:cubicBezTo>
                  <a:cubicBezTo>
                    <a:pt x="274" y="587"/>
                    <a:pt x="319" y="699"/>
                    <a:pt x="375" y="810"/>
                  </a:cubicBezTo>
                  <a:cubicBezTo>
                    <a:pt x="401" y="940"/>
                    <a:pt x="464" y="1061"/>
                    <a:pt x="510" y="1185"/>
                  </a:cubicBezTo>
                  <a:cubicBezTo>
                    <a:pt x="538" y="1260"/>
                    <a:pt x="537" y="1336"/>
                    <a:pt x="570" y="1410"/>
                  </a:cubicBezTo>
                  <a:cubicBezTo>
                    <a:pt x="593" y="1461"/>
                    <a:pt x="612" y="1515"/>
                    <a:pt x="645" y="1560"/>
                  </a:cubicBezTo>
                  <a:cubicBezTo>
                    <a:pt x="674" y="1600"/>
                    <a:pt x="735" y="1680"/>
                    <a:pt x="735" y="1680"/>
                  </a:cubicBezTo>
                  <a:cubicBezTo>
                    <a:pt x="730" y="1700"/>
                    <a:pt x="713" y="1720"/>
                    <a:pt x="720" y="1740"/>
                  </a:cubicBezTo>
                  <a:cubicBezTo>
                    <a:pt x="736" y="1787"/>
                    <a:pt x="780" y="1820"/>
                    <a:pt x="810" y="1860"/>
                  </a:cubicBezTo>
                  <a:cubicBezTo>
                    <a:pt x="855" y="1920"/>
                    <a:pt x="892" y="1987"/>
                    <a:pt x="945" y="2040"/>
                  </a:cubicBezTo>
                  <a:cubicBezTo>
                    <a:pt x="1085" y="2180"/>
                    <a:pt x="930" y="1985"/>
                    <a:pt x="1050" y="2145"/>
                  </a:cubicBezTo>
                  <a:cubicBezTo>
                    <a:pt x="1040" y="2160"/>
                    <a:pt x="1015" y="2173"/>
                    <a:pt x="1020" y="2190"/>
                  </a:cubicBezTo>
                  <a:cubicBezTo>
                    <a:pt x="1042" y="2266"/>
                    <a:pt x="1131" y="2257"/>
                    <a:pt x="1185" y="2265"/>
                  </a:cubicBezTo>
                  <a:cubicBezTo>
                    <a:pt x="1205" y="2275"/>
                    <a:pt x="1228" y="2281"/>
                    <a:pt x="1245" y="2295"/>
                  </a:cubicBezTo>
                  <a:cubicBezTo>
                    <a:pt x="1278" y="2322"/>
                    <a:pt x="1295" y="2372"/>
                    <a:pt x="1335" y="2385"/>
                  </a:cubicBezTo>
                  <a:cubicBezTo>
                    <a:pt x="1365" y="2395"/>
                    <a:pt x="1425" y="2415"/>
                    <a:pt x="1425" y="2415"/>
                  </a:cubicBezTo>
                  <a:cubicBezTo>
                    <a:pt x="1548" y="2394"/>
                    <a:pt x="1639" y="2334"/>
                    <a:pt x="1755" y="2295"/>
                  </a:cubicBezTo>
                  <a:cubicBezTo>
                    <a:pt x="1760" y="2280"/>
                    <a:pt x="1759" y="2261"/>
                    <a:pt x="1770" y="2250"/>
                  </a:cubicBezTo>
                  <a:cubicBezTo>
                    <a:pt x="1781" y="2239"/>
                    <a:pt x="1802" y="2244"/>
                    <a:pt x="1815" y="2235"/>
                  </a:cubicBezTo>
                  <a:cubicBezTo>
                    <a:pt x="1833" y="2223"/>
                    <a:pt x="1846" y="2206"/>
                    <a:pt x="1860" y="2190"/>
                  </a:cubicBezTo>
                  <a:cubicBezTo>
                    <a:pt x="1872" y="2176"/>
                    <a:pt x="1890" y="2145"/>
                    <a:pt x="1890" y="2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5"/>
            <p:cNvSpPr/>
            <p:nvPr/>
          </p:nvSpPr>
          <p:spPr>
            <a:xfrm flipV="1">
              <a:off x="6158160" y="2197080"/>
              <a:ext cx="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4"/>
            <p:cNvSpPr/>
            <p:nvPr/>
          </p:nvSpPr>
          <p:spPr>
            <a:xfrm flipH="1">
              <a:off x="6157800" y="2197440"/>
              <a:ext cx="1141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 flipH="1">
              <a:off x="6158160" y="227916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6158160" y="23605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1"/>
            <p:cNvSpPr/>
            <p:nvPr/>
          </p:nvSpPr>
          <p:spPr>
            <a:xfrm flipH="1">
              <a:off x="6158160" y="244188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 flipH="1">
              <a:off x="6158160" y="2523240"/>
              <a:ext cx="11304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 flipH="1">
              <a:off x="6158160" y="260424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H="1">
              <a:off x="6158160" y="3011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 flipH="1">
              <a:off x="6158160" y="2930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>
              <a:off x="6158160" y="284832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 flipH="1">
              <a:off x="6158160" y="2767320"/>
              <a:ext cx="11304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H="1">
              <a:off x="6158160" y="268596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H="1">
              <a:off x="6158160" y="32551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 flipH="1">
              <a:off x="6158160" y="325512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 flipH="1">
              <a:off x="6158160" y="317376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 flipH="1">
              <a:off x="6158160" y="3092400"/>
              <a:ext cx="1130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6500520" y="2197440"/>
              <a:ext cx="343080" cy="81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грани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5472360" y="3580920"/>
              <a:ext cx="1255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 на огранич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1586160" y="3580920"/>
              <a:ext cx="12549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ксималь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3414240" y="3580920"/>
              <a:ext cx="125532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инимальное 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44"/>
          <p:cNvSpPr/>
          <p:nvPr/>
        </p:nvSpPr>
        <p:spPr>
          <a:xfrm>
            <a:off x="1111320" y="4547880"/>
            <a:ext cx="6972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многокритериальной задачи необходимо частные критерии свернуть в од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= ∑ а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к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есовой коэффици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-  значение частного кри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РАЗРАБОТКИ УПРАВЛЕНЧЕСКИ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395280" y="1413000"/>
            <a:ext cx="8353440" cy="5111280"/>
            <a:chOff x="395280" y="1413000"/>
            <a:chExt cx="8353440" cy="5111280"/>
          </a:xfrm>
        </p:grpSpPr>
        <p:sp>
          <p:nvSpPr>
            <p:cNvPr id="368" name="AutoShape 6"/>
            <p:cNvSpPr/>
            <p:nvPr/>
          </p:nvSpPr>
          <p:spPr>
            <a:xfrm>
              <a:off x="395280" y="1413000"/>
              <a:ext cx="8353440" cy="51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558360" y="1413000"/>
              <a:ext cx="8188200" cy="4544280"/>
              <a:chOff x="558360" y="1413000"/>
              <a:chExt cx="8188200" cy="4544280"/>
            </a:xfrm>
          </p:grpSpPr>
          <p:sp>
            <p:nvSpPr>
              <p:cNvPr id="370" name="Rectangle 8"/>
              <p:cNvSpPr/>
              <p:nvPr/>
            </p:nvSpPr>
            <p:spPr>
              <a:xfrm>
                <a:off x="3342960" y="1413000"/>
                <a:ext cx="262044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оды разработки управленческих реш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9"/>
              <p:cNvSpPr/>
              <p:nvPr/>
            </p:nvSpPr>
            <p:spPr>
              <a:xfrm>
                <a:off x="558360" y="4253760"/>
                <a:ext cx="262080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Экономико-математические методы и моде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0"/>
              <p:cNvSpPr/>
              <p:nvPr/>
            </p:nvSpPr>
            <p:spPr>
              <a:xfrm>
                <a:off x="3342960" y="4253760"/>
                <a:ext cx="262044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600" spc="-1" strike="noStrike">
                    <a:solidFill>
                      <a:srgbClr val="000000"/>
                    </a:solidFill>
                    <a:latin typeface="Arial"/>
                  </a:rPr>
                  <a:t>Эвристические методы (методы активизации мышлен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6127200" y="4253760"/>
                <a:ext cx="261936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татистические мето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 flipH="1">
                <a:off x="1868760" y="3116520"/>
                <a:ext cx="278460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653720" y="3116520"/>
                <a:ext cx="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4653720" y="3116520"/>
                <a:ext cx="278424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Экономико-математические методы и мод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50920" y="66780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методы и модели дают количественную характеристику проблемы и служат основой для принятия управленческого решения при поиске оптимального варианта. Разработка решения такими методами может быть представлена последовательностью основных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ановка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пределение критерия эффективности анализируемой оп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изменение факторов, влияющих на исследуемую опер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роение математической модели изучаемого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решение модели и нахождение оптимальн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оверка адекватности модели и найденного решения анализируем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рректировка и обновлени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числу наиболее распространенных типов моделей относятся модели теории игр, модели теории очередей, модели управления запасами и модели линейного програ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вристические методы (методы активизации мышле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179280" y="1413000"/>
          <a:ext cx="8713800" cy="544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правила мозгового штур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ris7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у последовательно решают 2 группы людей (оптимальный состав каждой 6—12 человек). Первая группа — «генераторы идей» — выдвигает различные идеи (рис. 1). В ней желательно иметь людей, склонных к абстрагированию, с бурной фантазией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а «штурмуется» в течение 20—40 минут. Вторая группа — «эксперты» — по окончании штурма выносит суждение о ценности выдвинутых идей. В ее составе лучше работают люди с аналитическим, критическим складом ума. Условия задачи перед ее штурмом формулируются только в общих понят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группа генераторов идей"/>
          <p:cNvPicPr/>
          <p:nvPr/>
        </p:nvPicPr>
        <p:blipFill>
          <a:blip r:embed="rId1"/>
          <a:stretch/>
        </p:blipFill>
        <p:spPr>
          <a:xfrm>
            <a:off x="457200" y="2455920"/>
            <a:ext cx="40384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езультат анализа, прогнозирования, оптимизации, экономического обоснования и выбора альтернативы из множества вариантов достижения конкретной цели системы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А.Фатхутд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ыбор одного из возможных альтернативных вариантов, осуществляемых лицом, принимающим решения (ЛПР), и направленный на достижение поставленной цели. Один из основных этапов процесса управления, организационный 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Литв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едприятии представляет собой творческий акт субъекта управления (индивидуального или группового лица), определяющий программу деятельности коллектива по эффективному разрешению назревшей проблемы на основе знания объективных законов функционирования управляемой системы и анализа информации о ее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С.Юк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2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«Морфологического ящ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981080"/>
          <a:ext cx="8229600" cy="392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группов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320" y="980640"/>
            <a:ext cx="895824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Круговой сбор иде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руководитель предлагает каждому отдельно обдумать проблему, сформулировать несколько вариантов решения и всем по очереди высказывать мнения о них с фиксацией на дос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вободных ассоциац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заключается в том, что руководитель пишет на бумаге слово (фразу), которое имеет отношение к данной проблеме, а каждый из участников дополняет запись своими. В результате возникает мыслительная цепочка, раскрывающая проблему с разных сторо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равнительных оцено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участники дают характеристику в условных баллах (от 1 до 5) тому или иному параметру проблемы. Затем выводится их средняя оценка, на основе которой члены группы разбиваются на две половины (одна с оценками ниже средней, а другая ѕ выше), пытаясь доказать друг другу свою правот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расстановки элементов проблемы по значим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участники ранжируют их по важности, продолжительности работы над ними и т. п. Все предложения записываются на доске и обсуждаются в форме конференц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635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после постановки проблемы каждый из 6 участников получает возможность обдумать ее несколько дней. Затем, собравшись вместе, они проводят 5 раундов мозговой атаки на бумаге. Продолжительность первого 5 мин, а каждого последующего на одну минуту больше. Поскольку каждый раз на карточку необходимо записать по 3 идеи, в конечном итоге можно получить 108 предложен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синектик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обен мозговой атаке. Проблема рассматривается группой из 9 человек. Руководитель объясняет проблему, а участники предлагают варианты решения, которые тот анализирует, оценивает и при необходимости ставит новые задач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татис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исло этих методов входят «семь инструментов качества», среди которых при разработке решений использ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аре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Исикав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 простых инструментов контроля кач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расссе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Пар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диаграмма Ишикав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й л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7tools-2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Парето для повышения качества государственных у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Парето позволяет распределить усилия для разрешения возникающих проблем и установить основные факторы, с которых нужно начинать действовать с целью преодоления возникающих проб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ва вида диаграмм Паре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диаграмма Парето по результатам деятельности и диаграмма Парето по причин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льфредо Парето (1848—192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97 году итальянский экономист Вильфредо Парето (1848—1923) предложил формулу, показывающую, ч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а распределяются неравномер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же теория была проиллюстрирована американским экономистом М. Лоренцом в 1907 г. на диаграмме. Оба ученых показали, что в большинстве случае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ибольшая доля благ (доходов) принадлежит небольшому числу люд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01sld4"/>
          <p:cNvPicPr/>
          <p:nvPr/>
        </p:nvPicPr>
        <p:blipFill>
          <a:blip r:embed="rId1"/>
          <a:stretch/>
        </p:blipFill>
        <p:spPr>
          <a:xfrm>
            <a:off x="1017720" y="1981080"/>
            <a:ext cx="291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дился 24 декабря 1904 г. в городе Браила, в Румынии в семье сапожника. Его семья проживала в городе Карпатия до 1912 г., а затем эмигрировала в СШ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.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женился в 1926 г. Он имеет четырех сыновей, девятерых внуков и пятерых правнуков. Дж. Джуран получил степень бакалавра электротехники в Минесотском университете и степень доктора юриспруденции в Университете Лойолы в Чикаго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Ettor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94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своей многолетней карьеры Дж. Джуран работал инженером, руководящим работником промышленного предприятия, государственным управляющим, университетским профессором, третейским судьей в трудовых спорах, президентом корпорации и консультантом по проблемам менеджмента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Jura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88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0"/>
          <p:cNvPicPr/>
          <p:nvPr/>
        </p:nvPicPr>
        <p:blipFill>
          <a:blip r:embed="rId1"/>
          <a:stretch/>
        </p:blipFill>
        <p:spPr>
          <a:xfrm>
            <a:off x="5238720" y="2143080"/>
            <a:ext cx="28576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начала следует реш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облемы необходимо исследовать (например, дефектные изделия, потери в деньгах, несчастные случа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анные нужно собрать и как их классифицировать (например, по видам дефектов, по месту их появления, по процессам, по станкам, по рабочим, по технологическим причинам, по оборудованию, по методам измерения и применяемым измерительным средствам; нечасто встречающиеся признаки объединяют под общим заголовком «прочие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тод и период сбора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контрольного листка для регистрации данных с перечнем видов собираем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полнение листка регистрации данных и подсчет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таблицы для проверок данных с графами для итогов по каждому проверяемому признаку в отдельности, накопленной суммы числа дефектов, процентов к общему итогу и накопленных проц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оложение данных, полученных по каждому проверяемому признаку, в порядке значимости и заполнение табл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j0299125"/>
          <p:cNvPicPr/>
          <p:nvPr/>
        </p:nvPicPr>
        <p:blipFill>
          <a:blip r:embed="rId1"/>
          <a:stretch/>
        </p:blipFill>
        <p:spPr>
          <a:xfrm>
            <a:off x="6732720" y="260280"/>
            <a:ext cx="2089080" cy="1805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84360" y="620640"/>
            <a:ext cx="575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́ма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.-греч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προβλήμα) —             положение, причинность, условие, вопрос, объект, который создаёт затруднение, побуждает к действию и связан с избыточностью или недостатком чего-либо для сознания субъекта, например: процессора (движителя, калькулятора, компьютера, специалиста), знаний, ресурсов, регламента (упорядоченности, алгоритма, программы) и побуждает к действию или ограничивает его и соответственно неразрешён или нежела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476280"/>
          <a:ext cx="9144000" cy="6396120"/>
        </p:xfrm>
        <a:graphic>
          <a:graphicData uri="http://schemas.openxmlformats.org/drawingml/2006/table">
            <a:tbl>
              <a:tblPr/>
              <a:tblGrid>
                <a:gridCol w="1452600"/>
                <a:gridCol w="965160"/>
                <a:gridCol w="2016000"/>
                <a:gridCol w="3400560"/>
                <a:gridCol w="1309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ая сумма числа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числа дефектов по каждому признаку к общей су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ка у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чка кры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и в поликлин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—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несение горизонтальной и вертикальной о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тикальная ось содержи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горизонтальная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терв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числ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изонтальную ось разбивают на интервалы в соответствии с количеств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троение столбиковой диа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 Рисунок 1. Диаграмма Парето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ведение на диаграмме кумулятивной кривой (кривой Парето) (рис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несение на диаграмму всех обозначений и надписей, касающихся диаграммы (название, разметка числовых значений на осях, наименование контролируемого изделия, имя составителя диаграммы), и данных (период сбора информации, объект исследования и место его проведения, общее число объектов контро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3" descr="7tools-7"/>
          <p:cNvPicPr/>
          <p:nvPr/>
        </p:nvPicPr>
        <p:blipFill>
          <a:blip r:embed="rId1"/>
          <a:stretch/>
        </p:blipFill>
        <p:spPr>
          <a:xfrm>
            <a:off x="324000" y="1989000"/>
            <a:ext cx="439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-анализ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А — наиболее важные, существенные проблемы, причины, дефекты. Относительный процент группы А в общем количестве дефектов (причин) обычно составляет от 60 до 80%. Соответственно устранение причин группы Л имеет большой приоритет, а связанные с этим мероприятия — самую высокую эффе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В — причины, которые в сумме имеют не более 2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С — самые многочисленные, но при этом наименее значимые причины и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Рисунок 3. АВС-анализ в рамках диаграммы Парето"/>
          <p:cNvPicPr/>
          <p:nvPr/>
        </p:nvPicPr>
        <p:blipFill>
          <a:blip r:embed="rId1"/>
          <a:stretch/>
        </p:blipFill>
        <p:spPr>
          <a:xfrm>
            <a:off x="4643280" y="1628640"/>
            <a:ext cx="417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ору Исикава (1915-1990) – известный японский ученый в области управления качеством, с именем которого также связывают возрождение и развитие японской экономик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Исикава ввел в мировую практику новый оригинальный практический метод анализа причинно-следственных связей, получивший название диаграммы Исискавы («рыбья кость Исикавы») и вошедший в состав инструментов контроля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il_fi" descr="Kaoru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«рыбий ске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Гистограмма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равила постро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приступать к построению диаграммы, все участники должны прийти к единому мнению относительно формулировки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мая проблема записывается с правой стороны в середине чистого листа бумаги и заключается в рамку, к которой слева подходит основная горизонтальная стрелка - "хребет" (диаграмму Исикавы из-за внешнего вида часто называют "рыбьим скелетом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сятся главные причины (причины уровня 1), влияющие на проблему, - "большие кости". Они заключаются в рамки и соединяются наклонными стрелками с "хребто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наносятся вторичные причины (причины уровня 2), которые влияют на главные причины ("большие кости"), а те, в свою очередь, являются следствием вторичных причин. Вторичные причины записываются и располагаются в виде "средних костей", примыкающих к "большим". Причины уровня 3, которые влияют на причины уровня 2, располагаются в виде "мелких костей", примыкающих к "средним", и т. д. (Если на диаграмме приведены не все причины, то одна стрелка оставляется пуст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нализе должны выявляться и фиксироваться все факторы, даже те, которые кажутся незначительными, так как цель схемы - отыскать наиболее правильный путь и эффективный способ решения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(факторы) оцениваются и ранжируются по их значимости, выделяя особо важные, которые предположительно оказывают наибольшее влияние на показатель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иаграмму вносится вся необходимая информация: ее название; наименование изделия; имена участников; дата и т.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79280" y="162756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д качеством управленческих ре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нимается совокупность свойств, обеспечивающих их успешное выполнение и получение определенного эффекта для организации. К числу таких свойств относятся обоснованность решения, эффективность, своевременность, непротиворечивость, правомочность, полномочность, конкретность, просто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основан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ческого решения проявляется в необходимости учета всей совокупности факторов и условий, связанных с его разработкой. При этом важное место отводится качеству используемой информации, ее достоверности и полноте, своевременности е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вленческого решения подчеркивает обязательность соотношения ожидаемого и достигнутого экономического и социального эффекта с затратами на его разработку и реал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= Эффект/Затраты на разработку и реализацию 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ктике деятельности предприятий находит применение показатель, косвенно характеризующий качество управленческих ре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к = ((Рв – Рн)/ Рп) х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Кк – коэффициент качества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 – количество выполненных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н – количество выполненных некачественны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п – общее количество принятых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войства качественных решений (продолжени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еврем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казатель, отражающий важность принятия решения в установленный срок, поскольку несвоевременно принятое решение либо теряет свою значимость, либо требует пересмотра ситуации, в которой возникла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отивореч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выражает необходимость его предварительного согласования с ранее принятыми в данной организации, а также проверки соответствия нормативно-правовым доку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мо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состоит в том, что оно должно приниматься на том уровне управления, который имеет на это соответствующие полномочия (законное право, осн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проявляется в четком указании: кто, что и когда должен вы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блемы (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Шевыреву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0" y="1413000"/>
            <a:ext cx="8748720" cy="5445000"/>
            <a:chOff x="0" y="1413000"/>
            <a:chExt cx="8748720" cy="5445000"/>
          </a:xfrm>
        </p:grpSpPr>
        <p:sp>
          <p:nvSpPr>
            <p:cNvPr id="213" name="AutoShape 6"/>
            <p:cNvSpPr/>
            <p:nvPr/>
          </p:nvSpPr>
          <p:spPr>
            <a:xfrm>
              <a:off x="0" y="1413000"/>
              <a:ext cx="8748720" cy="54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7"/>
            <p:cNvGrpSpPr/>
            <p:nvPr/>
          </p:nvGrpSpPr>
          <p:grpSpPr>
            <a:xfrm>
              <a:off x="393120" y="1465560"/>
              <a:ext cx="7855560" cy="5238000"/>
              <a:chOff x="393120" y="1465560"/>
              <a:chExt cx="7855560" cy="5238000"/>
            </a:xfrm>
          </p:grpSpPr>
          <p:sp>
            <p:nvSpPr>
              <p:cNvPr id="215" name="Rectangle 8"/>
              <p:cNvSpPr/>
              <p:nvPr/>
            </p:nvSpPr>
            <p:spPr>
              <a:xfrm>
                <a:off x="2836800" y="1465560"/>
                <a:ext cx="3090240" cy="16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Внешняя сре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9"/>
              <p:cNvSpPr/>
              <p:nvPr/>
            </p:nvSpPr>
            <p:spPr>
              <a:xfrm>
                <a:off x="3146400" y="2000520"/>
                <a:ext cx="2470320" cy="10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Внутреняя структура проблемы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Объект, субъект, цель, предмет, средства, ограни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393120" y="3298320"/>
                <a:ext cx="207900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Техник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1"/>
              <p:cNvSpPr/>
              <p:nvPr/>
            </p:nvSpPr>
            <p:spPr>
              <a:xfrm>
                <a:off x="6170040" y="331452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сихология 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3430800" y="476604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ыш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3"/>
              <p:cNvSpPr/>
              <p:nvPr/>
            </p:nvSpPr>
            <p:spPr>
              <a:xfrm>
                <a:off x="3403800" y="6111720"/>
                <a:ext cx="2213280" cy="59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 flipH="1" flipV="1">
                <a:off x="4064040" y="5901120"/>
                <a:ext cx="1404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4901400" y="58924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 flipV="1">
                <a:off x="5509440" y="4433040"/>
                <a:ext cx="1726560" cy="125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 flipH="1" flipV="1">
                <a:off x="1527120" y="4417200"/>
                <a:ext cx="191592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 flipV="1">
                <a:off x="1351800" y="2568600"/>
                <a:ext cx="1808640" cy="73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5617080" y="2576520"/>
                <a:ext cx="1632960" cy="73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ОКИ И ВИДЫ НЕОПРЕДЕ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преде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как не вполне отчетливая, неточная, неясная или уклончивая информация о каком либо объекте или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ритерию определенности различают решения, принятые в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ной определенности (рис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ости (ненаде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ятие решения в условиях определенности увеличивает оперативность разработки, снижает затраты на выбор целесообразн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количест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обусловленная значительным числом объектов или элементов в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информ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недостатком информации или ее неточностью по техническим, социальным или другим причи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тоимос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-за слишком высокой или недоступной платы за определ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професс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едствие недостаточного профессионализма Л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граничите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ограничениями в ситуации принятия решения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внешней 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вязанная с ее изменением или реакцией конкурента на принятое 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епени неопределенности информации о проблемной ситуации разли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ходной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заранее накопленной, априор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ератив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текущие сведения о состоянии объ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– связанная с невозможностью получения объективных знаний об объ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экстремальны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ервы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незначительно, есть возможность их предвидения, а следовательно, и подготовки к разрешению возникающих проблем. Эти ситуации разрешаются методами ситуационного управления, для чего разрабатываются специальные стандарты решений по выходу из экстремаль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торо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велико, что исключает предварительную подготовку к разрешению конкретных проблем. Для принятия решений, адекватных сложившейся ситуации, важное значение имеет специальная подготовка персонала, учитывающая временной цейтнот и психологическую перегруз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рети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епрогнозируемые ситуации. Выход из таких ситуаций полностью определяется действиями ЛПР, их интуитивными реш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 рис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мается вероятность наступления событий, в результате которых возможны непредвиденные потери дохода, имущества, денежных средств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им образом, принятие решений в условиях риска означает выбор варианта решения в условиях, когда каждое действие приводит к одному из множества возможных частных исходов, причём каждый исход имеет вычисляемую или экспертно определяемую вероятность по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сфера государственного регулирования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роли случайных факторов при взаимодействии организации с внешне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ая собств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ентная борьба товаропроизв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возникновения рисковых ситуаций на отдельных этапах жизненного цикл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ристков по источнику возникнов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4000" y="1353600"/>
            <a:ext cx="8640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иродно-естествен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роявлением стихийных сил природы (землетрясение, наводнение, буря, пожар, эпидемия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Эколог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загрязне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лит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олитической ситуацией в стране и деятельностью государства. Политические риски возникают при нарушении условий производственно- торгового процесса по причинам, непосредственно не зависящим от хозяйствующего субъ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ранспорт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еревозками грузов транспортом: автомобильным, морским, речным, железнодорож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ета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оммер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опасность потерь в процессе финансово-хозяйственной деятельности. Они могут появиться в результате снижения уровня продаж на рынке, повышения тарифов на перевозку грузов, колебания валютного ку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коммерческих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Имуще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вероятностью потерь имущества предпринимателя по причине кражи, диверсии, халатности, перенапряжения технической и технологической систем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Проuзвод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убытком от остановки производства вследствие воздействия различных факторов и, прежде всего, с гибелью или повреждением основных и оборотных фондов (оборудование, сырьё, транспорт и т.п.), а также риски, связанные с внедрением в производство новой техники и техноло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Торг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дставляют собой риски, связанные с убытком по причине задержки платежей, отказа от платежа в период транспортировки товара, непоставки товара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Финанс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заны с вероятностью потерь финансовых ресур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р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устим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имеется угроза полной потери прибыли от реализации планируемого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о непоступление прибыли и выручки, а также покрытие убытков за счёт средств предприним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строф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ы потеря капитала, имущества и банкротство предприним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Статис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статистическом анализе потерь, наблюдавшихся в аналогичных   видах хозяйственной деятельности, установлении их уровней и частоты появ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Экспертны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ется в сборе и обработке мнений опытных предпринимателей, менеджеров и специалистов, дающих свои оценки вероятности возникновения определённых уровней потерь в конкретных коммерческих операц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Расчётно-анали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азируется на математических моделях, предлагаемых теорией вероятностей, теорией игр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"/>
          <p:cNvGrpSpPr/>
          <p:nvPr/>
        </p:nvGrpSpPr>
        <p:grpSpPr>
          <a:xfrm>
            <a:off x="71280" y="142920"/>
            <a:ext cx="8858160" cy="6571800"/>
            <a:chOff x="71280" y="142920"/>
            <a:chExt cx="8858160" cy="6571800"/>
          </a:xfrm>
        </p:grpSpPr>
        <p:sp>
          <p:nvSpPr>
            <p:cNvPr id="228" name="Rectangle 6"/>
            <p:cNvSpPr/>
            <p:nvPr/>
          </p:nvSpPr>
          <p:spPr>
            <a:xfrm>
              <a:off x="71280" y="3037680"/>
              <a:ext cx="1283040" cy="10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ы управленческих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2417040" y="142920"/>
              <a:ext cx="231696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сточник возникнов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2432160" y="915480"/>
              <a:ext cx="233172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пособ доведения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2433240" y="17917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убъект принятия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2417040" y="24703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тепень новизны (уникальност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2401920" y="3211920"/>
              <a:ext cx="233028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Налич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2433240" y="4001400"/>
              <a:ext cx="2330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Методы разработки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2433240" y="471960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Целевая направле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2464920" y="551664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одержание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2449800" y="6210720"/>
              <a:ext cx="2327760" cy="4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ери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776600" y="379080"/>
              <a:ext cx="16200" cy="60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347480" y="358236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776600" y="38736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776600" y="1191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1776600" y="203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1776600" y="272268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2"/>
            <p:cNvSpPr/>
            <p:nvPr/>
          </p:nvSpPr>
          <p:spPr>
            <a:xfrm>
              <a:off x="1776600" y="4260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1776600" y="497124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1792800" y="5744160"/>
              <a:ext cx="6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1792800" y="644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6"/>
            <p:cNvSpPr/>
            <p:nvPr/>
          </p:nvSpPr>
          <p:spPr>
            <a:xfrm>
              <a:off x="5807160" y="158400"/>
              <a:ext cx="303012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ици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7"/>
            <p:cNvSpPr/>
            <p:nvPr/>
          </p:nvSpPr>
          <p:spPr>
            <a:xfrm>
              <a:off x="5807160" y="42624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 предписан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8"/>
            <p:cNvSpPr/>
            <p:nvPr/>
          </p:nvSpPr>
          <p:spPr>
            <a:xfrm>
              <a:off x="5792040" y="907560"/>
              <a:ext cx="30276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9"/>
            <p:cNvSpPr/>
            <p:nvPr/>
          </p:nvSpPr>
          <p:spPr>
            <a:xfrm>
              <a:off x="5792040" y="1206720"/>
              <a:ext cx="302760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ись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0"/>
            <p:cNvSpPr/>
            <p:nvPr/>
          </p:nvSpPr>
          <p:spPr>
            <a:xfrm>
              <a:off x="5807160" y="17910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дивиду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5807160" y="20988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ле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5823720" y="24775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ради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5825160" y="275328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вор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4"/>
            <p:cNvSpPr/>
            <p:nvPr/>
          </p:nvSpPr>
          <p:spPr>
            <a:xfrm>
              <a:off x="5825160" y="304524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5"/>
            <p:cNvSpPr/>
            <p:nvPr/>
          </p:nvSpPr>
          <p:spPr>
            <a:xfrm>
              <a:off x="5856840" y="330552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ероятно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5856840" y="355860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е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>
              <a:off x="5840280" y="39999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иче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8"/>
            <p:cNvSpPr/>
            <p:nvPr/>
          </p:nvSpPr>
          <p:spPr>
            <a:xfrm>
              <a:off x="5840280" y="4323240"/>
              <a:ext cx="302436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врист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5856840" y="47181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дн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0"/>
            <p:cNvSpPr/>
            <p:nvPr/>
          </p:nvSpPr>
          <p:spPr>
            <a:xfrm>
              <a:off x="5870520" y="49867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ног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1"/>
            <p:cNvSpPr/>
            <p:nvPr/>
          </p:nvSpPr>
          <p:spPr>
            <a:xfrm>
              <a:off x="5887080" y="52470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5887080" y="54993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3"/>
            <p:cNvSpPr/>
            <p:nvPr/>
          </p:nvSpPr>
          <p:spPr>
            <a:xfrm>
              <a:off x="5887080" y="57441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5903640" y="59886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рганиз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5903640" y="624924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лго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6"/>
            <p:cNvSpPr/>
            <p:nvPr/>
          </p:nvSpPr>
          <p:spPr>
            <a:xfrm>
              <a:off x="5888160" y="6532560"/>
              <a:ext cx="302328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ер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7"/>
            <p:cNvSpPr/>
            <p:nvPr/>
          </p:nvSpPr>
          <p:spPr>
            <a:xfrm>
              <a:off x="4775040" y="6336000"/>
              <a:ext cx="11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8"/>
            <p:cNvSpPr/>
            <p:nvPr/>
          </p:nvSpPr>
          <p:spPr>
            <a:xfrm>
              <a:off x="4791600" y="660384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9"/>
            <p:cNvSpPr/>
            <p:nvPr/>
          </p:nvSpPr>
          <p:spPr>
            <a:xfrm>
              <a:off x="5347080" y="534960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0"/>
            <p:cNvSpPr/>
            <p:nvPr/>
          </p:nvSpPr>
          <p:spPr>
            <a:xfrm>
              <a:off x="4791600" y="5752080"/>
              <a:ext cx="55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1"/>
            <p:cNvSpPr/>
            <p:nvPr/>
          </p:nvSpPr>
          <p:spPr>
            <a:xfrm>
              <a:off x="5347080" y="535716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2"/>
            <p:cNvSpPr/>
            <p:nvPr/>
          </p:nvSpPr>
          <p:spPr>
            <a:xfrm>
              <a:off x="5347080" y="559440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3"/>
            <p:cNvSpPr/>
            <p:nvPr/>
          </p:nvSpPr>
          <p:spPr>
            <a:xfrm>
              <a:off x="5347080" y="583884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4"/>
            <p:cNvSpPr/>
            <p:nvPr/>
          </p:nvSpPr>
          <p:spPr>
            <a:xfrm>
              <a:off x="5361840" y="60912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5"/>
            <p:cNvSpPr/>
            <p:nvPr/>
          </p:nvSpPr>
          <p:spPr>
            <a:xfrm>
              <a:off x="4760280" y="480492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6"/>
            <p:cNvSpPr/>
            <p:nvPr/>
          </p:nvSpPr>
          <p:spPr>
            <a:xfrm>
              <a:off x="4760280" y="5073480"/>
              <a:ext cx="11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4760280" y="407160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4760280" y="443448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5283720" y="3132720"/>
              <a:ext cx="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0"/>
            <p:cNvSpPr/>
            <p:nvPr/>
          </p:nvSpPr>
          <p:spPr>
            <a:xfrm>
              <a:off x="4727160" y="34243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1"/>
            <p:cNvSpPr/>
            <p:nvPr/>
          </p:nvSpPr>
          <p:spPr>
            <a:xfrm>
              <a:off x="5298840" y="3140640"/>
              <a:ext cx="540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2"/>
            <p:cNvSpPr/>
            <p:nvPr/>
          </p:nvSpPr>
          <p:spPr>
            <a:xfrm>
              <a:off x="5283720" y="3393000"/>
              <a:ext cx="57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3"/>
            <p:cNvSpPr/>
            <p:nvPr/>
          </p:nvSpPr>
          <p:spPr>
            <a:xfrm>
              <a:off x="5283720" y="3652560"/>
              <a:ext cx="570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4"/>
            <p:cNvSpPr/>
            <p:nvPr/>
          </p:nvSpPr>
          <p:spPr>
            <a:xfrm>
              <a:off x="4743720" y="254916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5"/>
            <p:cNvSpPr/>
            <p:nvPr/>
          </p:nvSpPr>
          <p:spPr>
            <a:xfrm>
              <a:off x="4743720" y="284832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6"/>
            <p:cNvSpPr/>
            <p:nvPr/>
          </p:nvSpPr>
          <p:spPr>
            <a:xfrm>
              <a:off x="4760280" y="1877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7"/>
            <p:cNvSpPr/>
            <p:nvPr/>
          </p:nvSpPr>
          <p:spPr>
            <a:xfrm>
              <a:off x="4760280" y="2201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8"/>
            <p:cNvSpPr/>
            <p:nvPr/>
          </p:nvSpPr>
          <p:spPr>
            <a:xfrm>
              <a:off x="4727160" y="22140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9"/>
            <p:cNvSpPr/>
            <p:nvPr/>
          </p:nvSpPr>
          <p:spPr>
            <a:xfrm>
              <a:off x="4727160" y="52128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0"/>
            <p:cNvSpPr/>
            <p:nvPr/>
          </p:nvSpPr>
          <p:spPr>
            <a:xfrm>
              <a:off x="4760280" y="101052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1"/>
            <p:cNvSpPr/>
            <p:nvPr/>
          </p:nvSpPr>
          <p:spPr>
            <a:xfrm>
              <a:off x="4760280" y="13024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риск-менедж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Риск-менеджмент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пециальная форма предпринимательской деятельности, которая направлена на управление рисками в организ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ыми задачами риск-менеджмент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выявление и классификация основных видов р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счёт адекватной и легко интерпретируемой количественной меры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принятие решений об уменьшении или увеличении выявленных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зработка и реализация процедур контроля за рисками текущих 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снижения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ежание риска - уклонения от мероприятия, связанного с рис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ание риска - оставление риска за инвестором (предполагая покрытие возможных убытков за счёт резервных средств инвесто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 риска - передача ответственности за риск, например, страховой комп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степени риска - уменьшение вероятности потерь и сокращение ожидаемого их объё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тегии снижения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щательная предварительная эксперт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риантов принимаемого решения и оценка соответствующих уровней р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ределение риска между несколькими объектами, видами деятельност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эффективных систем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зволяющих своевременно выявлять и предотвращать возможные поте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р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деление риска между участникам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ми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становление предельных сумм расходов, продажи товаров в кредит, сумм вложения капитала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на среднюю норму прибы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к. постоянное  стремление к более высокой прибыли существенно увеличивает р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о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чёт создания натуральных и денежных резервных (страховых) фон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исков в страховых организа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148360" y="2349000"/>
            <a:ext cx="373680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>
            <a:off x="826920" y="765000"/>
            <a:ext cx="7201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9" name="Picture 7" descr="j0234657"/>
          <p:cNvPicPr/>
          <p:nvPr/>
        </p:nvPicPr>
        <p:blipFill>
          <a:blip r:embed="rId1"/>
          <a:stretch/>
        </p:blipFill>
        <p:spPr>
          <a:xfrm>
            <a:off x="4859280" y="2421000"/>
            <a:ext cx="3816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нный цикл управленческого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"/>
          <p:cNvGrpSpPr/>
          <p:nvPr/>
        </p:nvGrpSpPr>
        <p:grpSpPr>
          <a:xfrm>
            <a:off x="324000" y="720720"/>
            <a:ext cx="8496000" cy="5948280"/>
            <a:chOff x="324000" y="720720"/>
            <a:chExt cx="8496000" cy="5948280"/>
          </a:xfrm>
        </p:grpSpPr>
        <p:sp>
          <p:nvSpPr>
            <p:cNvPr id="296" name="AutoShape 6"/>
            <p:cNvSpPr/>
            <p:nvPr/>
          </p:nvSpPr>
          <p:spPr>
            <a:xfrm>
              <a:off x="324000" y="720720"/>
              <a:ext cx="8496000" cy="59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6598080" y="2347560"/>
              <a:ext cx="2221560" cy="95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нализ эффективности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формирования банка данны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4295880" y="1259640"/>
              <a:ext cx="250740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еализация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1520" y="2871000"/>
              <a:ext cx="2247480" cy="60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нятие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"/>
            <p:cNvSpPr/>
            <p:nvPr/>
          </p:nvSpPr>
          <p:spPr>
            <a:xfrm>
              <a:off x="1544040" y="4460760"/>
              <a:ext cx="2166120" cy="63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работка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373320" y="5720400"/>
              <a:ext cx="2451960" cy="67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зникновение 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2"/>
            <p:cNvSpPr/>
            <p:nvPr/>
          </p:nvSpPr>
          <p:spPr>
            <a:xfrm flipV="1">
              <a:off x="1666440" y="5100480"/>
              <a:ext cx="1036080" cy="64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 flipV="1">
              <a:off x="3165480" y="3448800"/>
              <a:ext cx="463680" cy="99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 flipV="1">
              <a:off x="3901680" y="1906920"/>
              <a:ext cx="1442880" cy="92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6081120" y="1893240"/>
              <a:ext cx="171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585080" y="1246320"/>
              <a:ext cx="5994360" cy="2808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808000"/>
                <a:gd name="textAreaBottom" fmla="*/ 2808000 h 2808000"/>
              </a:gdLst>
              <a:ahLst/>
              <a:rect l="textAreaLeft" t="textAreaTop" r="textAreaRight" b="textAreaBottom"/>
              <a:pathLst>
                <a:path w="6600" h="6120">
                  <a:moveTo>
                    <a:pt x="0" y="6120"/>
                  </a:moveTo>
                  <a:cubicBezTo>
                    <a:pt x="450" y="6117"/>
                    <a:pt x="900" y="6115"/>
                    <a:pt x="1350" y="6030"/>
                  </a:cubicBezTo>
                  <a:cubicBezTo>
                    <a:pt x="1800" y="5945"/>
                    <a:pt x="2245" y="5830"/>
                    <a:pt x="2700" y="5610"/>
                  </a:cubicBezTo>
                  <a:cubicBezTo>
                    <a:pt x="3155" y="5390"/>
                    <a:pt x="3695" y="5120"/>
                    <a:pt x="4080" y="4710"/>
                  </a:cubicBezTo>
                  <a:cubicBezTo>
                    <a:pt x="4465" y="4300"/>
                    <a:pt x="4720" y="3675"/>
                    <a:pt x="5010" y="3150"/>
                  </a:cubicBezTo>
                  <a:cubicBezTo>
                    <a:pt x="5300" y="2625"/>
                    <a:pt x="5555" y="2085"/>
                    <a:pt x="5820" y="1560"/>
                  </a:cubicBezTo>
                  <a:cubicBezTo>
                    <a:pt x="6085" y="1035"/>
                    <a:pt x="6470" y="255"/>
                    <a:pt x="66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7"/>
            <p:cNvSpPr/>
            <p:nvPr/>
          </p:nvSpPr>
          <p:spPr>
            <a:xfrm>
              <a:off x="324000" y="3269880"/>
              <a:ext cx="1234080" cy="10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вая пробл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РАЗРАБОТКИ УПРАВЛЕНЧЕСКОГО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"/>
          <p:cNvGrpSpPr/>
          <p:nvPr/>
        </p:nvGrpSpPr>
        <p:grpSpPr>
          <a:xfrm>
            <a:off x="755640" y="973080"/>
            <a:ext cx="7919640" cy="5624640"/>
            <a:chOff x="755640" y="973080"/>
            <a:chExt cx="7919640" cy="5624640"/>
          </a:xfrm>
        </p:grpSpPr>
        <p:sp>
          <p:nvSpPr>
            <p:cNvPr id="310" name="Rectangle 6"/>
            <p:cNvSpPr/>
            <p:nvPr/>
          </p:nvSpPr>
          <p:spPr>
            <a:xfrm>
              <a:off x="937440" y="973080"/>
              <a:ext cx="7630560" cy="5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912600" y="1699200"/>
              <a:ext cx="763056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критериев решения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885240" y="2666520"/>
              <a:ext cx="77083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бор полной, достоверной и своевременной 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807840" y="3624480"/>
              <a:ext cx="77605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точне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780120" y="4739760"/>
              <a:ext cx="779040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работка альтернативных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755640" y="5730840"/>
              <a:ext cx="791964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ценка эффективности вариантов с точки зрения достижимости критериев, возможных рисков и их последствий, затраты на реализ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4780080" y="1468800"/>
              <a:ext cx="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4807800" y="226152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4833000" y="328608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4833000" y="4318200"/>
              <a:ext cx="0" cy="4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4885200" y="5400360"/>
              <a:ext cx="0" cy="3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продумыван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ение проблемы на ч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ение основных и второстепенных характеристик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 по всем возможным вариантам решения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ирование и анализ требуемы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рекомендаций к дей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продумывании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уменьшить объем проблемы, упростить 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поминает ситуация (какие ассоциации вызыва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ли аналоги в практике хозяйств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ли прецеденты в деятельности предприя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изменение сроков, кач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заменить, сжать, уплотн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остоит ри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ресурсы для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возможные варианты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26:28Z</dcterms:created>
  <dc:creator>иван</dc:creator>
  <dc:description/>
  <dc:language>en-US</dc:language>
  <cp:lastModifiedBy>egor</cp:lastModifiedBy>
  <dcterms:modified xsi:type="dcterms:W3CDTF">2011-06-23T11:44:45Z</dcterms:modified>
  <cp:revision>24</cp:revision>
  <dc:subject/>
  <dc:title>УПРАВЛЕНЧЕСКИЕ РЕШЕНИЯ</dc:title>
</cp:coreProperties>
</file>