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FB35-FCA3-453A-A993-C54E81D37F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950B-86FF-4DEE-AC2A-826C7202F0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Придумайте и нарисуйте (как можете) или напишите метафору, которую рождает у вас руководитель вашего О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766C-BF82-47F4-BC7F-C059C9EDEAC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"/>
          <p:cNvSpPr/>
          <p:nvPr/>
        </p:nvSpPr>
        <p:spPr>
          <a:xfrm>
            <a:off x="3886200" y="8636040"/>
            <a:ext cx="2970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84E805E-60BB-49E1-9CD8-179ED7525CA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706400" y="141120"/>
            <a:ext cx="3445200" cy="45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040" y="4368600"/>
            <a:ext cx="502596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521-6A38-407B-8336-47477299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E9B-6218-42ED-9D32-C91ACF55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223-34E3-49A9-AA7D-3A557D8A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8A6-7886-45A2-9A1B-2FEAF90E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95ED-6645-4BD4-A892-B209E465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1A1E-5884-412D-BC30-995F37F5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2608-1772-44AA-9AEE-39214691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5E5B-4481-4E70-8BD1-2926CF68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1DE9-4132-430F-B92C-AD99FFAC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85D5-5874-489C-9CCC-B62F2BCF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D898-CB65-4399-8B1A-66270D04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F22-80B1-4AC3-965F-5A8877C4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3901-5D7C-44D4-9091-10520E0B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F4E8-7F55-4E88-BEF9-5A03891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F5EC-4103-4F40-BB23-F4493C2F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AD10-00F7-4C28-9B97-D06174BE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65CF-DDC9-4A01-867F-FE81865D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FFF-A179-4974-82EA-7AA1B62D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230-4C11-4237-A420-1D4DAF8D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C54-7E08-4D7A-BE10-B66B98E2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E0C-91EF-41A6-A600-F3D74833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501-B0C8-4274-A2AB-6EF796AF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1AE-9C7B-4827-9ED8-D337E17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576-DEA1-4FA5-803C-64C892C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437F-609E-4C88-848A-3E2CBF075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FF1C-9C5A-402B-A093-DA4E44609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 и лиде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28560" y="4286160"/>
            <a:ext cx="6357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Гайнутдинов Рашид Минасхато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цент каф. менеджмента ГОАУ ИРО, к.пс.н</a:t>
            </a: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.Друк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же означает «быть настоящим лидером», если это не харизма и не определенное сочетание черт характера?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мение быть лидером – это прежде всего рабо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Большинство лидеров – трудоголи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.Черчилль: «Без значительных усилий невозможен даже незначительный успе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ормальные отношения и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енным элементом, характеризующим особенности ОК в учреждении, являются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формальн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коллективе, наличие и позиция неформальных лидеров к руководству и деятельности организ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 (неформальным лидерам) принадлежит значимая роль и у них имеются серьезные регулятивные возможности в формировании и функционировании ОК субъектного ти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дерство теперь – это не «железная ру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 должен уметь делиться своим успехом, и чем лучше он умеет это делать, тем больше шансов, что люди будут работать лучше, пойдут за н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современных условиях эффективное лидерство – это не железная или твердая рука, а высокая чувствительность к потребностям последователей, которая проявляется в развитии работников, во включении их в групповую работу, в оказании им помощи в достижении личных цел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, выступая как субъект управления, влияет на эффективность деятельности организации через стиль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иль в управлении – это предсказуе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ль – это индивидуальный способ использования социальных и психологических технологий в управл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азывает опыт, сотрудники предпочитают работать с предсказуемыми руководителями, обладающими определенными стилевыми особенностями,  которые сами управляют ситуацией, и своими эмоциями, а не становятся заложниками ситуации или рабами захлестывающих их эмоц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ность изменяться не изменяя с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 же время лишь уважения с их стороны заслуживает тот менеджер, который в острой, стрессовой ситуации может отойти от своих устойчивых демократических установок и привычек,  единолично принять твердое решение и последовательно, а если того требует ситуация, то и жестко провести его в жизн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ффективен не тот лидер, который «зимой и летом одним цветом», а тот который проявляет гибкость относительно ситуации, задач и особенностей коллектив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ДР и ОК: взаимовлия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енным фактором формирования коллектива, характеризующегося организационной культурой (ОК) субъектного типа является индивидуальный стиль деятельности руководителя (ИСДР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другой стороны, он же (ИСДР) является одним из важнейших индикаторов особенностей ОК данной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44560" y="1413000"/>
            <a:ext cx="7666200" cy="482436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90880" y="260280"/>
            <a:ext cx="827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: ПОЗИЦИОННОЕ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251000" y="2727360"/>
            <a:ext cx="6939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ведущее положение отдельной личности или социальной группы, обусловлен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олее эффективными результатами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93040" y="260280"/>
            <a:ext cx="84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: ДИНАМИЧЕСКОЕ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38360" y="2479680"/>
            <a:ext cx="7667280" cy="30481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101600" y="3176640"/>
            <a:ext cx="7326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процесс вовлечения членов группы в деятельность по достижению поставленной цели (наличие последователей, сторон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1000080" y="210816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 делает вещи правиль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 лидер делает правильные ве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333360"/>
          <a:ext cx="9144000" cy="5711760"/>
        </p:xfrm>
        <a:graphic>
          <a:graphicData uri="http://schemas.openxmlformats.org/drawingml/2006/table">
            <a:tbl>
              <a:tblPr/>
              <a:tblGrid>
                <a:gridCol w="4516560"/>
                <a:gridCol w="46274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55eb1"/>
                          </a:solidFill>
                          <a:latin typeface="Times New Roman"/>
                          <a:ea typeface="Arial Unicode MS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5eb1"/>
                          </a:solidFill>
                          <a:latin typeface="Times New Roman"/>
                          <a:ea typeface="Arial Unicode MS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дминист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Иннов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руч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дохновл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ботает по целям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ботает по своим ц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лан основа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иден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лагается на систем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лагается на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спользует доводы, ф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спользует эмо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тролиру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вер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ддерживает 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аёт импульс движ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офесси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Энтузиа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инимает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Превращает решения в ре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елает дело прави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Делает правильн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лжны ува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лжны обо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просы для группового обсуж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052280"/>
            <a:ext cx="8496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то такой лидер, что такое лидерство? Какие бывают лидеры  в ОО? Каковы признаки проявления лидерств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ами рождаются или становятс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 должен быть один в коллективе? Или их может быть нескольк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ем сущностное отличие лидера и руководителя? Провели бы вы знак равенства между лидером и менеджеро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лучше и для кого лучше: лидер=руководитель? Лидер ≠ руководитель? Лидер+руководител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е есть возможности проявления лидерства на вашей пози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ивает ли образовательная организация/её первое лицо каким-либо образом сотрудников с высоким лидерским потенциалом? Какими средствами, способам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нужно делать в условиях ОО, чтобы появились лидеры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276120" y="228600"/>
            <a:ext cx="67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И ПРИНЯТИЕ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Группа 41"/>
          <p:cNvGrpSpPr/>
          <p:nvPr/>
        </p:nvGrpSpPr>
        <p:grpSpPr>
          <a:xfrm>
            <a:off x="714240" y="812880"/>
            <a:ext cx="8143920" cy="5603760"/>
            <a:chOff x="714240" y="812880"/>
            <a:chExt cx="8143920" cy="5603760"/>
          </a:xfrm>
        </p:grpSpPr>
        <p:sp>
          <p:nvSpPr>
            <p:cNvPr id="126" name="TextBox 15"/>
            <p:cNvSpPr/>
            <p:nvPr/>
          </p:nvSpPr>
          <p:spPr>
            <a:xfrm>
              <a:off x="785520" y="812880"/>
              <a:ext cx="77155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дер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уровень-стратегический; 2ур.- исполнительный; 3ур.- лидер груп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Группа 40"/>
            <p:cNvGrpSpPr/>
            <p:nvPr/>
          </p:nvGrpSpPr>
          <p:grpSpPr>
            <a:xfrm>
              <a:off x="714240" y="1270080"/>
              <a:ext cx="8143920" cy="5146560"/>
              <a:chOff x="714240" y="1270080"/>
              <a:chExt cx="8143920" cy="5146560"/>
            </a:xfrm>
          </p:grpSpPr>
          <p:grpSp>
            <p:nvGrpSpPr>
              <p:cNvPr id="128" name="Группа 14"/>
              <p:cNvGrpSpPr/>
              <p:nvPr/>
            </p:nvGrpSpPr>
            <p:grpSpPr>
              <a:xfrm>
                <a:off x="2988720" y="1270080"/>
                <a:ext cx="2900520" cy="4585680"/>
                <a:chOff x="2988720" y="1270080"/>
                <a:chExt cx="2900520" cy="4585680"/>
              </a:xfrm>
            </p:grpSpPr>
            <p:sp>
              <p:nvSpPr>
                <p:cNvPr id="129" name="Равнобедренный треугольник 3"/>
                <p:cNvSpPr/>
                <p:nvPr/>
              </p:nvSpPr>
              <p:spPr>
                <a:xfrm>
                  <a:off x="2999880" y="1406520"/>
                  <a:ext cx="2880720" cy="444888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Прямая со стрелкой 5"/>
                <p:cNvCxnSpPr/>
                <p:nvPr/>
              </p:nvCxnSpPr>
              <p:spPr>
                <a:xfrm flipH="1" flipV="1">
                  <a:off x="2988720" y="1407600"/>
                  <a:ext cx="2160" cy="4448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1" name="Прямая со стрелкой 7"/>
                <p:cNvCxnSpPr>
                  <a:endCxn id="129" idx="0"/>
                </p:cNvCxnSpPr>
                <p:nvPr/>
              </p:nvCxnSpPr>
              <p:spPr>
                <a:xfrm>
                  <a:off x="2999520" y="1406520"/>
                  <a:ext cx="1441080" cy="2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2" name="Прямая со стрелкой 9"/>
                <p:cNvCxnSpPr/>
                <p:nvPr/>
              </p:nvCxnSpPr>
              <p:spPr>
                <a:xfrm>
                  <a:off x="5868720" y="1430280"/>
                  <a:ext cx="20880" cy="44258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3" name="Прямая со стрелкой 11"/>
                <p:cNvCxnSpPr/>
                <p:nvPr/>
              </p:nvCxnSpPr>
              <p:spPr>
                <a:xfrm>
                  <a:off x="4445280" y="1419120"/>
                  <a:ext cx="1439280" cy="2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134" name="Овал 12"/>
                <p:cNvSpPr/>
                <p:nvPr/>
              </p:nvSpPr>
              <p:spPr>
                <a:xfrm>
                  <a:off x="4307040" y="1270080"/>
                  <a:ext cx="264960" cy="2635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TextBox 13"/>
              <p:cNvSpPr/>
              <p:nvPr/>
            </p:nvSpPr>
            <p:spPr>
              <a:xfrm>
                <a:off x="3319200" y="5956920"/>
                <a:ext cx="25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нешняя сред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16"/>
              <p:cNvSpPr/>
              <p:nvPr/>
            </p:nvSpPr>
            <p:spPr>
              <a:xfrm>
                <a:off x="714240" y="2870280"/>
                <a:ext cx="26085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осходяще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аправлени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ммуникаци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Box 17"/>
              <p:cNvSpPr/>
              <p:nvPr/>
            </p:nvSpPr>
            <p:spPr>
              <a:xfrm>
                <a:off x="6236280" y="2870280"/>
                <a:ext cx="2621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исходяще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направлени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ммуникаци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Прямая соединительная линия 19"/>
              <p:cNvSpPr/>
              <p:nvPr/>
            </p:nvSpPr>
            <p:spPr>
              <a:xfrm>
                <a:off x="4243320" y="2108160"/>
                <a:ext cx="42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22"/>
              <p:cNvSpPr/>
              <p:nvPr/>
            </p:nvSpPr>
            <p:spPr>
              <a:xfrm>
                <a:off x="4090680" y="2603520"/>
                <a:ext cx="761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Прямая соединительная линия 26"/>
              <p:cNvSpPr/>
              <p:nvPr/>
            </p:nvSpPr>
            <p:spPr>
              <a:xfrm>
                <a:off x="3892320" y="3086280"/>
                <a:ext cx="113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Прямая соединительная линия 30"/>
              <p:cNvSpPr/>
              <p:nvPr/>
            </p:nvSpPr>
            <p:spPr>
              <a:xfrm flipV="1">
                <a:off x="3720240" y="3605400"/>
                <a:ext cx="1438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ая соединительная линия 32"/>
              <p:cNvSpPr/>
              <p:nvPr/>
            </p:nvSpPr>
            <p:spPr>
              <a:xfrm flipV="1">
                <a:off x="3609720" y="4051440"/>
                <a:ext cx="16653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34"/>
              <p:cNvSpPr/>
              <p:nvPr/>
            </p:nvSpPr>
            <p:spPr>
              <a:xfrm flipV="1">
                <a:off x="3411360" y="4559040"/>
                <a:ext cx="202716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Прямая соединительная линия 37"/>
              <p:cNvSpPr/>
              <p:nvPr/>
            </p:nvSpPr>
            <p:spPr>
              <a:xfrm flipV="1">
                <a:off x="3305160" y="5003640"/>
                <a:ext cx="229860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Прямая соединительная линия 39"/>
              <p:cNvSpPr/>
              <p:nvPr/>
            </p:nvSpPr>
            <p:spPr>
              <a:xfrm flipV="1">
                <a:off x="3165120" y="5397840"/>
                <a:ext cx="255420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Прямая соединительная линия 42"/>
              <p:cNvSpPr/>
              <p:nvPr/>
            </p:nvSpPr>
            <p:spPr>
              <a:xfrm flipV="1">
                <a:off x="2989080" y="209520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Прямая соединительная линия 47"/>
              <p:cNvSpPr/>
              <p:nvPr/>
            </p:nvSpPr>
            <p:spPr>
              <a:xfrm flipV="1">
                <a:off x="2977920" y="2590560"/>
                <a:ext cx="28940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Прямая соединительная линия 48"/>
              <p:cNvSpPr/>
              <p:nvPr/>
            </p:nvSpPr>
            <p:spPr>
              <a:xfrm flipV="1">
                <a:off x="2977920" y="3072960"/>
                <a:ext cx="28940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Прямая соединительная линия 49"/>
              <p:cNvSpPr/>
              <p:nvPr/>
            </p:nvSpPr>
            <p:spPr>
              <a:xfrm flipV="1">
                <a:off x="2989080" y="35938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ая соединительная линия 50"/>
              <p:cNvSpPr/>
              <p:nvPr/>
            </p:nvSpPr>
            <p:spPr>
              <a:xfrm flipV="1">
                <a:off x="2989080" y="40510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ая соединительная линия 51"/>
              <p:cNvSpPr/>
              <p:nvPr/>
            </p:nvSpPr>
            <p:spPr>
              <a:xfrm flipV="1">
                <a:off x="2989080" y="455904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ая соединительная линия 52"/>
              <p:cNvSpPr/>
              <p:nvPr/>
            </p:nvSpPr>
            <p:spPr>
              <a:xfrm flipV="1">
                <a:off x="3000240" y="500364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ая соединительная линия 53"/>
              <p:cNvSpPr/>
              <p:nvPr/>
            </p:nvSpPr>
            <p:spPr>
              <a:xfrm flipV="1">
                <a:off x="3000240" y="53974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54"/>
              <p:cNvSpPr/>
              <p:nvPr/>
            </p:nvSpPr>
            <p:spPr>
              <a:xfrm>
                <a:off x="6674040" y="4483440"/>
                <a:ext cx="169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ровни</a:t>
                </a:r>
                <a:br>
                  <a:rPr sz="2000"/>
                </a:b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правле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" name="Прямая со стрелкой 56"/>
              <p:cNvCxnSpPr/>
              <p:nvPr/>
            </p:nvCxnSpPr>
            <p:spPr>
              <a:xfrm flipH="1" flipV="1">
                <a:off x="5226840" y="2120040"/>
                <a:ext cx="1384920" cy="2629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6" name="Прямая со стрелкой 58"/>
              <p:cNvCxnSpPr/>
              <p:nvPr/>
            </p:nvCxnSpPr>
            <p:spPr>
              <a:xfrm flipH="1" flipV="1">
                <a:off x="5028840" y="2602800"/>
                <a:ext cx="1605600" cy="2159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7" name="Прямая со стрелкой 60"/>
              <p:cNvCxnSpPr/>
              <p:nvPr/>
            </p:nvCxnSpPr>
            <p:spPr>
              <a:xfrm flipH="1" flipV="1">
                <a:off x="5555880" y="4063320"/>
                <a:ext cx="1056240" cy="724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8" name="Прямая со стрелкой 62"/>
              <p:cNvCxnSpPr/>
              <p:nvPr/>
            </p:nvCxnSpPr>
            <p:spPr>
              <a:xfrm flipH="1" flipV="1">
                <a:off x="5790240" y="4559040"/>
                <a:ext cx="86724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9" name="Прямая со стрелкой 64"/>
              <p:cNvCxnSpPr/>
              <p:nvPr/>
            </p:nvCxnSpPr>
            <p:spPr>
              <a:xfrm flipH="1" flipV="1">
                <a:off x="5473080" y="3593520"/>
                <a:ext cx="1184760" cy="120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0" name="Прямая со стрелкой 66"/>
              <p:cNvCxnSpPr/>
              <p:nvPr/>
            </p:nvCxnSpPr>
            <p:spPr>
              <a:xfrm flipH="1">
                <a:off x="5836320" y="4825080"/>
                <a:ext cx="8103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1" name="Прямая со стрелкой 68"/>
              <p:cNvCxnSpPr/>
              <p:nvPr/>
            </p:nvCxnSpPr>
            <p:spPr>
              <a:xfrm flipH="1">
                <a:off x="5836320" y="4826160"/>
                <a:ext cx="834120" cy="55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2" name="Прямая со стрелкой 70"/>
              <p:cNvCxnSpPr/>
              <p:nvPr/>
            </p:nvCxnSpPr>
            <p:spPr>
              <a:xfrm flipH="1" flipV="1">
                <a:off x="5181120" y="3085560"/>
                <a:ext cx="1512000" cy="1740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63" name="Прямоугольник 43"/>
          <p:cNvSpPr/>
          <p:nvPr/>
        </p:nvSpPr>
        <p:spPr>
          <a:xfrm>
            <a:off x="928800" y="4714920"/>
            <a:ext cx="2000160" cy="1071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ризонтальное направление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61"/>
          <p:cNvCxnSpPr/>
          <p:nvPr/>
        </p:nvCxnSpPr>
        <p:spPr>
          <a:xfrm>
            <a:off x="3000240" y="5000760"/>
            <a:ext cx="28584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779760" y="1146240"/>
            <a:ext cx="236592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ллект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677400" y="1146240"/>
            <a:ext cx="212040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ты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6728760" y="1146240"/>
            <a:ext cx="201528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обрет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500040" y="1752480"/>
            <a:ext cx="264636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305160" y="1752480"/>
            <a:ext cx="281448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286680" y="1752480"/>
            <a:ext cx="264636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70120" y="1803240"/>
            <a:ext cx="204588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 и лог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ссуд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ниц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игин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к концепту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ние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ость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юбопытств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и познав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ая инту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326760" y="1803240"/>
            <a:ext cx="2978280" cy="47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ициа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иб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д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зидательность и твор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ичная цело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мел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еренность в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авновеш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мбициоз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сть в достиж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стойчивость и упор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нерг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оспособ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ресс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емление к превосходст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к эм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324840" y="1803240"/>
            <a:ext cx="2837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заручитьс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поддерж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сотруднич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завоевыва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популярность и прести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акт и диплома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брать на себя рис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и ответ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убеж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менять себ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быть надеж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шутить и понима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ю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збираться в люд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14920" y="260280"/>
            <a:ext cx="743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ЧЕСТВА, ЧАСТО ВСТРЕЧАЮЩИЕСЯ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ПЕШНЫХ ЛИД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жек Уэлч (президен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284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ль менеджмента так образно и кратко отразил суть работы руководител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оя работа – ходить вокруг клумбы с лейкой в одной руке и мешком с удобрениями в другой и следить, чтобы все растения цвели и пах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поведенческие теории лид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умерные модели стилей руководст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5eb1"/>
                </a:solidFill>
                <a:latin typeface="Albertus Extra Bold"/>
              </a:rPr>
              <a:t>Теории руководства и лидер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57200" y="2041560"/>
            <a:ext cx="2133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Личностная теория лидерства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руководителей характерен определенный набор личных качеств и нав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971800" y="1981080"/>
            <a:ext cx="26668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Теории «Х» и «У» МакГре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55e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Автократический, демократический и либеральный ст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Двухмерные трактовки стилей руко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715000" y="1981080"/>
            <a:ext cx="33526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 руководства Фид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жизненного цикла Херси и Бланш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«путь-цель» Ха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 принятия решений             Врума-Йет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1066680" y="18288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4143240" y="1000080"/>
            <a:ext cx="460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10666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73152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ум лидерского поведения по Р. Танненбауму и У. Шмид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785880" y="1857240"/>
            <a:ext cx="7487640" cy="4817880"/>
            <a:chOff x="785880" y="1857240"/>
            <a:chExt cx="7487640" cy="4817880"/>
          </a:xfrm>
        </p:grpSpPr>
        <p:sp>
          <p:nvSpPr>
            <p:cNvPr id="188" name="Line 4"/>
            <p:cNvSpPr/>
            <p:nvPr/>
          </p:nvSpPr>
          <p:spPr>
            <a:xfrm flipV="1">
              <a:off x="147924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5"/>
            <p:cNvGrpSpPr/>
            <p:nvPr/>
          </p:nvGrpSpPr>
          <p:grpSpPr>
            <a:xfrm>
              <a:off x="785880" y="1857240"/>
              <a:ext cx="7487640" cy="4817880"/>
              <a:chOff x="785880" y="1857240"/>
              <a:chExt cx="7487640" cy="4817880"/>
            </a:xfrm>
          </p:grpSpPr>
          <p:grpSp>
            <p:nvGrpSpPr>
              <p:cNvPr id="190" name="Group 6"/>
              <p:cNvGrpSpPr/>
              <p:nvPr/>
            </p:nvGrpSpPr>
            <p:grpSpPr>
              <a:xfrm>
                <a:off x="785880" y="1857240"/>
                <a:ext cx="6932880" cy="2551320"/>
                <a:chOff x="785880" y="1857240"/>
                <a:chExt cx="6932880" cy="2551320"/>
              </a:xfrm>
            </p:grpSpPr>
            <p:grpSp>
              <p:nvGrpSpPr>
                <p:cNvPr id="191" name="Group 7"/>
                <p:cNvGrpSpPr/>
                <p:nvPr/>
              </p:nvGrpSpPr>
              <p:grpSpPr>
                <a:xfrm>
                  <a:off x="1340280" y="1857240"/>
                  <a:ext cx="6378480" cy="2343600"/>
                  <a:chOff x="1340280" y="1857240"/>
                  <a:chExt cx="6378480" cy="2343600"/>
                </a:xfrm>
              </p:grpSpPr>
              <p:sp>
                <p:nvSpPr>
                  <p:cNvPr id="192" name="Line 8"/>
                  <p:cNvSpPr/>
                  <p:nvPr/>
                </p:nvSpPr>
                <p:spPr>
                  <a:xfrm>
                    <a:off x="2476440" y="1857240"/>
                    <a:ext cx="388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" name="Group 9"/>
                  <p:cNvGrpSpPr/>
                  <p:nvPr/>
                </p:nvGrpSpPr>
                <p:grpSpPr>
                  <a:xfrm>
                    <a:off x="1340280" y="2683800"/>
                    <a:ext cx="6378480" cy="1517040"/>
                    <a:chOff x="1340280" y="2683800"/>
                    <a:chExt cx="6378480" cy="1517040"/>
                  </a:xfrm>
                </p:grpSpPr>
                <p:grpSp>
                  <p:nvGrpSpPr>
                    <p:cNvPr id="194" name="Group 10"/>
                    <p:cNvGrpSpPr/>
                    <p:nvPr/>
                  </p:nvGrpSpPr>
                  <p:grpSpPr>
                    <a:xfrm>
                      <a:off x="1478880" y="2683800"/>
                      <a:ext cx="6101280" cy="1517040"/>
                      <a:chOff x="1478880" y="2683800"/>
                      <a:chExt cx="6101280" cy="1517040"/>
                    </a:xfrm>
                  </p:grpSpPr>
                  <p:sp>
                    <p:nvSpPr>
                      <p:cNvPr id="195" name="Rectangle 11"/>
                      <p:cNvSpPr/>
                      <p:nvPr/>
                    </p:nvSpPr>
                    <p:spPr>
                      <a:xfrm>
                        <a:off x="1478880" y="2683800"/>
                        <a:ext cx="6101280" cy="1517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Line 12"/>
                      <p:cNvSpPr/>
                      <p:nvPr/>
                    </p:nvSpPr>
                    <p:spPr>
                      <a:xfrm flipH="1">
                        <a:off x="1478880" y="2683800"/>
                        <a:ext cx="6101280" cy="1517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7" name="Line 13"/>
                    <p:cNvSpPr/>
                    <p:nvPr/>
                  </p:nvSpPr>
                  <p:spPr>
                    <a:xfrm>
                      <a:off x="7718760" y="2683800"/>
                      <a:ext cx="0" cy="1517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14"/>
                    <p:cNvSpPr/>
                    <p:nvPr/>
                  </p:nvSpPr>
                  <p:spPr>
                    <a:xfrm>
                      <a:off x="1340280" y="2683800"/>
                      <a:ext cx="0" cy="1517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9" name="Group 15"/>
                <p:cNvGrpSpPr/>
                <p:nvPr/>
              </p:nvGrpSpPr>
              <p:grpSpPr>
                <a:xfrm>
                  <a:off x="785880" y="2683800"/>
                  <a:ext cx="6656040" cy="1724760"/>
                  <a:chOff x="785880" y="2683800"/>
                  <a:chExt cx="6656040" cy="1724760"/>
                </a:xfrm>
              </p:grpSpPr>
              <p:sp>
                <p:nvSpPr>
                  <p:cNvPr id="200" name="Text Box 16"/>
                  <p:cNvSpPr/>
                  <p:nvPr/>
                </p:nvSpPr>
                <p:spPr>
                  <a:xfrm>
                    <a:off x="785880" y="2683800"/>
                    <a:ext cx="388800" cy="172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Источник полномочи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17"/>
                  <p:cNvSpPr/>
                  <p:nvPr/>
                </p:nvSpPr>
                <p:spPr>
                  <a:xfrm>
                    <a:off x="1617480" y="2913840"/>
                    <a:ext cx="1663920" cy="57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Область свободы для последователе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Text Box 18"/>
                  <p:cNvSpPr/>
                  <p:nvPr/>
                </p:nvSpPr>
                <p:spPr>
                  <a:xfrm>
                    <a:off x="5916600" y="3718800"/>
                    <a:ext cx="152532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Использование власти лидеро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" name="Group 19"/>
              <p:cNvGrpSpPr/>
              <p:nvPr/>
            </p:nvGrpSpPr>
            <p:grpSpPr>
              <a:xfrm>
                <a:off x="785880" y="4345560"/>
                <a:ext cx="7487640" cy="2329560"/>
                <a:chOff x="785880" y="4345560"/>
                <a:chExt cx="7487640" cy="2329560"/>
              </a:xfrm>
            </p:grpSpPr>
            <p:sp>
              <p:nvSpPr>
                <p:cNvPr id="204" name="Text Box 20"/>
                <p:cNvSpPr/>
                <p:nvPr/>
              </p:nvSpPr>
              <p:spPr>
                <a:xfrm>
                  <a:off x="7441920" y="4345560"/>
                  <a:ext cx="831600" cy="235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вла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21"/>
                <p:cNvSpPr/>
                <p:nvPr/>
              </p:nvSpPr>
              <p:spPr>
                <a:xfrm>
                  <a:off x="785880" y="4744800"/>
                  <a:ext cx="1109160" cy="183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озволяет последо-вателям действовать в рамках, опреде-ленных руководи-теле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22"/>
                <p:cNvSpPr/>
                <p:nvPr/>
              </p:nvSpPr>
              <p:spPr>
                <a:xfrm>
                  <a:off x="1756440" y="5319720"/>
                  <a:ext cx="1109160" cy="114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устанав-ливает рамки, просит группу принять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23"/>
                <p:cNvSpPr/>
                <p:nvPr/>
              </p:nvSpPr>
              <p:spPr>
                <a:xfrm>
                  <a:off x="2865600" y="4744800"/>
                  <a:ext cx="1109160" cy="183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едставляет проблему, выслу-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шивает предло-жения и принимает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24"/>
                <p:cNvSpPr/>
                <p:nvPr/>
              </p:nvSpPr>
              <p:spPr>
                <a:xfrm>
                  <a:off x="3975120" y="5204880"/>
                  <a:ext cx="1109160" cy="147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едставляет предвари-тельное решение, которое может быть изменен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25"/>
                <p:cNvSpPr/>
                <p:nvPr/>
              </p:nvSpPr>
              <p:spPr>
                <a:xfrm>
                  <a:off x="5084640" y="4744800"/>
                  <a:ext cx="1109160" cy="1035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выдвигает идеи и инициирует вопросы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26"/>
                <p:cNvSpPr/>
                <p:nvPr/>
              </p:nvSpPr>
              <p:spPr>
                <a:xfrm>
                  <a:off x="6055200" y="5319720"/>
                  <a:ext cx="1109160" cy="57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«продает»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7"/>
                <p:cNvSpPr/>
                <p:nvPr/>
              </p:nvSpPr>
              <p:spPr>
                <a:xfrm>
                  <a:off x="7026120" y="4744800"/>
                  <a:ext cx="1109160" cy="804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инимает решение и объявляет о не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Line 28"/>
            <p:cNvSpPr/>
            <p:nvPr/>
          </p:nvSpPr>
          <p:spPr>
            <a:xfrm flipV="1">
              <a:off x="231120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9"/>
            <p:cNvSpPr/>
            <p:nvPr/>
          </p:nvSpPr>
          <p:spPr>
            <a:xfrm flipV="1">
              <a:off x="342036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452988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 flipV="1">
              <a:off x="563904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2"/>
            <p:cNvSpPr/>
            <p:nvPr/>
          </p:nvSpPr>
          <p:spPr>
            <a:xfrm flipV="1">
              <a:off x="660996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3"/>
            <p:cNvSpPr/>
            <p:nvPr/>
          </p:nvSpPr>
          <p:spPr>
            <a:xfrm flipV="1">
              <a:off x="744192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34"/>
          <p:cNvSpPr/>
          <p:nvPr/>
        </p:nvSpPr>
        <p:spPr>
          <a:xfrm>
            <a:off x="611280" y="1628640"/>
            <a:ext cx="1728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мократиче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е на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5"/>
          <p:cNvSpPr/>
          <p:nvPr/>
        </p:nvSpPr>
        <p:spPr>
          <a:xfrm>
            <a:off x="3564000" y="1916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лид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6"/>
          <p:cNvSpPr/>
          <p:nvPr/>
        </p:nvSpPr>
        <p:spPr>
          <a:xfrm>
            <a:off x="6516720" y="1628640"/>
            <a:ext cx="1511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итар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е на задач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ая решетка Блейка-Моуто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79280" y="1052640"/>
          <a:ext cx="8425080" cy="5668920"/>
        </p:xfrm>
        <a:graphic>
          <a:graphicData uri="http://schemas.openxmlformats.org/drawingml/2006/table">
            <a:tbl>
              <a:tblPr/>
              <a:tblGrid>
                <a:gridCol w="1079640"/>
                <a:gridCol w="399960"/>
                <a:gridCol w="801720"/>
                <a:gridCol w="801720"/>
                <a:gridCol w="801720"/>
                <a:gridCol w="801720"/>
                <a:gridCol w="801720"/>
                <a:gridCol w="801720"/>
                <a:gridCol w="801720"/>
                <a:gridCol w="801360"/>
                <a:gridCol w="532080"/>
              </a:tblGrid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rowSpan="9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ета интересов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ета интересов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3" name="Text Box 139"/>
          <p:cNvSpPr/>
          <p:nvPr/>
        </p:nvSpPr>
        <p:spPr>
          <a:xfrm>
            <a:off x="1908000" y="1125360"/>
            <a:ext cx="3095640" cy="13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 духе загородного клу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упулезное внимание к удовлетворению потребностей людей ведет к созданию комфортной и дружелюбной атмосферы и рабочему ритму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0"/>
          <p:cNvSpPr/>
          <p:nvPr/>
        </p:nvSpPr>
        <p:spPr>
          <a:xfrm>
            <a:off x="5292720" y="4508640"/>
            <a:ext cx="3166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ь - подчи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производства зависит от создания таких рабочих условий, где человеческие аспекты присутствуют в минимальной сте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1"/>
          <p:cNvSpPr/>
          <p:nvPr/>
        </p:nvSpPr>
        <p:spPr>
          <a:xfrm>
            <a:off x="1835280" y="4437000"/>
            <a:ext cx="3168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дне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минимальных усилий для достижения необходимых производственных результатов достаточно для сохранения членств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2"/>
          <p:cNvSpPr/>
          <p:nvPr/>
        </p:nvSpPr>
        <p:spPr>
          <a:xfrm>
            <a:off x="5292720" y="1125360"/>
            <a:ext cx="324000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е успехи обусловлены преданными своей работе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через общее стремление к организационным целям ведет к созданию взаимоотношений, основанных на доверии и ува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3"/>
          <p:cNvSpPr/>
          <p:nvPr/>
        </p:nvSpPr>
        <p:spPr>
          <a:xfrm>
            <a:off x="3708360" y="2781360"/>
            <a:ext cx="295272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78580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инантная» лич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если необходимо преодолеть оппозицию и конкурен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елена на немедленн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уждает действия, сдвигает вещи с мертвой  т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брошенные вызо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быстр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ит существующие состояния под вопр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ует авторитета, берет на себя команд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зывает трудности в процессах, осуществляемых в ходе работы в коман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ет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инантной личности требуются другие сотрудники, которы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вешивают все «за» и «проти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ют и просчитывают факторы р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уют с осторож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уют безопасное ок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уют основы и проверяют дет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авливают хорошо продуманные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нимают и признают потребности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ициатив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когда необходимо привлечь на свою сторону других и объедини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язывает конт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ит хорошее впечат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о и ясно выражает свои мы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ет мотивирующую атмосферу и окру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остраняет воодуше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ним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чет помогать друг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хотно работает в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ьность лидерства в управлении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сегодня не может быть не инновационны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положение действительно не только для коммерческих структур, где усиливающаяся конкуренция требует постоянных изменений, но также и для О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О могут стать базой позитивных изменений в стране, но могут и «законсервировать» сложившуюся ментальность человеческого капитала в Рос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чь не о том, чтобы сделать изменения самоцелью, а о том, что необходимость перемен должна быть осознанна, принята педагогами и выработаны направления изменений, методы, стимулирующие необходимые инновации в коллектива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для этого руководители должны стать лидер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тите быть лидером – учитесь управлять процессом изменений;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ициативной личности требуются другие сотрудники, которы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ируются 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дач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иентируются на фа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о и прямо говор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ажают искр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атывают систематические подх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имаются охотнее с вещами, чем с людь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рутся за решение задач с помощью лог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 проверяют ход процессов от начала до кон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остоян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ает однажды принятые рабочие оп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хотно остается на одном рабочем ме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рпел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ет специализированное масте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ируется на задач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яльна и проявляет вер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роший слуш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покаивает возбужденны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чности с постоянным поведением требуются другие сотрудники, которы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гируют на неожиданные из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нательно вызываются на новы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работать одновременно над несколькими задач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оказывать давление на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работать в неурегулированной, непредвиденной обстанов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егировать задания друг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менять методы и формы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Тщатель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когда используются известные и хорошо зарекомендовавшие себя подходы для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ет распоряжениям и предписаниям стандар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нтрируется на важных детал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ет в урегулированных услов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ходится дипломатично с люд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т на 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мает критич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иняется авторит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щательной личности требуются другие сотрудники, котор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тят расширить сферу своей ответств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едают важные задачи на исполнение други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принимать быстрые ре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пользуют принципиальные регулирующие положения только как директив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дут на компромиссы с оппозици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сказывают и излагают непопулярные точки зр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831960"/>
                <a:gridCol w="830160"/>
                <a:gridCol w="831960"/>
                <a:gridCol w="831600"/>
                <a:gridCol w="830520"/>
                <a:gridCol w="831600"/>
                <a:gridCol w="830520"/>
                <a:gridCol w="831600"/>
                <a:gridCol w="831960"/>
                <a:gridCol w="830160"/>
                <a:gridCol w="831960"/>
              </a:tblGrid>
              <a:tr h="73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ч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     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Line 1"/>
          <p:cNvSpPr/>
          <p:nvPr/>
        </p:nvSpPr>
        <p:spPr>
          <a:xfrm>
            <a:off x="-85680" y="15840"/>
            <a:ext cx="173988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теории лидер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готовности последователей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 1974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278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0396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лость/готовность последовате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ы и хотят или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ы, но не хотят или не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особны, но хотят или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особны и не хотят или не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ЕГУЛИРУЕТСЯ САМИМ ПОСЛЕДОВАТЕЛ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НАПРАВЛЯЕТСЯ ЛИДЕР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 поведения лидера и принятия им решен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1125360"/>
          <a:ext cx="8444160" cy="4923000"/>
        </p:xfrm>
        <a:graphic>
          <a:graphicData uri="http://schemas.openxmlformats.org/drawingml/2006/table">
            <a:tbl>
              <a:tblPr/>
              <a:tblGrid>
                <a:gridCol w="1944720"/>
                <a:gridCol w="2220840"/>
                <a:gridCol w="222120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ЛИД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и принятия ре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80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ориентированное на взаимоотношения (Поддерж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тся идеями и выступает как фасилитатор при принятии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ет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дает возмож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яс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ет лидер едино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дер принимает решения после обсуждения и/или объяс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ет другим ответственность за решения и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ет конкретные распоряжения и обеспечивает постоянный надзор за работ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ют последователи при поддержке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ориентированное на зада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каз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ю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Freeform 36"/>
          <p:cNvSpPr/>
          <p:nvPr/>
        </p:nvSpPr>
        <p:spPr>
          <a:xfrm>
            <a:off x="2124000" y="2265480"/>
            <a:ext cx="4464000" cy="205236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2052360"/>
              <a:gd name="textAreaBottom" fmla="*/ 2052720 h 2052360"/>
            </a:gdLst>
            <a:ahLst/>
            <a:rect l="textAreaLeft" t="textAreaTop" r="textAreaRight" b="textAreaBottom"/>
            <a:pathLst>
              <a:path w="2812" h="1293">
                <a:moveTo>
                  <a:pt x="0" y="1187"/>
                </a:moveTo>
                <a:cubicBezTo>
                  <a:pt x="132" y="1240"/>
                  <a:pt x="265" y="1293"/>
                  <a:pt x="499" y="1096"/>
                </a:cubicBezTo>
                <a:cubicBezTo>
                  <a:pt x="733" y="899"/>
                  <a:pt x="1134" y="14"/>
                  <a:pt x="1406" y="7"/>
                </a:cubicBezTo>
                <a:cubicBezTo>
                  <a:pt x="1678" y="0"/>
                  <a:pt x="1898" y="854"/>
                  <a:pt x="2132" y="1051"/>
                </a:cubicBezTo>
                <a:cubicBezTo>
                  <a:pt x="2366" y="1248"/>
                  <a:pt x="2699" y="1164"/>
                  <a:pt x="2812" y="118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ормы поведения лидера, характерные для каждого стиля лид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8360" y="2349360"/>
          <a:ext cx="8229600" cy="3299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ы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дават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жд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в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ч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ть пред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ег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лежи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37240" y="228600"/>
            <a:ext cx="6156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ЧИНЫ РОСТА ИНТЕРЕС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ОБЛЕМЕ ЛИДЕР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14200" y="1727280"/>
            <a:ext cx="86439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ледствие изменения среды бизнеса возникл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потреб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большом числе лид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ирокое распространение получила проектная форм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нился характер работников-последовател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(формирование класса высококвалифицированных, креативных специалистов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обализация обострила проблему национальн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специфики лид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успеха при выборе стиля лидерст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ото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 успе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                                                                                     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Line 40"/>
          <p:cNvSpPr/>
          <p:nvPr/>
        </p:nvSpPr>
        <p:spPr>
          <a:xfrm flipV="1">
            <a:off x="3000240" y="2754360"/>
            <a:ext cx="421488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работать с разными тип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ы понимаем , что сотрудник относится к тип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– просто делегируем выполнение  задач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- обговариваем  с сотрудником план действий, формы стимулир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казываем поддержку, наставничество, обучение, вырабатываем  чёткий план рабо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- вырабатываем  чёткий план действий, жестко контролируем факт выполн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это может уйти достаточно времени и сил , но вероятность , что задачи будут выполнены, а  сотрудник перейдёт на другой уровень знаний и приверженности будет значительно вы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«обмена»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одель вертикальной диадной связи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формирует со своими последователями отношения 2-х тип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ленами т.н. «внутренних групп» предполагаются тесные контакты, сильная поддержку со стороны лидера, высокий уровень довер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ленами «внешних групп» устанавливаются отношения которые характеризуются большей отстраненностью,  не столь  частыми контактами, меньшей поддерж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когнитивных ресур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изком уровне стресса на первый план выступает  интеллектуальный потенциал лид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соком – опы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ллектуальные ресурсы лидера могут способствовать  эффективной д-сти группы, но лишь в определенных условиях, в частности, если она следует директивным указаниям лид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е теории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– это функ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чности (качеств личности и характер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туации (частично постоянная, частично изменяющаяс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ы (ценности, потребности, уровень готовности последователе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c*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42"/>
          <p:cNvGrpSpPr/>
          <p:nvPr/>
        </p:nvGrpSpPr>
        <p:grpSpPr>
          <a:xfrm>
            <a:off x="184320" y="189000"/>
            <a:ext cx="8775360" cy="6492960"/>
            <a:chOff x="184320" y="189000"/>
            <a:chExt cx="8775360" cy="6492960"/>
          </a:xfrm>
        </p:grpSpPr>
        <p:sp>
          <p:nvSpPr>
            <p:cNvPr id="268" name="Text Box 36"/>
            <p:cNvSpPr/>
            <p:nvPr/>
          </p:nvSpPr>
          <p:spPr>
            <a:xfrm>
              <a:off x="295200" y="306360"/>
              <a:ext cx="42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РОДА ЛИДЕР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7"/>
            <p:cNvSpPr/>
            <p:nvPr/>
          </p:nvSpPr>
          <p:spPr>
            <a:xfrm>
              <a:off x="213480" y="1906560"/>
              <a:ext cx="8716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дером человек становится не вследствие наличия 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го тех или иных качеств, а потому, что он демонстрирует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ведение, эффективное для решения стоящей перед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уппой задачи, актуальной для данной ситуа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184320" y="189000"/>
              <a:ext cx="8775360" cy="649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3"/>
          <p:cNvSpPr/>
          <p:nvPr/>
        </p:nvSpPr>
        <p:spPr>
          <a:xfrm>
            <a:off x="4567320" y="2905200"/>
            <a:ext cx="0" cy="90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 flipH="1">
            <a:off x="7561080" y="2905200"/>
            <a:ext cx="55692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6238800" y="2978280"/>
            <a:ext cx="555840" cy="17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2266920" y="2905200"/>
            <a:ext cx="55872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015920" y="2978280"/>
            <a:ext cx="555840" cy="17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3807000" y="1779480"/>
            <a:ext cx="15192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548320" y="1779480"/>
            <a:ext cx="15192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7288200" y="1779480"/>
            <a:ext cx="15210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812880" y="4721400"/>
            <a:ext cx="2843280" cy="111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5477040" y="4721400"/>
            <a:ext cx="2844720" cy="111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3827880" y="1828800"/>
            <a:ext cx="16765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конная 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5782680" y="1828800"/>
            <a:ext cx="12103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кспер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7456320" y="1828800"/>
            <a:ext cx="1367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ферен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2070720" y="1790640"/>
            <a:ext cx="1781640" cy="1271880"/>
            <a:chOff x="2070720" y="1790640"/>
            <a:chExt cx="1781640" cy="1271880"/>
          </a:xfrm>
        </p:grpSpPr>
        <p:sp>
          <p:nvSpPr>
            <p:cNvPr id="285" name="Rectangle 8"/>
            <p:cNvSpPr/>
            <p:nvPr/>
          </p:nvSpPr>
          <p:spPr>
            <a:xfrm>
              <a:off x="2095200" y="1790640"/>
              <a:ext cx="1519560" cy="1270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5"/>
            <p:cNvSpPr/>
            <p:nvPr/>
          </p:nvSpPr>
          <p:spPr>
            <a:xfrm>
              <a:off x="2070720" y="1839600"/>
              <a:ext cx="178164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, основан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я на вознаграж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0"/>
            <p:cNvSpPr/>
            <p:nvPr/>
          </p:nvSpPr>
          <p:spPr>
            <a:xfrm>
              <a:off x="2182320" y="2435400"/>
              <a:ext cx="15577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троль над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ожительными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ультат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18"/>
          <p:cNvGrpSpPr/>
          <p:nvPr/>
        </p:nvGrpSpPr>
        <p:grpSpPr>
          <a:xfrm>
            <a:off x="215640" y="1779480"/>
            <a:ext cx="1805760" cy="1271880"/>
            <a:chOff x="215640" y="1779480"/>
            <a:chExt cx="1805760" cy="1271880"/>
          </a:xfrm>
        </p:grpSpPr>
        <p:sp>
          <p:nvSpPr>
            <p:cNvPr id="289" name="Rectangle 9"/>
            <p:cNvSpPr/>
            <p:nvPr/>
          </p:nvSpPr>
          <p:spPr>
            <a:xfrm>
              <a:off x="215640" y="1779480"/>
              <a:ext cx="1673640" cy="1270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303840" y="1828440"/>
              <a:ext cx="17175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, основан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я на принуж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1"/>
            <p:cNvSpPr/>
            <p:nvPr/>
          </p:nvSpPr>
          <p:spPr>
            <a:xfrm>
              <a:off x="522720" y="2424240"/>
              <a:ext cx="12697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троль над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гативными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ультат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22"/>
          <p:cNvSpPr/>
          <p:nvPr/>
        </p:nvSpPr>
        <p:spPr>
          <a:xfrm>
            <a:off x="4071960" y="2424240"/>
            <a:ext cx="1187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ожение в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й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5772960" y="2424240"/>
            <a:ext cx="1269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над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езной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7335000" y="2424240"/>
            <a:ext cx="1652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Облад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ивлекательны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чертами характ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870120" y="4713120"/>
            <a:ext cx="147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чин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861840" y="5189400"/>
            <a:ext cx="2943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оддержки изме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постоянное вли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5539320" y="4713120"/>
            <a:ext cx="200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тернализ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8"/>
          <p:cNvSpPr/>
          <p:nvPr/>
        </p:nvSpPr>
        <p:spPr>
          <a:xfrm>
            <a:off x="5532120" y="5114880"/>
            <a:ext cx="2726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оддержки изменений 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и в си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м влия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 flipH="1">
            <a:off x="3313080" y="3809880"/>
            <a:ext cx="1254240" cy="90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4567320" y="3809880"/>
            <a:ext cx="1252440" cy="90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361440" y="26676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49"/>
          <p:cNvGrpSpPr/>
          <p:nvPr/>
        </p:nvGrpSpPr>
        <p:grpSpPr>
          <a:xfrm>
            <a:off x="184320" y="189000"/>
            <a:ext cx="8775360" cy="6492960"/>
            <a:chOff x="184320" y="189000"/>
            <a:chExt cx="8775360" cy="6492960"/>
          </a:xfrm>
        </p:grpSpPr>
        <p:sp>
          <p:nvSpPr>
            <p:cNvPr id="303" name="Text Box 42"/>
            <p:cNvSpPr/>
            <p:nvPr/>
          </p:nvSpPr>
          <p:spPr>
            <a:xfrm>
              <a:off x="297720" y="318960"/>
              <a:ext cx="564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ЕЦИФИКА ВЛАСТИ ЛИД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3"/>
            <p:cNvSpPr/>
            <p:nvPr/>
          </p:nvSpPr>
          <p:spPr>
            <a:xfrm>
              <a:off x="453600" y="1538280"/>
              <a:ext cx="840456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 лидера основывается не на подчин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 лидера основывается на интернализации влия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ые формы власти, используемые лидером –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это экспертная и референтная вла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4"/>
            <p:cNvSpPr/>
            <p:nvPr/>
          </p:nvSpPr>
          <p:spPr>
            <a:xfrm>
              <a:off x="336240" y="4429080"/>
              <a:ext cx="802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прос для обсуждения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к можно наращивать экспертную и референтну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2"/>
            <p:cNvSpPr/>
            <p:nvPr/>
          </p:nvSpPr>
          <p:spPr>
            <a:xfrm>
              <a:off x="184320" y="189000"/>
              <a:ext cx="8775360" cy="649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1636200" y="2098800"/>
            <a:ext cx="518544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учение 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epreneur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приним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257040" y="274680"/>
            <a:ext cx="863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АЖНЕЙШИЕ ФУНКЦИИ ТОП-МЕНЕДЖМЕНТА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И.АДИЗЕС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184320" y="189000"/>
            <a:ext cx="877536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840" y="928800"/>
            <a:ext cx="875052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ство есть социальный по своей сущности феномен, а лидерство – психологическ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ство способно переходить в руководство, а руководитель становиться лидер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ство – это комплексная концепц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выки лидерства м.б. развиты посредством накопления опыта, обучения и рефлек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ффективность лидерства зависит в первую очередь от соответствия лидера, подчиненных и ситуа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екоторых ситуациях лидерство не имеет серьезного знач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 имеет больше общего с артистами, учеными и другими творческими людьми, чем менеджер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Какие бы абсурдные требования мы ни предъявляли к будущим управленцам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х характер для нас важнее, чем образован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т.к. управление прежде всего связано с взаимоотношениями между людьми» (гл.ред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CG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омас Ти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аткое описание основных ролей по Адизес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нные описания даны для руководителей, у которых одна роль ярко выражена, в то время, как другие роли почти не представлены. На практике такой профиль почти не встречается, описания даны для понимания каждой ро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анализе и трактовке реальной личности заложены сочетания и степень представления всех 4-х ро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 одна самая выдающаяся личность не сможет в равной степени  блестяще выполнять все 4 функ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оизводитель (получатель результат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ятельность руководителя направлена на создание результатов, на проведение в жизнь своей лин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производителя важн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четкая задача, цель, факты, цифр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изводитель в «чистом виде», когда данная роль ярко выражена, а остальные роли не представлены – это «рабочая лошадь». Приходит первым и уходит последним, всегда занят. Сотрудники не развиваются. Для руководителя характерно краткосрочное планиров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ния о происходящем, технологий, политической и стратегической ли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Администрат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информационных систем, систем бюджетирования, контроля. Оценка результатов, исследование и проверка вариантов решения задач, установление прав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Администратора важ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цель, стратегия, порядок, нормы, прави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министратор в «чистом виде» – бюрократ. Приходит и уходит по расписанию. Все бумаги убраны по местам. Сотрудники загружены работой в соответствии правилам. Обучение сотрудников по плану. Собрания проводятся по расписанию независимо от потребностей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лавн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задачи выполнить «правильн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ния в области экономики, финансов, системы бухучета, знание законов и компьютерных сис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здание нового, наработка идей, обновление, общее понимание технологий, оценка возможностей и угрозы со стороны окружающего сообще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дприниматель в «чистом виде» – авантюрист. Нет четкого расписания, но много идей. Собрания при возникновении новой иде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Главно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нимание – новым идеям. Характерна постоянна смена приоритет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терпеливос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п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имание главной концепции предприятия, знание маркетинга и технолог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Интегра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ординирование, выработка общего мнения по вопросам цели и стратегии, планирование, обеспечение мотивацией, развитие и обучение сотрудников, повышение заинтересованности в работе, удовлетворен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нтегратора важным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является создание атмосферы в которой людям комфортно работать вместе. Обычно он многослове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тегратор в «чистом виде» – соглашатель. Приходит и уходит со всеми, свою власть не показывает. Подчиненные диктуют ему свою вол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ание психологии, стратегии, теории организации, умение разбираться во взаимоотнош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5"/>
          <p:cNvSpPr/>
          <p:nvPr/>
        </p:nvSpPr>
        <p:spPr>
          <a:xfrm>
            <a:off x="2464920" y="1844640"/>
            <a:ext cx="40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- -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2495520" y="3255840"/>
            <a:ext cx="37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a 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486880" y="4767120"/>
            <a:ext cx="48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сьма 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a 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257040" y="274680"/>
            <a:ext cx="863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ФОРМУЛЫ» НЕЭФФЕКТИВНОГО 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ФФЕКТИВНОГО МЕНЕДЖ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184320" y="189000"/>
            <a:ext cx="877536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301680" y="29196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ЕДСТВИЯ ТЕОРИИ АДИЗ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606960" y="1447920"/>
            <a:ext cx="84520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не может одинаково эффектив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реализовывать все функции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ьших успехов доби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аимодополняющ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команды руков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 из основных навыков эффективного лидер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умение работать с непохожими на него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вык работы с непохожими на тебя людьми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разв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984240" y="1666800"/>
            <a:ext cx="7456320" cy="449604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52360" y="0"/>
            <a:ext cx="63198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ОЛОЖЕНИЯ МОДЕ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ДВИГАТЕЛЯ ЛИДЕРСТВ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2002 г. - Н.Тичи с 1980 г. консультант Дж.Уэлч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269360" y="1895400"/>
            <a:ext cx="7263720" cy="43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бедители - это те, чей успех устойч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мпаниях-победителях лидеры есть на кажд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уровне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учший способ умножить число лидеров - это и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воспитание другими лиде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воспитывать других, лидеры должны облада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передаваемой точкой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учить других, вам необходима методи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обуч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75400" y="285840"/>
            <a:ext cx="608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ВИГАТЕЛЬ ЛИДЕР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АВАЕМАЯ ТОЧКА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1141560" y="1644480"/>
            <a:ext cx="6587640" cy="4405320"/>
            <a:chOff x="1141560" y="1644480"/>
            <a:chExt cx="6587640" cy="4405320"/>
          </a:xfrm>
        </p:grpSpPr>
        <p:sp>
          <p:nvSpPr>
            <p:cNvPr id="332" name="Line 4"/>
            <p:cNvSpPr/>
            <p:nvPr/>
          </p:nvSpPr>
          <p:spPr>
            <a:xfrm>
              <a:off x="2473200" y="2857320"/>
              <a:ext cx="126576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>
              <a:off x="2754720" y="2400120"/>
              <a:ext cx="309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"/>
            <p:cNvSpPr/>
            <p:nvPr/>
          </p:nvSpPr>
          <p:spPr>
            <a:xfrm flipH="1">
              <a:off x="4794480" y="3009600"/>
              <a:ext cx="133632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>
              <a:off x="1141560" y="1644480"/>
              <a:ext cx="2154960" cy="1663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3323160" y="4387680"/>
              <a:ext cx="2152440" cy="1662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9"/>
            <p:cNvSpPr/>
            <p:nvPr/>
          </p:nvSpPr>
          <p:spPr>
            <a:xfrm>
              <a:off x="5573880" y="1644480"/>
              <a:ext cx="2155320" cy="1663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849320" y="2292120"/>
              <a:ext cx="901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ДЕ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6097320" y="2292120"/>
              <a:ext cx="1629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ЕН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3401280" y="4838400"/>
              <a:ext cx="21265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НЕРГИЯ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ШИ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277920" y="361800"/>
            <a:ext cx="8102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АРЫЕ ИДЕИ И ЦЕННОС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"/>
          <p:cNvSpPr/>
          <p:nvPr/>
        </p:nvSpPr>
        <p:spPr>
          <a:xfrm>
            <a:off x="642960" y="2374920"/>
            <a:ext cx="349560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977120" y="1477800"/>
            <a:ext cx="90144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178680" y="1554120"/>
            <a:ext cx="162972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6"/>
          <p:cNvSpPr/>
          <p:nvPr/>
        </p:nvSpPr>
        <p:spPr>
          <a:xfrm>
            <a:off x="5216400" y="2374920"/>
            <a:ext cx="34959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1148760" y="2933640"/>
            <a:ext cx="2808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» Electr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знач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хв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 быть во всех смеж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ластях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изованная власть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номоч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ложные системы показ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контроля являются ключ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реализации ц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лью является стабиль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сказуемый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5650560" y="2765520"/>
            <a:ext cx="292968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ажение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огое соблюдение процед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работка бюджета, котор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удет с гарантией исполн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ленный, методичный под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ведению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фликты скрывают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ичто не должно наруш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внове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знаки и качества лид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052280"/>
            <a:ext cx="8424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оиск союзников и наличие последовател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«об уме правителя первым делом судят по тому, каких людей он к себе приближает» (Н.Макиавелли). Рекомендации от У.Черчилл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авливать отношения задолго до того, как в них появляется потреб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кусируйтесь на многообразии: чем шире ваша база контактов, тем шире ваш диапазон влия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истема личных связей должна быть взаимовыгодна для все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90520" y="374760"/>
            <a:ext cx="8018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ВЫЕ ИДЕИ И ЦЕННОС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Electric</a:t>
            </a:r>
            <a:r>
              <a:rPr b="1" lang="ru-RU" sz="2800" spc="-1" strike="noStrike">
                <a:solidFill>
                  <a:srgbClr val="000000"/>
                </a:solidFill>
                <a:latin typeface="Academy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2188440" y="1477800"/>
            <a:ext cx="90144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6178680" y="1554120"/>
            <a:ext cx="162972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853920" y="2451240"/>
            <a:ext cx="34959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927000" y="2500200"/>
            <a:ext cx="34308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 или №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репить, закрыть или про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казаться от старых, зрел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ов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средоточиться на быстрорастущи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вых видах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делить власть между отделениям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корпоративным цент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зволить каждому бизнес-направлени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ять свою стратегию, подбира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бе персонал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3 глобальных видов деятельност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не 240 ненуж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ов прибылей и убыт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5146560" y="2451240"/>
            <a:ext cx="34941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5072040" y="2484360"/>
            <a:ext cx="3571920" cy="34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довольствие бы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ыстрее друг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еренность в себ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стно осознавайте налич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перничества и с уверенность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буйте новое, даже если есть шанс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о вас постигнет неуд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сто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ищите правильный отв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 не слож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пряж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стремитесь к тому, ч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рудно достичь, иначе никог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узнаете, на что действительн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грани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стно желайте уничто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ения гра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73600" y="361800"/>
            <a:ext cx="758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УЛИРОВАНИЕ ИДЕЙ И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500040" y="1660680"/>
            <a:ext cx="8358120" cy="824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ффективные идеи и ценности должны отвеч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едующим критер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285840" y="3141720"/>
            <a:ext cx="885816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должны дополнять 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ности должны быть четкими и ориентированны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н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должны передаваться с достаточной энерг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049400" y="1916280"/>
            <a:ext cx="7016760" cy="3527280"/>
          </a:xfrm>
          <a:prstGeom prst="rect">
            <a:avLst/>
          </a:prstGeom>
          <a:solidFill>
            <a:srgbClr val="eaeaea"/>
          </a:solidFill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1537920" y="2205000"/>
            <a:ext cx="66189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ы четко формулируют круг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увязывают их друг с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ообщают о них буквально кажд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овершенствуют свои иде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277920" y="361800"/>
            <a:ext cx="738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ЛИДЕРЫ ОБРАЩАЮТСЯ С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80800" y="374760"/>
            <a:ext cx="450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АЧА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1407240" y="981000"/>
            <a:ext cx="6912000" cy="458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идеры передают ценности посре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205000"/>
            <a:ext cx="9429840" cy="36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левого моделирования - каждое решение или действ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отражают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я ценностей в ясных, четких и понят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терми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я людям  возможности наблюд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различных форм поведения и их влияния на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ощрения борьбы с парадок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849240" y="1492200"/>
            <a:ext cx="7578720" cy="4313160"/>
          </a:xfrm>
          <a:prstGeom prst="rect">
            <a:avLst/>
          </a:prstGeom>
          <a:solidFill>
            <a:srgbClr val="eaeaea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79360" y="399960"/>
            <a:ext cx="7107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ЛИДЕРЫ ПРИВИВАЮТ Ц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857160" y="1500120"/>
            <a:ext cx="743904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четко формулируют ценности - именно те, которые поддерживают бизнес-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ами воплощают эти ценности в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ротивостоят невежеству по отношению к ценностям и сопротивлению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ересматривают ценности и обновляют их в случае необход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ое лиде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оследнее десятилетие в литературе по менеджменту появилось понятие эмоциональный лидер и эмоциональный интеллек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995-2000 г.г. Д.Голма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авторы утверждают, что эмоциональная задача для лидера (руководителя) является «первичной, лучше даже сказать первостепенной, т.к. это не только основная, но и наиболее важная сторона лидер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ый лид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8472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ите внимание с какими лидерами люди предпочитают работать – скорее всего, они излучают оптимиз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многом именно поэтому лидеры с высоким эмоциональным интеллектом привлекают талантливых люд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оборот, лидеры, которые несут в себе негативный заряд, - раздражительные, обидчивые, деспотичные и холодные – отталкивают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ятся тренинги на развитие эмоционального лидер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ый интеллект (Э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и проанализировали 500 моделей развития лидерских навыков в международных комп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определить какие способности обусловливают выдающиеся показатели работы организаций, все умения авторы сгруппировали в 3 категории: чисто специальные навыки (знание бухгалтерии, педагогики…), когнитивные способности (например аналитическое мышление), и черты, свидетельствующие о высоком ЭИ (самосознание и способность управлять отношения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лось: в каждой организации есть свои особенности, тем не менее везде навыки ЭИ составляют подавляющее большинство важнейших отличительных черт лид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0-90% в способностях, отличающих выдающихся лидеров от середнячков составляют навыки Э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 Э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14200" y="857160"/>
            <a:ext cx="8715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созна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эмоциональное самосознание, точная самооценка, уверенность в себе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контро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обуздание эмоций, открытость, адаптивность, воля к победе, инициативность, оптимизм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циальная чутк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опереживание, деловая осведомленность, предупредительность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правление отношения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воодушевление, влияние, помощь в самосовершенствовании, содействие изменениям, урегулирование конфликтов, командная работа и сотрудничеств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эффективно вести себя в критической ситуации челове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ен обладать соответствующим опы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ципы поведения в критической ситуации часто бывают неожидан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критической ситуации часто требует от человека действий, противоречащих «здравому смысл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должен иметь мужество брать на себя непопулярн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02400" y="316080"/>
            <a:ext cx="76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ЛИДЕРСТВО В КРИТИЧЕСК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3640" y="404280"/>
            <a:ext cx="8280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 Установление здоровых взаимоотношени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дчиненными расширяет возможности лид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но взаимодействуя с окружающими, можно даже влиять на тех, кому вы формально подчиняетесь. В результате у лидера появляется больше возможностей для смелых поступ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мение вдохновля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личает эффективного лидера от неэффективного: «Если вы хотите построить корабль, не стоит созывать людей идти в лес, валить деревья, распиливать их, соединяя полученные доски. Вместо этого их нужно просто научить мечтать о море» (А.де Сент-Экзюпер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и переме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ство – это способность и умение оказывать на людей такое влияние, которое позволяет им достигать больших результатов, выйти за рамки обычного и главное, что это они делают с желанием и с ощущением совместно достигнутого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ы нужны, чтобы управлять переменами. Чтобы просто управлять процессом, нужны просто грамотные менедже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изменений – это зона постоянного дискомфорта, потому что никто не знает, что ждет впереди, поэтому лидерство – это ещё и высокая ответственность и слож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ь трех кру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Содержимое 3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720720" y="0"/>
            <a:ext cx="7772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Что такое – работа в </a:t>
            </a:r>
            <a:r>
              <a:rPr b="1" lang="ru-RU" sz="3600" spc="-1" strike="noStrike">
                <a:solidFill>
                  <a:srgbClr val="004c2b"/>
                </a:solidFill>
                <a:latin typeface="Arial"/>
                <a:ea typeface="Arial"/>
              </a:rPr>
              <a:t>анти-</a:t>
            </a:r>
            <a:r>
              <a:rPr b="1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команде</a:t>
            </a:r>
            <a:r>
              <a:rPr b="0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2"/>
          <p:cNvGraphicFramePr/>
          <p:nvPr/>
        </p:nvGraphicFramePr>
        <p:xfrm>
          <a:off x="0" y="1357200"/>
          <a:ext cx="9144000" cy="55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7200"/>
                    <a:ext cx="914400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зорганизация: причины, виды, преодолени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гожин А.И. 2007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нига посвящена анализу уязвимых точек организаци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тоды противодействия дезорганизации основаны на разработанной автором теории синергичной организ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а основана на исследовании и использовании 3 оргпотенциалов (синергиков, синкретиков и энтропико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проблема – постоянно меняющиеся противоречия между 3 оргпотенциал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ама трех потенци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2920" y="100008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нергики – такие цели, компетенции, ресурсы, которые создают в социально-ориентированной среде конструктивное напряжение, инновационность и проактивность, ориентацию на максимальные достижения с множественным эффектом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нкретики – т.е. порядок и меры по его поддержанию, оказывающие охранительное действие на удержание целостности, постоянства, преемственности состояния, управляемост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нтропики – т.е. факторы ослабления или разрушения Порядка, деструктивного напряжения, рассогласования с последующими потерями, разнообразной дезорганизацией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сточником дезорганизации могут быть все тр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то не есть сами люди, предметы, действия, а их свойства: способность играть некую роль в среде – это их энергетические векторы, воздействующие на среду каким-то из трех способо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071360" y="999720"/>
            <a:ext cx="71578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ая задача этой теории – поиск меры конструктивного напряжения между тремя оргпотенциалами с преобладанием синерг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ногда мы не видим смысла изменений своего по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ологи проводили такой эксперимент: в большой аквариум, разделенный на 2 части стекл. перегородкой, поместили огромную щуку. Ей была отдана ½ аквариума; в другой плавало много мелких рыб. Щука предпринимала много неистовых попыток добраться до мелочи, однако каждый раз натыкалась на стекло. В конце концов щука сдалась, поняв, что добраться до рыб невозможно. Потом перегородку убрали из аквариума и рыбы перемешались. Но хотя рыбешки плавали вокруг щуки, она их не замечал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ндерные аспекты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жчины чаще ориентируются на задачу, тогда как женщины уделяют больше внимания межличностным отношения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мечается, что мужчины чаще принимают на себя продуманные риски и обладают высоким самоуважением, тогда как женщины проявляют больше мягкости и более эффективны, когда дело доходит до решения пробл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ьшинств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е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комбинирует мужской и женский стили поведения в зависимости от обстоятельст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епень, в которой женщинам-руководителям приходится руководствоваться «мужскими» или «женскими» моделями поведения, в значительной мере определяется тем, какова культура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 компании преобладает «мужская» культура, а стиль руководства менеджера-женщины ближе к «женскому», то велик риск того, что она будет оценена как неэффективный руководитель, поскольку не будет соответствовать ожиданиям своего окруже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ло не в том, какой стиль руководства лучше – «женский» или «мужской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ажно просто принимать во внимание данный аспект, поскольку он оказывает значительное влияние на эффективность взаимодействия внутри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женщинам-руководителям следует внимательно изучить свое окружение и понять, какова культура компан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я представление о том, какой стиль лидерства ближе для организации, можно и нужно корректировать свой собственны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33336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астоящий лидер отличается от заурядного руководителя те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что он знает, куда идти, и умеет собрать под свои знамена нужных люд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еретянуть на свою сторону влиятельных сотрудн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я с людьми нужно холить и лелеять, иначе они зачахнут. Это настоящая и довольно тяжел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мение мыслить стратегичес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дняться «над полем» и обозреть ситуацию «с балкона» относится к одним из важнейших качеств лид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3"/>
          <p:cNvSpPr/>
          <p:nvPr/>
        </p:nvSpPr>
        <p:spPr>
          <a:xfrm>
            <a:off x="263160" y="2793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387360" y="1125360"/>
            <a:ext cx="854244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российском обществе, в т.ч. в сфере образования, как определяющей отрасли инновационного развития страны, отчетливо ощущается потребность в лидерах, т.е. существует дефицит лид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проявляется в особых формах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основывается на специфических форм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 стать долгосрочным лидером необходимо име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передаваемую точку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кие навыки можно и нужно совершенствовать, чем мы с вами и занимаемся на этих кур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0920" y="333000"/>
            <a:ext cx="80643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мел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сходящая от лидера, передается окружающим. Это одно из основных качеств эмоционального лид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рога к эффективному лидерству устла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бедами над собственными страх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еодоление которых является важнейшим этапом становления лид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апрямую связанное с храбростью и также необходимое каждому лидеру – э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веренность в собственных сил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(оборотная сторона уверенности – низкая рефлексивность, чувствительность…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звестном смысле лидер устанавливает стандарт, на который равняются все ост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8:47:38Z</dcterms:created>
  <dc:creator>Дир.ин-та Гайнутдинова</dc:creator>
  <dc:description/>
  <dc:language>en-US</dc:language>
  <cp:lastModifiedBy>Рашид Минасхатович Гайнутдинов</cp:lastModifiedBy>
  <dcterms:modified xsi:type="dcterms:W3CDTF">2014-02-19T10:08:03Z</dcterms:modified>
  <cp:revision>90</cp:revision>
  <dc:subject/>
  <dc:title>Лидер и лидерство</dc:title>
</cp:coreProperties>
</file>