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995-FF6A-4B64-A868-332A28BA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C5-69DF-4042-B281-015EE1DB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ACC-E759-44B8-A603-4AD91286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792-55AB-44D7-A384-0B992F31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360-A77D-48F4-BE81-810BE0BD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6A62-8281-4167-B177-7C56ACB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344F-97D9-4656-BAF5-64AA819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9139-977B-4ACB-A046-4A72343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4C4F-1CF0-4F7E-BDBA-37D4F794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24DF-9244-489E-A70A-00A4C6C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5072-4CA8-4773-9C21-B8FBD5B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8F7-C0DB-40D1-81D9-AEB33C1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0D9-5EDD-45C2-943D-77E2A04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C50-F51C-450B-8454-ECCBA49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2073-B682-4222-B7FA-A4AF2F1D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CE14-9F4C-454B-8876-11377C6C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86F-E2F8-4ADC-8554-A43BFEDE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E0E-8563-46A4-87C9-C37DBD6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BF4-8AA1-44DE-ACA9-9ED2597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721-B8EB-4311-BE9C-A7EA766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CEA-3534-43E8-97D4-08F8E47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E76-FAA0-4C33-BDDB-6B86C2BB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8DD-AB59-457C-A2E3-AD97AB6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212-DE33-4650-A26C-8371C5C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D85-37AC-4EB6-9AD4-1E31AC451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8647-9B80-4BB9-B1EB-BCE8B3F98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рганизаций профессионального образования (ОП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6-tub-ru.yandex.net/i?id=84236651-66-72&amp;n=21"/>
          <p:cNvPicPr/>
          <p:nvPr/>
        </p:nvPicPr>
        <p:blipFill>
          <a:blip r:embed="rId1"/>
          <a:stretch/>
        </p:blipFill>
        <p:spPr>
          <a:xfrm>
            <a:off x="5651640" y="1700280"/>
            <a:ext cx="28080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студентом, родителем, потенциальным сотрудником, работодателем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интервью президента гр. компаний Cognitive Technologies Ольги Ус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мы всегда, даже в тяжелые времена, «держали» кафедры 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изтех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ИСиС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ели научную работу и читали в университе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есть жесткая рекомендация для подразделений ― 15% штата комплектовать стажерами из числа студ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 ― это напряжение. Но те, кто не тратит силы на стажеров, потом испытывают кадровые сложности. Лучшие кадры выращиваются у с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9-2010-х годах по нескольким проектам скорость экономического роста сильно выросла, потребовалось много людей, поэтому мы вложились системно ― я пошла в МИСиС уже завкафедрой. Теперь освежаем кадры систематиче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Усково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х систем мотивации я ни разу не видела. Все, что ты можешь сделать для своих партнеров и сотрудников, ― это минимально их трогать, дать возможность шев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яжелое ― когда ты можешь, а тебе не дают. Когда тебе дают, а ты не можешь, ― это тоже тяжело, но такого человека не так жалко. А когда он может, а ему не дают ― вот это пробл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в группах разработайте проекты формирования ММ сотрудников ОП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в т.ч.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ПО; 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://im2-tub-ru.yandex.net/i?id=5018066-70-72&amp;n=21"/>
          <p:cNvPicPr/>
          <p:nvPr/>
        </p:nvPicPr>
        <p:blipFill>
          <a:blip r:embed="rId1"/>
          <a:stretch/>
        </p:blipFill>
        <p:spPr>
          <a:xfrm>
            <a:off x="34920" y="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П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профессионализации и социализации выпуск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профессиональные и социальные компетенции, позволяющие ему жить и функционировать в качестве члена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СПО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профессиональным образовательным организациям (ОП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СП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П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СПО в обязательном порядке должен быть согласован с субъектами 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79640" y="549000"/>
            <a:ext cx="662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im2-tub-ru.yandex.net/i?id=171394413-58-72&amp;n=21"/>
          <p:cNvPicPr/>
          <p:nvPr/>
        </p:nvPicPr>
        <p:blipFill>
          <a:blip r:embed="rId1"/>
          <a:stretch/>
        </p:blipFill>
        <p:spPr>
          <a:xfrm>
            <a:off x="155520" y="1916280"/>
            <a:ext cx="175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П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О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(обр. услугу и выпускника) на рынок (рынок ОУ и рынок труда), вам нужно так описать его, чтобы люди, которым вы его предлагаете (абитуриенты и их родители, а также работода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/услуга потребностям вашей целевой группы (какой?)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im2-tub-ru.yandex.net/i?id=27149425-18-72&amp;n=21"/>
          <p:cNvPicPr/>
          <p:nvPr/>
        </p:nvPicPr>
        <p:blipFill>
          <a:blip r:embed="rId1"/>
          <a:stretch/>
        </p:blipFill>
        <p:spPr>
          <a:xfrm>
            <a:off x="0" y="28440"/>
            <a:ext cx="2627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ММ, профессионализма, взаимоуважения и вовлеченнос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ой контакт вашей организации с внешним мир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проф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ПО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щий уровень развития и уровень квалификации студенто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то у нас его Величество Клиен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im7-tub-ru.yandex.net/i?id=414655962-68-72&amp;n=21"/>
          <p:cNvPicPr/>
          <p:nvPr/>
        </p:nvPicPr>
        <p:blipFill>
          <a:blip r:embed="rId1"/>
          <a:stretch/>
        </p:blipFill>
        <p:spPr>
          <a:xfrm>
            <a:off x="155520" y="44280"/>
            <a:ext cx="1428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мас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, возможных и реальных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П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459640" cy="5492880"/>
        </p:xfrm>
        <a:graphic>
          <a:graphicData uri="http://schemas.openxmlformats.org/drawingml/2006/table">
            <a:tbl>
              <a:tblPr/>
              <a:tblGrid>
                <a:gridCol w="2428920"/>
                <a:gridCol w="2897280"/>
                <a:gridCol w="31334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П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П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П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её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й П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уникальностью местоположения, эффективным образовательным процессом, сотрудничеством с бизнес-структурами и наличием базы для полноценной практики, хорошей МТБ, обеспечивают повышенные разряды выпускников СПО и их трудоустройство, готовностью педколлектива работать со студентами с ОВЗ и п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профессиональной образовательной организации, освоить технологии работы со студента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колько менеджмент ОО осознает сильные и слабые стороны своей организации, управляет ими для повышения результативности и снижения затратности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, в т.ч. при  позиционировании и продвижении своей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студентов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ПОО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и абитуриенты) при выборе П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: мастеров, педагог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стойчивые, конструктивные связи с работодателями и наличие базы для прак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: лаборатории, мастерские, с наличием соответствующего обору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быта и учебы: благоустроенное общежитие, столовая, спортивный и актовый залы, укомплектованные соответствующим оборудованием, для активного проведения занятий и досуга студен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подходов, способствующих формированию профессиональных и личностных компетенций;  оптимальное сочетание общеобразовательной и профессиональной, урочной и производственной деятельности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способность коллектива к инновациям; признание в проф. сообществе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миджевые факторы, в т.ч. связанные с  информированием и продвижением (сайт, СМИ, иные ИК технологии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проектных групп…;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ирокий выбор дополнительных программ профессионального образ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бное месторасполож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й ПОО могут стать или уже являются факторами успех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ФУ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П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для П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ПОО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ПОО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ПО и потребителя (студента/ро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обучающимся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отребности мы помогаем им удовлетворять в ОПО?  Наши возмо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ПОО: в чем мы сильны, каковы наши особенности и приоритеты, какие потребности с точки зрения клиентов мы можем удовлетворять, чем мы можем быть интересны выпускникам школ, их родителям, работодателям…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(т.е. достижимые, совпадающие с интересами потребителя и сильными сторонами ПОО, в тоже время содержащие вызов) цели организ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(миссии, видения будущего своей ПОО) и определенных целей маркетинговой стратегии начинается оперативное маркетинговое планиро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П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студентов, родителей, социальных партнеров, коллег; а также потребителей их «товара»: Вузов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ю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ПОО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ОСП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ОШ,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МИ, Интерн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образовательной организации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, днях трудоустройства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профессии, Новый год, Последний звонок, День рождения П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ПОО и соответствия разработанной стратегии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ПОО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СП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влияют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im4-tub-ru.yandex.net/i?id=1916380-08-72&amp;n=21"/>
          <p:cNvPicPr/>
          <p:nvPr/>
        </p:nvPicPr>
        <p:blipFill>
          <a:blip r:embed="rId1"/>
          <a:stretch/>
        </p:blipFill>
        <p:spPr>
          <a:xfrm>
            <a:off x="3564000" y="2637000"/>
            <a:ext cx="252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работодателей, выпускник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студентам, родителям, выпускникам, гостям П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собствен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П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рос на выпускников профессионального ОУ со стороны крупных, работодател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ПОО, элементах имиджа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ОС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освоения профессии и социализа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ключевых профессиональных и социальных компетенций для адаптации их к производству и успешной интеграции в обще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ОС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П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34:48Z</dcterms:modified>
  <cp:revision>85</cp:revision>
  <dc:subject/>
  <dc:title>Технологии повышения привлекательности  образовательной организации</dc:title>
</cp:coreProperties>
</file>