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22D3-A093-48A6-9547-90C1C38928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CA50-4A94-4004-92DA-B969ACBF52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9CE-EF25-4B34-A028-6FFB18EC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616-5F52-4AEB-AC35-D12F6A26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0AB-5859-4902-A115-A700E9BF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E08-CD82-42A1-9CAD-692B59B5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669-CCEB-4BDB-85E0-652B380D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410-B9B1-45F6-92E0-CB74A4D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C3B-27A9-4A1A-A5BF-71B2CBBE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767-10AC-46DD-BBAE-A7971FCB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FB7-BA18-4BE7-A7A7-BC55C81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8FF-B424-4734-B180-DBCF66A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74F-D3FE-44B7-9AED-04201DF1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0DA-A9AB-4FB5-91BF-912F979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842E-301E-4712-9732-39D0058EB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внебюджет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сихологические проблемы внедрения платных услуг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 коллегами, зачастую подругами пролегли финансовые расчеты и отно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многих необходимость брать деньги за свою работу с реальных людей, глядя им в глаза, а не получать минимальную, но гарантированную зарплату от государства была сложной психологической проблемо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оказались не готовы к повышенной планке требований со стороны заказчиков, терялись, когда им предъявляли претензии или задавали вопросы по содержанию, форме, условиям заня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-то испытывал тревогу в связи с необходимостью вступать в деловые переговоры со своими коллегами, руководителями и родителями, принимать на себя ответственность за реализацию своих же инициатив, отстаивать свои условия и треб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ктически для всех возникли проблемы освоения новых навыков, в частности проведения расчетов, ведения новой документации, а также повышенная требовательность к оформлению документации, в т.ч. финансовой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всегда движение, причем в двухстороннем нап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сс стратегического управления и формирования определенной маркетинговой политики ОО - интерактивный по своей внутренней сущ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оянное движение и обмен происходит в процессе систематического обмена информации с субъектами извне, получения внутренней и внешней обратной связи, осуществления тактических управленческих действий на их осно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, чего мы зачастую избегаем и ограничиваем в своей традиционной работе – общение с родителями и учениками по поводу образовательного процесса и его условий - должно стать нормой взаимодействия при маркетинговом подход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х отношение, их жалобы и претензии – это средство наших корректирующих действий, основа улучшений на каждом рабочем месте и в системе управления организацией в цел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ность в организации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ли в центре  с организации эпизодических платных мероприятий, которыми занимались 2-3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о было на пилотных проектах учесть изменения, происходящие в коллективе, у родителей, у учредителя, выявить отношение к эт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шняя ситуация в финансовом отношении не давала надежды на улучшение, в тоже время в коллективе стали проявляться люди, готовые к новой для себя ро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сформировать позитивное отношение к внебюджетной деятельности и постепенно формировать маркетинговое мышление у сотрудников ОО была разработана серия мероприят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ключение через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проведен ряд деловых игр, семинаров, с подключением к этой работе все новых сотрудников, поддержкой их усилий и при поощрении перспективных и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йне важно, чтобы сотрудники поняли и приняли как собственную установку, что и в бюджетной организации,  необходимо, прежде всего, учитывать реальные запросы людей, потребности детей и их род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овое мыш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, чтобы  люди пришли к мысли о том, что все определяющие решения должны приниматься с позиции обеспечения общего успеха организации на рынке социальных, в первую очередь образовательных, потребностей и интересов детей и взрослых райо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 эпизода к системе платных усл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ечение двух лет сформировалась большая группа работников, которые получали за работу по реализации платных услуг почти столько же, сколько по основной работ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оме того они приносили существенный доход центру, благодаря которому получали развитие наиболее перспективные направления его образовательной деятельност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/3 сотрудников учреждения было задействовано в реализации дополнительных образовательных услуг к моменту, когда я закончил свою работу в центре «Лад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44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платных услуг к «солидарному финансировани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ой основе было также показано родителям, что в данной организации заработанные средства идут на улучшение условий обучения, коллектив имеет квалифицированные кадры, приемлемые условия и высокую мотивацию на совместную раб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вполне логично было согласие родителей участвовать в схеме так называемого «солидарного финансирования» образовательной деятельности путем привлечения добровольных родительских взно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 этом механизме расширения каналов финансирования организации участвовали уже практически все сотрудн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зволило не только поддерживать существующий уровень, но и постоянно развивать учебно-материальную базу цен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заимосвязь маркетинга и оргкуль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привлечение сотрудников к разработке и реализации новых видов деятельности стало одним из условий повышения субъектности коллектива,  направленной на формирование характеристик организационной культуры саморазвивающейся системы: активности и инновационности с принятием персональной ответственности за развитие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ологические и маркетинговые исследования среди детей, родителей, населения микрорайона служили информационной основой для контроля, анализа, планирования и коррекции деятельности всего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эти средства коллективной рефлексии позволяют сравнивать то, как выглядит учреждение в глазах потребителей, с тем как мы хотим выглядеть, и какими видим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, особенно в первые годы, сформировать позитивный образ нового образовательного цент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е основы дея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фера профессионального, а также дополнительного образования  рыночна по определению, т.к. это зона свободного выбора и самоопределения личности, и может существовать только тогда, когда отвечает на потребности населения и соответствует требованиям рынка тру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нятно, что в таких условиях необходимо повышать конкурентоспособность учреждения и главный здесь ресурс – это люди, коллекти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рючок» на будущие конт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вые 3 года коллектив работает на свой имидж, затем имидж начинает работать на коллектив, принося, образно говоря, организационно-психологические дивиденд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ование позитивного имиджа организации было одной из управленческих целей в первое время работы центр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вкладывается в данное понятие, какова его роль в управлении ОО, а главное как заниматься его формированием – это тема отдельного курс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Технологии повышения привлекательности ОО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ель конкурентоспособной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дель конкурентоспособной организации включает в себя: конкурентоспособные результаты, на основе конкурентоспособного процесса, построенного на конкурентоспособных условиях, в конечном счете при услови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нкурентоспособного Управления.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ализованная в период моей управленческой деятельности модель образовательного учреждения ДОД показывает возможность создания и функционирования вполне конкурентоспособного учреждения, в том числе и в условиях ограничений бюджетного финансирова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ческие факторы влияния на личность и организац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507520" cy="4924440"/>
        </p:xfrm>
        <a:graphic>
          <a:graphicData uri="http://schemas.openxmlformats.org/drawingml/2006/table">
            <a:tbl>
              <a:tblPr/>
              <a:tblGrid>
                <a:gridCol w="1522440"/>
                <a:gridCol w="3322440"/>
                <a:gridCol w="3662640"/>
              </a:tblGrid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арак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ые стимулы 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и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и и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0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атериальная среда; изменение структуры, функций управляемых элементов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ркетинговая позиция руководителя; внутренний  и внешний «серви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о- психологического климата; обучение персонала, его оценка; культивирование норм и ценностей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рование имиджа организации, реклама и «продвижение» услуг; система «внутренней и внешней» обратной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атериальные фактор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ркетинговая позиция руководителя играет существенную стимулирующую роль в повышении активность других сотрудников в привлечении дополнительных средств, формировании «рыночного» мышления персонала О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того, чтобы эффективно реализовать свои цели, организация должна  выстроить «внутренний сервис», как основу формирования «клиентцентрированного внешнего сервиса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обходимо стремиться добиться такого информационного и организационного положения, которое позволяет не только реализовать ОО свои задачи, но и выполняет функцию рекламно-имиджевой поддержки учрежд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оральны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мидж и имиджеобразующая деятельность также приобретают регулятивный характер, оказывают влияние на отношения, поведение и настроения люд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 образ ОО, который создавался усилиями самих же сотрудников, постепенно приобретает влияние самостоятельного фактора регуляции их поведения и отношения к организации и своей рабо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стема «внутренней и внешней» обратной связи играет существенную роль как для эффективности индивидуальной и групповой деятельности (значимый маркетинговый элемент модели конкурентоспособной организации), так и для внутри- и межличностных чувств, состояний и отношений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основе анализа собственного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учитывая данные, представленные в литературе, приходим к выводу, что управление с помощью косвенных средств осуществлять сложнее (в т.ч. по временным затратам и «тонкости» инструмента), но одновременно психологически более эффекти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ое управление позволяет достигать системного синергетического эффекта, оно профессиональней и экономически выгодней, в частности в условиях ограниченности финансовых ресурс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тдельный элемент данной модели – это организация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такого направления как внебюджетная деятельность в рамках бюджетного образовательного учреждения, прошло в организации, которой я руководил 7 лет, несколько этапов и было, с одной стороны, инициировано мной, с другой – это был ответ на вызов ситуации (1993-2000 г.г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особенности ситуации тех лет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тсутствие средств даже на текущее функционирование ОО, не говоря о его развит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тносительная свобода руководителя ОО при существенных законодательных «прорехах» и отсутствии «удушающего» внимания контрольно-надзорных органов и лояльности руководства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«просто» родителя и обучающегося к Кли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на материальной заинтересованности и только с учетом реального спроса, поиск возможностей  удовлетворения реальных потребностей и работа с реальными клиентами, имиджевая и товарная реклама, продвижение своей услуги и организации в целом – все это требовало иных качеств от сотрудников и иного стиля взаимоотношений в организации как по «вертикали», так и по «горизонтал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9:09:58Z</dcterms:created>
  <dc:creator>Рашид Минасхатович Гайнутдинов</dc:creator>
  <dc:description/>
  <dc:language>en-US</dc:language>
  <cp:lastModifiedBy>gainutdinova</cp:lastModifiedBy>
  <dcterms:modified xsi:type="dcterms:W3CDTF">2014-02-11T14:27:31Z</dcterms:modified>
  <cp:revision>9</cp:revision>
  <dc:subject/>
  <dc:title>Маркетинг внебюджетной деятельности</dc:title>
</cp:coreProperties>
</file>