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E1E6-6FC8-4494-AEC8-B356CB5C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CDBB-79F3-4267-9E92-986384F5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1CD9-3549-48B5-ADDA-6678D444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D3A-64E1-4165-949A-2EE415D2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6210-7899-4A36-99F7-DED5981C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794E-C6E3-49E2-81BC-728D84BA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7171-01C4-4A2D-B560-7EB15D9F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771C-DB86-4296-A0A3-34F58D7A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660B-0280-43DA-9E6D-C86DE541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9DE0-7EE1-43CC-B9E8-1AF7F9A8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72C8-FAC1-4A26-844F-1C50C2C0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6902-81A6-474B-8746-5B974EFE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D243-ADC9-4697-8331-72E632F1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4BA3-658F-4FEC-83CC-440B01DA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8509-09B0-4706-A2F7-9EC3C651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3214-3CEC-450D-836D-42135F22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C34A-D3DA-48E4-9EF1-47FB83A8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5E48-0800-49F0-8F15-C1A5FE71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97AA-C161-4B3A-94AD-22F1DD05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A4D-4244-450B-8EC0-26B2D209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4C1-997F-41AF-B809-2D0D165A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2B1-71F9-44F0-A4C6-FE90BF6F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E5D-35F2-4525-B43B-55C050D1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940F-1B32-437E-B9A2-68534464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C7C3-931C-4CF9-BC7A-BAA0DC39B6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7AB9-2A6D-4241-AC00-DCE0AF4A4F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6;&#1074;&#1099;&#1096;&#1077;&#1085;&#1080;&#1077;%20&#1087;&#1088;&#1080;&#1074;&#1083;&#1077;&#1082;&#1072;&#1090;&#1077;&#1083;&#1100;&#1085;&#1086;&#1089;&#1090;&#1080;%20&#1096;&#1082;&#1086;&#1083;&#1099;&amp;fp=0&amp;img_url=http%3A%2F%2Ftrud22.ru%2Ffiles%2Ffck%2FImage%2Fnews%2FVOL_8146_.jpg&amp;pos=22&amp;rpt=simage&amp;lr=1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fp=1&amp;img_url=http%3A%2F%2Fozvest.ru%2Fwp-content%2Fuploads%2F2013%2F02%2Fgagarina_4-300x200.jpg&amp;uinfo=ww-1010-wh-564-fw-785-fh-448-pd-1&amp;p=1&amp;text=&#1087;&#1086;&#1074;&#1099;&#1096;&#1077;&#1085;&#1080;&#1077;%20&#1087;&#1088;&#1080;&#1074;&#1083;&#1077;&#1082;&#1072;&#1090;&#1077;&#1083;&#1100;&#1085;&#1086;&#1089;&#1090;&#1080;%20&#1096;&#1082;&#1086;&#1083;&#1099;&amp;pos=41&amp;lr=16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40000" y="765000"/>
            <a:ext cx="640872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сновы маркетинга  и маркетинговой стратегии </a:t>
            </a:r>
            <a:r>
              <a:rPr b="0" lang="en-US" sz="4400" spc="-1" strike="noStrike">
                <a:solidFill>
                  <a:srgbClr val="000000"/>
                </a:solidFill>
                <a:latin typeface="Mistral"/>
              </a:rPr>
              <a:t>C(</a:t>
            </a: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К)ОО; Д/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айнутдинов Рашид Минасхат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оцент кафедры менедж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ОАУ ЯО ИРО, к.пс. на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http://im2-tub-ru.yandex.net/i?id=13684312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2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вязи с обострившимся вниманием к внутренней жизни в учреждениях интернатного типа, кроме формирования открытости, необходимо особое внимание уделить развитию т.н. внутреннего маркетинг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.е. если мы хотим, чтобы сотрудники были сосредоточены на индивидуализации развития и поддержке детей, необходимо проявить вниманием к потребностям и развитию сотруд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детей-сирот, а также детей с ОВЗ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рушается связ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: а) социумом, б) культурой как источником развития; в) родителя и ребенка, т.к. взрослый носитель культуры не знает, каким образом передать тот социальный опыт, который каждый нормально развивающийся ребенок приобретает с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к. С(К)ОО имеют дело с большим разнообразием ОВЗ, а Д/д чаще всего с психологически травмированными детьми, значит это требует достаточно глубокой специализации и высокой квалификации кадров, а т.к. с кадрами в РСО вообще туго, то для С(К)ОО и Д/д это сверхсложная проблема, т.к. специалисты такого профиля и уровня зачастую «штучный» товар на 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ль маркетинга для С(К)О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ствами маркетинг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ть условия способствующие оптимизации процесса социализации детей с ОВЗ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формирования необходимых базовых навыков в сфере жизнеобеспечения, самообслуживания, социализации, коммуникации и рекреации, для адаптации их к обществу и интеграции (реинтеграции) в обществ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едства маркетинга: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 продвижение; партнерство; внутренний маркетинг; персон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образа открытой организации, в т.ч. через элементы ГОУ, информационной открытости и активности: взаимодействие со СМИ, ведение своего сайта, использование ресурсов соц. с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партнерских отношений: с учреждениями культуры; ОО всех типов: ОДО, ОПО; учреждениями спорта, досуга…; поддержка и инициирование интегративных процессов с социум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партнерстве с другими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05264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условий для профессионального образования детей, нуждающихся в специальном (коррекционном) образован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ние возможностей учреждений дополнительного образования детей для оказания помощи детям с ограниченными возможностями здоровь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системы раннего выявления отклонений в развитии и ранней помощи детям с ОВЗ в рамках межведомственного партнер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держка деятельности общественных организаций, занимающихся оказанием помощи и защитой прав детей, нуждающихся в С(К)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ы поддержки выпускников С(К) 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итие партнерства с семь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отношений с семьей и помощь родителям в освоении приемов и методов работы с детьми с ОВЗ, может быть, в т.ч., через поддержку муниципальных клубов, объединений родителей, имеющих детей с ОВЗ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язательное включение родителей в коррекционный процесс на основе выявления положительных сторон семьи и активизации ее реабилитационного потенц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нутренний маркетинг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итие персон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000" y="126828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условий труда и отдыха, способствующих «ребенкоориентированности» сотрудников (внутренний маркетинг), напр. комнаты психологической разгрузки, помощь психологов по профилактике проф. выгорания, работа с супервизорами; организация региональной/муниципальной службы коучинга специалистов и руководителей С(К)О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и обучение персонала: квалификация и готовность работать с иными деть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товность включает не только соответствующий уровень квалификации, но и мотивацию и ценности работы с детьми, имеющими ОВЗ: доброта, любовь к детям, терпение и терпимость, а не только и не столько стремление работать из-за наличия надбав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эффективного вн. маркетинга гораздо легче выстроить внешний маркет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елью связи с общественностью является формирование у широкой общественности позитивного имиджа организации. Работа с общественностью служит созданию доверия и понимания целей и мероприятий, реализуемых организаци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ешний маркетинг направлен на формирование привлекательного образа С(К)ОО, Д\д в глазах социума, т.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собность С(К)ОО привлекать расположение и позитивное внимание со стороны учредителя и потенциальных/реальных пользователей образовательных услуг (обучения, воспитания, социализации): детей, родителей, социальных партнеров, коллег; а также потребителей их «товара»: ОПО, субъектов рынка труда – работодателей и потенциальных сотрудников, как привлекательный работодатель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персон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 рынка труда: Рабочая сила рассматривается маркетингом с двух сторон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как товар, где главным являются потребительские свойства работников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как покупатель, который покупает рабочее место в обмен на свой тру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и: формирования имиджа ОО, как работодател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ормирования субъектов РТ о вакансиях: сегментирование РТ и источников информации, а также позиционирование своей организац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имер, реклама привлекательности С(К)ОО-работодателя во время учебы/стажировки студентов СПО, ВП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овое 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Что такое маркетинг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Зачем он нужен специальным (коррекционным) образовательным организациям (СОО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акие у СОО существуют возможности и ограничения для осуществления данной деятельно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оложение может выражаться в таких формах как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56000" y="1699920"/>
            <a:ext cx="613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бильно позитивный имидж организации, в т.ч. как работодател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олее высокие уровни инвестиций (внимания, финансов) со стороны учредителя, спонсоров, работодателя, род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верие и готовность к сотрудничеству со стороны социальных партнеров, в т.ч. ОСПО; ОДОД; ОВПО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im2-tub-ru.yandex.net/i?id=508414093-4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421000"/>
            <a:ext cx="22986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и повышение привлекательности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сть способов воздействия на клиента принято называть маркетинговыми коммуникациями или интегрированными маркетинговыми коммуникациями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всего к ним относя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кла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вязи с общественностью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моушн (продвиж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я думаю, что все, что воздействует на потребителя (потенциального в т.ч.) можно отнести в широком смысле слова 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т улыбки вахтера и гардеробщицы до запахов в туалет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всего вы должны научиться думать, как клиент и смотреть на свою организацию и её услуги глазами кли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ться маркетингом означает все врем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03280" y="1341000"/>
            <a:ext cx="5483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мать о своем кли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ть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ть потребности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о радовать 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Финляндии есть музей, где взрослым предлагается посмотреть на окружающий мир глазами детей: «Дети видят мир на уровне наших коленок»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im4-tub-ru.yandex.net/i?id=126237263-58-72&amp;n=21"/>
          <p:cNvPicPr/>
          <p:nvPr/>
        </p:nvPicPr>
        <p:blipFill>
          <a:blip r:embed="rId1"/>
          <a:stretch/>
        </p:blipFill>
        <p:spPr>
          <a:xfrm>
            <a:off x="0" y="907920"/>
            <a:ext cx="29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оориентирован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ся организация «заражена» клиентоманией, то ее называют клиенто-ориентированной. Здесь буквально все рассматривают только с одной позиции — с позиции Клиент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 – это незримое присутствие Клиента буквально везде в орган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поративное маркетинговое мышление само собой не возникает, его нужно воспитывать и разви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подумаем как это следует делать в ваших конкретных условиях: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в группах разработайте мини-проекты средств формирования ММ сотрудников Д/д, С(К)ОО - 20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иссия – это «визитная карточка» О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на должна быть привлекательна, понятна для всех, кто может воспользоваться образовательными услугами организац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иссия д.б. индивидуальна, уникальна, неординарна, в ней заключена основная «изюминка», образ «новизны», неповторимости коллектива, предназначение ОО в мире в целом, и в мире образования, в част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ключевым вопросом для определения миссии является «Кому и зачем все это нужно?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оптимально сформулировать миссию своей организации, желательно найти ответы на несколько вопросов «зачем?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чем эта организация учре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помогает понять ожидания учредителей и учесть их в выборе развития ОО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одной стороны, сохранить свое лицо, с другой – быть в курсе изменений, происходящих в системе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миссия ОО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условий для успешной социализации (в широком смысле слова) ребенка (человек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социализации представляет собой совокупность всех социальных процессов, благодаря которым индивид усваивает определенную систему норм и ценностей, осваивает необходимые компетенции, позволяющие ему жить и быть успешным  членом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сто и роль ОО в социализации личнос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, С(К)ОО, ОДО, ДОО, ОПО – все работают на решение указанной цели, но каждый из них  делает это с помощью только ему присущих средст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, а для детей с ОВЗ С(К)ОО – это инвариантная часть государственных институтов социализации ребенка, обеспечивающая временную и пространственную преемственность и взаимосвязь поколений и регион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Внешкольные образовательные учреждения (ДОО; ОДО; ОПО)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вариативная часть государственно-общественных институтов социализации ребен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и призваны создавать условия для обеспечения современного для данного общества и актуального для данной личности целостного ее развития (от раннего дошкольного, до профессиональной подготовки в зрелом возрасте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необходимости оказывают социально-психологическую поддержку и осуществляют психолого-педагогическую коррекцию и реабилитацию ребен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это образовательное учреждение обществу (социуму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едшие ответ на этот вопрос получают массу серьезных преимуществ. В первую очередь — точное понимание Клиент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(ещё раз зададимся вопросом - кто у нас Клиент?)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х, на кого ориентирована их деятельность, а также определение того, что и как предлагается в ответ на его за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понятия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052280"/>
            <a:ext cx="8435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ид человеческой деятельности, направленной на удовлетворение нужд и потребностей посредством обмена» (Ф.Котлер). Существует более 2000 опреде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предлагаем 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в сфере 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згляд на </a:t>
            </a: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ую организацию и её персонал), </a:t>
            </a: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процес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базовый бизнес-процесс - образовательный) и </a:t>
            </a: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для С(К)ОО, Д/д в первую очередь, уровень социализации, включенности в социум ребенка (в т.ч. с ОВЗ) на основе формирования необходимых базовых навыков в сфере жизнеобеспечения, самообслуживания и коммуникации)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с точки зрения его Потребител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родителя, ребенка, учредителя, общест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чем эта организация людям, которые в ней работают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4920" y="1267920"/>
            <a:ext cx="84978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ный поиск ответа на этот вопрос помогает создать атмосферу сопричастности ко всему происходящему в организации, соучастия в ее делах, столь важное в наше время чувство социальной принадлежности, позволяет обнаружить то, что отличает сотрудников вашего С(К)ОУ, Д/д от оста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твечая последовательно на эти Зачем? Попытайтесь сформулировать миссию своей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 на эти вопросы позволя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ссию ОО образно представить как «флаг», который нужен для ее презентации внешнему миру (в первую очередь клиентам), и, в то же время, «знамя», под которое собираются люди, чтобы сплоченной командой воплощать в жизнь дела, которых ждет от ОУ внешний ми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о отметить, что выбор миссии ОО в обязательном порядке должен быть согласован с субъектами муниципальной/региональной  системы образования, которые выражают интересы всего населения данной террит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 из задач С(К)ОО – снизить «прессинг инкультурации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котором говорит А.Маслоу, приводящий к фрустрации и ограничениям естественного права ребенка на развитие в процессе социализ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синг инкультурации, т.е. воспитания, дисциплины, формирования социальных навыков, подготовки к будущей взрослой жизни, осознания потребностей и желаний других людей в какой-то степени, разумеется, необходим, но процесс воспитания перестанет раздражать нас и ребенка только тогда, когда его будет окружать атмосфера приязни, любви и уважения друг к друг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 думаю, что для С(К)ОО это особенно значимая позиц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 родной для меня ОДОД – центр «ЛАД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ное выражение миссии центра «Л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4000" y="90792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веренность в будущем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 в настоящем!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 стремится к тому, чтобы дети и взрослые получал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д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деятельности и общения с нами и друг с друг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год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благодаря усвоению полезных знаний и навыков, а также иным средствам и механизмам социализации увеличивали бы шансы н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вер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обственном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будущ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ЛАД» это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чность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птация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уг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ственное имя центра «ЛАД» указывает не только на приоритет социально-психологических отношений в коллективе сотрудников и детей, но является аббревиатурой основного предназначения данной О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вободного времени (радость в настоящем!) для развития личности с целью повышения ее адаптивных качеств (уверенность в будущем!) в атмосфере принятия друг друга и взаимоуважения (лада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шняя функция ми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определить статус ОУ, его имидж, так как различные виды и варианты ОО существенно отличаются друг от друга именно по принимаемой на себя ми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сно заявляя о своей миссии, ОУ как бы предъявляет потенциальным заказчикам, клиентам, партнерам свою визитную карточку, что очень важно для установления будущих отношений социального партне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асность противоречий между миссией и действитель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очетании с ясно сформулированной миссией девиз можно поместить «снаружи», чтобы дать клиентам и работодателям первоначальное представление о том, чего можно ждать от этой школ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о если ясно сформулированной миссии нет, или внутренние процессы и отношения в организации вступают в противоречие с заявленным «знаменем», девиз вскоре может превратиться в пустую, бесполезную и даже раздражающую всех фраз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отрим основные средства, инструменты маркетинг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.н. маркетинг-микс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пция 4 П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укт (особенности и конкурентные преимущества предлагаемых услуг или товар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ажная цена (затраты, которые несет обществ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вижение (реклам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ребители (особенности сегмен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П (к 4 П добавляются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ство (образовательный процесс: содержание и технологи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сонал (качество и приверж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ук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ш продукт (это качество образовательных услуг и «товара») есть нечто ценное, что есть у вас и что вы можете обменять на то, что нужно вам – содержание и развитие О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продвинуть ваш продукт на рынок, вам нужно так описать его, чтобы люди, которым вы его предлагаете, могли ясно понять, что это и как это отвечает их потребностя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ветствует ли ваш продукт потребностям вашей целевой группы по качеству и удовлетворяет ли он ее специфические потреб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а/зат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имость произведенной услуги на 1 обучающего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траты здоровья персонала и обучающихся на то качество услуг («товара»), которое обеспечивается в процессе совместного «производ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– это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ософия дела – идти от Клиен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деятельности с обязательным учетом внешних услов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тегия и тактика поведения на рынке образовательных услуг на основе его изучения и знания потребностей Клиента, перспектив изменений внешних условий, своей миссии и возможностей коллекти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организ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инструментов повышения эффективности управления чем(кем)-л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виж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пень использования маркетинговых коммуникаций в О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моуш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утренний маркет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ребите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, знание особенностей и предпочтений потенциального и реального контингента, а также ЛПР (лица принимающего решен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успеха - знание потребителя, его возможностей и ограни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о – образовательный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и соответствие поставленным целям со сторо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а (ФГОС)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ода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трудники должны обладать маркетинговым мышлением, быть профессионально готовыми к достижению поставленных целей, удовлетворению спроса на обеспечение качества образования (пример, стандарт учител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обрнауки.рф/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0%B4%D0%BE%D0%BA%D1%83%D0%BC%D0%B5%D0%BD%D1%82%D1%8B/307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ОО: </a:t>
            </a:r>
            <a:r>
              <a:rPr b="0" lang="ru-RU" sz="3100" spc="-1" strike="noStrike">
                <a:solidFill>
                  <a:srgbClr val="0070c0"/>
                </a:solidFill>
                <a:latin typeface="Calibri"/>
              </a:rPr>
              <a:t>общее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, особенное, уникально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907920"/>
          <a:ext cx="8291520" cy="5739120"/>
        </p:xfrm>
        <a:graphic>
          <a:graphicData uri="http://schemas.openxmlformats.org/drawingml/2006/table">
            <a:tbl>
              <a:tblPr/>
              <a:tblGrid>
                <a:gridCol w="2316240"/>
                <a:gridCol w="2987640"/>
                <a:gridCol w="2987640"/>
              </a:tblGrid>
              <a:tr h="72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е для С(К)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никальное для конкретной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65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4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5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ы маркетинговой стратегии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6 шаг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ка образа организации и концепции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внешн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конкур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потребител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собственной ситуации, позиционирование организации на рынке образовательных услу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улирование целей и разработка стратегии и тактики комплекса маркетинга и маркетинговых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1. Образ ОО – его куль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в в вашем представлении желаемый образ ОУ в 2015 год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гда внешнее представление о вашей организации совпадает с представлением о нем сотрудников, меры по формированию индивидуальности ОО, а значит, и сама деятельность учреждения будут эффектив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ффективными становятся те ОО, которым удается создать долговременные конкурентные преимущества благодаря культуре управления (они в отличие от технических ноу-хау имеют большую защищенность от повторения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2. Диагностиче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нализ внешней среды и его основные инструмен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ключевых вопросов: кто? что? зачем? где? чем? как? когд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O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 -  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Е - матрица стратегического положения и оценки действий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old.acconcept.ru/strategy/space.htm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PEST-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составления профиля среды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bibliotekar.ru/upravlenie-4/42.htm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VRIO анализ  Дж. Барни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creativeconomy.ru/articles/12440/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ктические методы анализа реальной позиции организации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опора на курс «Основы менеджмента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1280" y="1773000"/>
            <a:ext cx="807552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роведения стратегического анализа включает два основных этап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анализ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нализ внешней среды: возможности и угрозы внешних воздействий: степень их влияния и вероятность наступ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Анализ внутренней среды: сильные и слабые стороны организации: вычленить приоритетные направления с помощью которых можно сформировать стратегию ОО на рынке О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4271"/>
                </a:solidFill>
                <a:latin typeface="Calibri"/>
              </a:rPr>
              <a:t>VRIO анализ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разработанны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ж. Барни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анализа ресурсов и  способностей, определения их ценности и эффективности исполь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игрыш – выигрыш; выигрыш-потеря или потеря - поте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обеспечение для С(К)ОО и потребителя (в лице родителя/учредителя) ситуации «выигрыш-выигры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ям (и детям) нужны не образовательные услуги как таковые, а удовлетворенные потребности и решенные пробл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Какие потребности мы помогаем им удовлетворя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Какие проблемы помогаем реш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Ценность (valu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озволяют ли ОО ресурсы и способности использовать внешние возможности (например использование инноваций или участие в конкурсах и получение грантов) и нейтрализовать угрозы (например, угрозу резкого снижения контингента в силу потери ликвидации экономических субъектов в данном МР, или активности соседней ОО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дкость (rarenes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колько конкурентов обладают аналогичными ресурсами и способностями (например, природной уникальностью, эффективным образовательным процессом, хорошей МТБ, обеспечение повышенных разрядов выпускников СПО, готовностью педколлектива работать с детьми с ОВЗ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ида и пр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спроизводимость (imitability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насколько сложно и дорого получить доступ к данным ресурсам и способностям, использовать  их в текущей образовательной деятельности (например, возможно ли быстро организовать учебный процесс на современном уровне, осуществить модернизацию учебного процесса в соответствии с требованиями работодателя, повысить имидж образовательного учреждения, освоить педтехнологии работы с детьми с ОВЗ и д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рганизованность (organization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полной ли мере ОО задействует эти ресурсы и способности для реализации своего конкурентного потенци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блема может быть в том, что ресурсы образовательного учреждения могут быть никак не задействованы в образовательном процессе, либо не используются или неправильно используются при  позиционировании и продвижении своей организ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3. Анализ конкурентов (бенчмаркин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сильные и слабые стороны существующих и потенциальных конкурент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ую сферу образовательной деятельности не стоит вторгаться в связи с сильными позициями там других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«ахиллесова пята» вашего основного конкурен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ет быть вам лучше наладить сотрудничество, чем конкурировать с конкретными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кторы успеха (Ф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утренние достижения ОО, не проявляющиеся на рынке непосредственным образом, например, владение новейшими педтехнологиями, активная методическая работа, инновационная активность коллектива, квалификация и дисциплина персонала, хорошо поставленный документооборот… - все это очень важно, но большинство родителей, да и детей могут об этом даже не догадываться, более того – им это не интересн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дить об ОО они будут по тем достоинствам, которые доходят до них непосредственно и являются для них потребительской ценн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кторы успеха могут переходить в конкурентные преимущества (КП), а могут оставаться лишь внутренним достоянием организации, зато очень важным и необходимым для порождения конкурентных преимуще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даже утверждать, что любое конкурентное преимущество ОУ коренится в определенных факторах успеха орган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кус конкуренции (Ф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кус конкуренции – это приоритеты, которыми пользуются клиенты (родители прежде всего) при выборе ОО или принятии решения о его с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онкурентные преимущества ОО вырабатывают сами, то фокус конкуренции – это критерии, которые вырабатывает потребитель навстречу этим К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ы ФУ и их составляющие</a:t>
            </a:r>
            <a:r>
              <a:rPr b="0" lang="ru-RU" sz="4000" spc="-1" strike="noStrike">
                <a:solidFill>
                  <a:srgbClr val="ccc1da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технологиями: компетентность в новых проектных, исследовательских технологиях; способность к инновациям; роль экспертов в данной технологии; признание в проф. сообществе…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освоения передовых технологий для рынка тру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образовательным процессом:  реализация системно-деятельностного подхода при формировании УУД, метапредметных, личностных компетенций;  оптимальное сочетание урочной и внеурочной деятельности…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 информированием и продвижением (сайт, СМИ, иные ИК технологии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основного персона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компетентностью в управлении и наличие управляющих ноу-хау (например, изменение оргструктуры; формирование классов переменного состава…;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рендовые и имиджевые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о вертикали впишите характеристику элементов ММ ОО и б) по графам произведите оценку своих 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981000"/>
          <a:ext cx="8964720" cy="5543640"/>
        </p:xfrm>
        <a:graphic>
          <a:graphicData uri="http://schemas.openxmlformats.org/drawingml/2006/table">
            <a:tbl>
              <a:tblPr/>
              <a:tblGrid>
                <a:gridCol w="1979640"/>
                <a:gridCol w="1606680"/>
                <a:gridCol w="1792080"/>
                <a:gridCol w="1792440"/>
                <a:gridCol w="1793880"/>
              </a:tblGrid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маркетинг-мик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кальное конкурентное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му уровню  по региону/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/допустимый  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изменя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ые преимущества (К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те достижения ОО, факторы успеха, которые попадают в фокус конкуренции и обеспечивают конкурентные преимущест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П (или ключевые факторы успеха) не только напрямую воспринимаются и оцениваются клиентами, но являются дифференцирующими признаками их потребительского выб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кетологи ещё иногда называют их «продающими моментам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м больше у вас продающих моментов, тем луч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476000" y="981000"/>
            <a:ext cx="67532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йте в группах особенности работы  С(К)ОО, которые, с вашей точки зрения, важно учесть при использовании маркетингового подхода в управле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http://im1-tub-ru.yandex.net/i?id=441066139-02-72&amp;n=21"/>
          <p:cNvPicPr/>
          <p:nvPr/>
        </p:nvPicPr>
        <p:blipFill>
          <a:blip r:embed="rId1"/>
          <a:stretch/>
        </p:blipFill>
        <p:spPr>
          <a:xfrm>
            <a:off x="0" y="0"/>
            <a:ext cx="3059280" cy="3141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562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 конкурентному преимущест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692000" y="1700280"/>
            <a:ext cx="6994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относиться все перечисленные выше факторы, позволяющие успешно конкурировать на рынке и побеждать в конкурентной борьб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группах подготовьте свои сужден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в настоящий момент в фокусе конкуренции на рынке образовательных услуг в крупных городах (ДОО, СОО; С(К)ОО; ОДО; ОПО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что будет сдвигаться ФК в недалеком будуще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попадет в ФК в дальней перспектив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4. Анализ потреб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24000" y="1341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добиться успеха, думай не о себе, а о друго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сегментирование рынка и позиционирование 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учетом данных о состоянии рынка образовательных услуг необходимо анализировать сильные и слабые стороны своего учреждения, выявлять потребности, прогнозировать тенденции, искать сильные пози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5. Анализ собственной ситуации и определение позиции на ры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надо ответить на вопрос: «Что нам мешает в данный момент удовлетворить образовательные потребности наших клиентов лучше, чем конкурент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осуществляется переход от аналитического раздела к практической разработке страте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уется ориентация на перспективные направления рынка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6. Формируется маркетинговая стратегия и тактика О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основе предыдущих шагов формулируются конкретные, мотивационные цели организац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основе разработанных концепций и определенных целей маркетинговой стратегии начинается оперативное маркетинговое планировани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мечаете комплекс маркетинговых мероприятий, в т.ч. интегрированные маркетинговые коммуникации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продв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blic Relation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вязи с обществен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ытия/мероприятия  (ивент/эв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http://im4-tub-ru.yandex.net/i?id=194040097-71-72&amp;n=21"/>
          <p:cNvPicPr/>
          <p:nvPr/>
        </p:nvPicPr>
        <p:blipFill>
          <a:blip r:embed="rId1"/>
          <a:stretch/>
        </p:blipFill>
        <p:spPr>
          <a:xfrm>
            <a:off x="155520" y="0"/>
            <a:ext cx="1428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ительно к С(К)ОО – это попытка удовлетворить интерес к нему и его услугам путем передачи имеющейся информации через различные каналы, организация общественного мнения в целях формирования образа открытого, экологичного в широком смысле слова учреждения, повышения репутации и привлекательности организации в глазах родителей (опекунов), учредителя, социу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разместить информацию в С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ществует мнение, что разместить информацию об ОО можно только за деньги. Это часто верно, но не всег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 ОО происходят социально значимые события, интересные за пределами школы – это может вызвать интерес журналистов газет и 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ить о событиях можно рассылая пресс-релизы в печатные, электронные и ТВ С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главии пресс-релиза необходимо обязательно указать: кто проводит мероприятие, для кого и с какой целью, место и сроки пр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е содержание д.б. посвящено краткому описанию структуры и содержания меропри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исании текста нужно использовать те слова и выражения, которые не требуют от читателя знания специальных пед.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яду с рассылкой пресс-релизов необходимо лично приглашать журналистов (легче районных и городских, сложней региональных и федеральны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шение представителей ТВ потребует наибольшей предварительной подготовки со стороны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работы с 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работы корреспондента уточните, в какой передаче и в какой рубрике будет представлен ваш материал, сколько времени в эфире займет рассказ. Важно узнать, сколько по времени и как планируют снимать сюжет, согласуйте свои предложения с планами журна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у бригады ограниченное, поэтому они смогут уделить вашей школе ограниченное время. Заранее определите ответственного, кто будет сопровождать корреспондента, комментировать происходящее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жите корреспонденту и оператору наиболее яркие моменты праздника, собы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ните, что ТВ это прежде всего динамичная карти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умайте о постановочных кад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се события можно запечатлеть в реальном времени и тем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полне уместно будет попросить участников специально для ТВ спеть песню, поиграть в игру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приезд журналистов и создание постановочного сюжета не мешали проведению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епортаж предполагает выступ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анее подготовь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текст был кратким, содержательным и понятным любому челов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тветах на вопросы интервью будьте краткими и отвечайте без длинных вводных фраз – это все равно выреж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С(К)ОО 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моя точка зрения – ГР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и организации до последнего времени имели закрытый характер и ограниченный выход детей в социум, а сейчас речь идет об интеграции не только этих организаций, но и детей (включение, инклюзия), а значит стоит задача выстраивания отношений с другими («дорожная карта» партнерства и интеграци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оме того достаточно остро стоит проблема формирования «бытовой» толерантности, принятия «иных» детей и взрослых в социу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завершение работы с корреспонд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ите ему пресс-релиз, в котором будет описано прошедшее событие, а также имена, отчества, фамилии и должности всех, кто был активным участником репортаж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попросить проверить Ф.и.о., должности участников, которые корреспондент мог записать на слух с ошибками, неточност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очните время выхода репортажа и договоритесь о возможности переписать итоговый репортаж и черновой материал для архива учреждения (его надо использовать для других мероприятий, выложить на сай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и странно, но это также вполне привыч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 жителями микрорайо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скими садами по работе с будущими первоклассник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понсорами, с шефами, с работодателями, депута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8000" y="0"/>
          <a:ext cx="9036000" cy="6800760"/>
        </p:xfrm>
        <a:graphic>
          <a:graphicData uri="http://schemas.openxmlformats.org/drawingml/2006/table">
            <a:tbl>
              <a:tblPr/>
              <a:tblGrid>
                <a:gridCol w="1047600"/>
                <a:gridCol w="1141560"/>
                <a:gridCol w="1141200"/>
                <a:gridCol w="1140120"/>
                <a:gridCol w="1141200"/>
                <a:gridCol w="1141560"/>
                <a:gridCol w="1141200"/>
                <a:gridCol w="1141560"/>
              </a:tblGrid>
              <a:tr h="161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уп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т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ребов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сбоев в передаче инф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ност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ая встреч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ка объя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мят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р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и С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ямая (адресная) почтовая рассыл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жегодная рассылка бывшим выпускникам красочно оформленных календарей с символикой С(К)ОО, поздравительных открыток, благодарственных писем родителям, спонсорам, партне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тавки и семина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остранение рекламной продукции, касающейся основной деятельности ОО во время проведения и участия в конференциях, выставках и др. массовых мероприят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ежегодной презентации в различных районах города, на площадках других учреждений, приурочивание проведения презентаций к большим праздникам: день района/улицы/города, День учителя, Новый год, Последний звонок, День рождения С(К)ОО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логи и букл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одителей, партнеров, попечителей, спонсоров необходима правильная расстановка акцентов, но при этом не стоит забывать об учете сложившегося имиджа ОО и соответствия разработанной стратегии её развит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ламные щиты и наружная рек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необходимого согласования (ГИБДД, администрация, собственник, отдел рекламы) можно использовать имеющийся автобус, штендеры или растяжки на территории школы, её фасаде, а также на оживленных перекрестках, пешеходных зонах в пар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лефонный маркетинг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дение телефонного анкетирования среди родителей, попечителей, спонсоров и т.п. накануне нового учебного года или его оконч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рменные сувениры: вручение детям, родителям, выпускникам, гостям школы ручек, календариков, поделок воспитанников и т.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зитные карточки, методическая литература с рекламой школы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 в школьных С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ль органов государственно-общественного управления С(К)О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формировании положительного образа С(К)ОО может существенную роль играть его Попечительский совет, важнейшей функцией которого является лоббирование интересов О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и, правильно понимающие значение данного органа, активно привлекают к его работе родителей, депутатов, представителей общественных организаций, бизнесменов и т.п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в рамках его деятельности крайне важно проводить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акции, привлекающие внимание, а затем, возможно, и финансы, для О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илу ограниченности имеющихся ресурсов, а также отхода от патерналистской позиции со стороны государства, необходима активизация деятельности, направленной на вовлечение в процесс социализации детей с ОВЗ: меценатов, волонтеров; дополнительные усилия по «лоббированию» интересов СОО, Д\д в ОИ и ЗВ, в т.ч. законодательных изменений; поиск опоры среди работодателей, в бизнесе, системы ПО, …; расширения сфер стимулирования и реализации собственной социальной активности детей, включая детей с ОВ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ценка эффективности маркетинг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я численности контингента на фоне демографических изменений района; для ОПО - обеспечение плана набора/конкурс на отдельные професс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й характеристик имиджа ОО: узнаваемости и привлекательности организации, наличия и оценки имени, позитивное отношение к С(К)ОО и её выпускник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отиворечивость, конгруэнтность внутреннего и внешнего маркетинга, содержания и формы, адекватность имиджа реа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реализации проекта, позволяющая фиксировать результаты выполненных работ, произошедшие изменения во внутренней культуре школы, элементах имиджа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 целевой аудитории теми формами работы, в которые они были вовлече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удовлетворенности работой ОО со стороны: учредителя, родителей, обучающихся, персона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обратной связи в т.ч. неорганизованной (соц. сети, форумы, чаты, блоги…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Д/д, и С(К)ОО в настоящее время наблюдается пристальное внимание с точки зрения соблюдения общечеловеческих прав и достоинства детей, обеспечения ухода, обучения и воспитания детей-сирот, а также детей с ОВЗ - это ставит задачу формирования образа открытого, учреждения, готового к сотрудничеству и нацеленного на реализацию интересов детей с учетом их индивидуальных возмож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1:21:02Z</dcterms:created>
  <dc:creator>gainutdinova</dc:creator>
  <dc:description/>
  <dc:language>en-US</dc:language>
  <cp:lastModifiedBy>Рашид Минасхатович Гайнутдинов</cp:lastModifiedBy>
  <dcterms:modified xsi:type="dcterms:W3CDTF">2014-02-24T14:00:13Z</dcterms:modified>
  <cp:revision>81</cp:revision>
  <dc:subject/>
  <dc:title>Технологии повышения привлекательности  образовательной организации</dc:title>
</cp:coreProperties>
</file>