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730-30CB-46D4-B7D5-E8788F72C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5DA1-7B52-4C5A-AA73-CC1E09E3C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C53-C584-4A8D-9A2E-9E33E9EE3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59EC-D605-4498-ADE1-EF33AC001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5AB-FC3B-4942-9D87-72BCDC48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FE5-A4B4-4CBD-9D0D-5FB97E0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15A-9741-4716-89ED-E57AFD12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8E1-9AA2-4B4A-A90E-25515EA3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086-8262-4414-859C-5FF8E32D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80B-7315-47A2-BCFD-7CB5AE5D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8C81-659C-4CAF-9869-6EBB096D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FA9E-3760-4508-832F-6538924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1219-6BCA-4CE8-8CD0-BFD2D75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674-4AE8-4410-AC52-C12E38E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3244-9DB1-4309-A777-678D042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98C-7C99-406D-8498-837ACDB9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B04-AB9C-40DE-9B20-7603216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636-7547-40FD-A62D-60DA8005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C4C7-9FB7-4BCE-84FA-927F1DFD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4E7-D870-4BCA-9827-DDC10FC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1CB-9D57-4405-B791-04FE3D5C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18F-BDAE-40B2-8A1F-EB2BD08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8FA-8615-42C4-A7A7-8EB8DB6E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ABA-8AF7-4910-9587-B5C8D088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135-3A07-4769-AC29-4519F052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2FA-7872-4C51-9F8F-DA489C9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0BD-8C6D-4E89-9844-6D81309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8E9-0762-42CC-A01A-8544C11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EF5-9783-497C-BAD6-9F7FA9051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B7E-4F4C-49E6-B868-65FAFA7E7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ld.acconcept.ru/strategy/spac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О, ОД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О – это вариативная часть государственных институтов социализации ребенка, обеспечивающая развитие личности, преемственность и взаимосвязь поколений и ОО, причем делает это в самой тесной связи с семь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го ОУ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ДОО в обязательном порядке должен быть согласован с субъектами муницип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дошкольным образовательным организациям (Д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Д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Д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«товара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воспитательно-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ечно, ДОО находятся на позиции монополиста услуг в сфере ДО в большинстве районов, однако, это не должно вас успокаивать: во-первых, это не навсегда; во-вторых, есть ещё «имя», которое формирует отношение к ДОО, ценность в глазах Клиента, и, соответственно, желание или нежелание сотрудничать, помогать; испытывать благодарность и рекомендовать или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воспитанника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родителей и дет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, а можно за счет энергии, возникающей в условиях взаимного доверия и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КК детоцентризма, взаимоуважения, вовлеченности и сотрудничества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/кли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 чаще всего в лице родителя, его запросов,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воспитательно-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воспитателей/специалистов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в сотрудничестве с семьей, чтобы не формировались, по образному выражению А.Г.Асмолова «невротические салочки» воспитатель-р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 процесс – воспитательно-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первую очередь родителя, а также других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Д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907920"/>
          <a:ext cx="8604360" cy="5492880"/>
        </p:xfrm>
        <a:graphic>
          <a:graphicData uri="http://schemas.openxmlformats.org/drawingml/2006/table">
            <a:tbl>
              <a:tblPr/>
              <a:tblGrid>
                <a:gridCol w="2470320"/>
                <a:gridCol w="2947680"/>
                <a:gridCol w="318636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ДОО, например, в 2015 году (в соответствии с миссией О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Д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экономических субъектов в данном населенном пункте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выгодным местоположением, эффективным воспитательно-образовательным процессом, хорошей МТБ, готовностью педколлектива работать с детьми с ОВЗ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 с учетом требований нового ФГОС, осуществить модернизацию воспитательно-образовательного процесса в соответствии с требованиями учредителя, повысить имидж образовательного учреждения, освоить 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Д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в условиях рын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услуг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и уж тем более детей,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 Д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Д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ыми качествами воспитателей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специалистов и медиков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педагогическими технологиями: компетентность в новы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ухода и присмотра, здоровьесохранения и развития дет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личности ребенка;  оптимальное сочетание воспитательной и обучающе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Д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руководителя ДОО и наличие управляющих ноу-хау (например, изменение оргструктуры; формирование групп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среди Д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-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учредителя,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средней школы прежде 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Д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онополизм ДОО вредит их развитию и отвлекает внимание от качества их работы, т.к. концентрирует на дефиците мест в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СОШ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ПО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школами-партнер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Д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Д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Д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 партне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управления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ДОО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Д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ыпускников ДОО со стороны партнеров-шк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родителем, партнером, учителем из соседней школы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6:25Z</dcterms:modified>
  <cp:revision>71</cp:revision>
  <dc:subject/>
  <dc:title>Технологии повышения привлекательности  образовательной организации</dc:title>
</cp:coreProperties>
</file>