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9CE7-2D29-448A-8FDA-C9D9294CC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3863-B012-425F-BCF2-0F22CE52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6936-DC92-4498-8754-C678CF2BB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5572-749A-4235-9114-4B133A14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8769-0224-4825-BF19-39BBA2516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A3AF-5CB3-41BD-BFFC-DA549B46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555B-4EA5-48AE-9328-F9B27FDB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B6BF-BFF5-4320-9A25-9B3CF6D9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3828-D086-4B8A-8369-0DDD828D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127F-9CF2-4A2A-853E-789D12AD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6257-0377-4E43-9E7A-D42A9EBC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E60F-ED7A-4D57-95F1-BA7955C7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8AC1-BE0C-45A8-BE82-3CB6E334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F297-D10B-4545-98DD-D179F1AD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8C1C-5F16-460C-A05A-916D5CC9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F91A-DF6B-4290-8A46-00861FAF0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471E-D7C5-4074-9EE3-AEDFFD9C1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B593-72A0-48C7-A411-3EBC393E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DDA2-A116-4A5B-A5A0-4A80F794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5E4E-C0C4-4D61-908C-A35A4DD9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56ED-D219-4D6F-9230-F39F3564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64F6-6398-4BB0-998E-13AFC4A2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5A05-AE75-4CF3-9D9A-FB1CB953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59F4-9329-4938-AC51-260C9EB5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F644-A782-4669-BE50-5A1D20EE46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35C3-67D6-42B2-942B-8978421A65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Разработка управленческого решен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916000" y="3500280"/>
            <a:ext cx="584676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Book Antiqua"/>
              </a:rPr>
              <a:t>Тема </a:t>
            </a:r>
            <a:r>
              <a:rPr b="0" lang="en-US" sz="3400" spc="-1" strike="noStrike">
                <a:solidFill>
                  <a:srgbClr val="000000"/>
                </a:solidFill>
                <a:latin typeface="Book Antiqua"/>
              </a:rPr>
              <a:t>2</a:t>
            </a:r>
            <a:r>
              <a:rPr b="0" lang="ru-RU" sz="3400" spc="-1" strike="noStrike">
                <a:solidFill>
                  <a:srgbClr val="000000"/>
                </a:solidFill>
                <a:latin typeface="Book Antiqua"/>
              </a:rPr>
              <a:t>. Популярные модели принятия управленческих решений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38648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Системный подход обеспечивается целостностью системы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Целостность системы и ее "отделенность" от окружающего мира обусловлены тем, что взаимосвязи внутри системы существенно сильнее, чем связь какого-либо ее элемента с любым элементом, лежащим все системы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6666"/>
                </a:solidFill>
                <a:uFillTx/>
                <a:latin typeface="Arial"/>
              </a:rPr>
              <a:t>Модель инкрементального процесса принятия решений</a:t>
            </a: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2000" y="1628640"/>
            <a:ext cx="706752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снователи – Генри Минцберг и его коллеги (Университет МакГилла в Монреале, Канада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 курса теория организаци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«Формирование жизнеспособной структуры»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(«Структура -5», Генри Минцберг, Канада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в книге «Структура в кулаке: создание эффективной организации», которая была издана в 1983 году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еория организационного дизайна в среде теоретиков и практиков, занимающихся проектированием организаций, получила краткое название «структура – 5». 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юбая организованная человеческая деятельность выдвигает два фундаментальных, но противоположных требования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деление труда на отдельные задачи 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координация действий по выполнению этих задач в единую деятельность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руктура организации, по Г.Минцбергу, определяется как простая совокупность способов, посредством которых процесс труда сначала разделяется на отдельные рабочие задачи, а затем достигается координация действий по решению задач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ять координационных механизмов раскрывают способы, посредством которых организации координируют свою деятельность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.  взаимное согласование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. прямой контроль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. стандартизация рабочих процессов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. стандартизация выпуска 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5. стандартизация навыков и зна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 взаимном согласовании контроль над процессом труда осуществляется самими работникам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 прямом контроле ответственность за работу других людей, определение заданий для них и наблюдение за их действиями возлагается на одного человек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6666"/>
                </a:solidFill>
                <a:uFillTx/>
                <a:latin typeface="Arial"/>
              </a:rPr>
              <a:t>Модель инкрементального процесса принятия решений </a:t>
            </a:r>
            <a:r>
              <a:rPr b="1" lang="ru-RU" sz="3000" spc="-1" strike="noStrike" u="sng">
                <a:solidFill>
                  <a:srgbClr val="006666"/>
                </a:solidFill>
                <a:uFillTx/>
                <a:latin typeface="Arial"/>
              </a:rPr>
              <a:t>(ППР)</a:t>
            </a:r>
            <a:r>
              <a:rPr b="0" lang="ru-RU" sz="3000" spc="-1" strike="noStrike" u="sng">
                <a:solidFill>
                  <a:srgbClr val="006666"/>
                </a:solidFill>
                <a:uFillTx/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6666"/>
                </a:solidFill>
                <a:uFillTx/>
                <a:latin typeface="Arial"/>
              </a:rPr>
              <a:t>(продолжение)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6920" y="1827000"/>
            <a:ext cx="749628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Сущность метода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нимание акцентируется не на политических и социальных факторах, а на структурной последовательности действий па протяжении всего процесса: с момента обнаружения проблемы –и до момента её решения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Главный выбор складывается из серии мелких выборов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ППР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может натолкнуться на барьеры, и тогда возможно </a:t>
            </a:r>
            <a:r>
              <a:rPr b="0" i="1" lang="ru-RU" sz="2500" spc="-1" strike="noStrike" u="sng">
                <a:solidFill>
                  <a:srgbClr val="000000"/>
                </a:solidFill>
                <a:uFillTx/>
                <a:latin typeface="Verdana"/>
              </a:rPr>
              <a:t>временное прерывание решения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. (пауза)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термин Г. Минцберга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огда эта пауза необходим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735156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 u="sng">
                <a:solidFill>
                  <a:srgbClr val="006666"/>
                </a:solidFill>
                <a:uFillTx/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Сущность метода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3000" spc="-1" strike="noStrike" u="sng">
                <a:solidFill>
                  <a:srgbClr val="006666"/>
                </a:solidFill>
                <a:uFillTx/>
                <a:latin typeface="Arial"/>
              </a:rPr>
              <a:t>инкрементального процесса принятия решений </a:t>
            </a:r>
            <a:r>
              <a:rPr b="1" lang="ru-RU" sz="3000" spc="-1" strike="noStrike" u="sng">
                <a:solidFill>
                  <a:srgbClr val="006666"/>
                </a:solidFill>
                <a:uFillTx/>
                <a:latin typeface="Arial"/>
              </a:rPr>
              <a:t>(ППР)</a:t>
            </a:r>
            <a:r>
              <a:rPr b="0" lang="ru-RU" sz="3000" spc="-1" strike="noStrike" u="sng">
                <a:solidFill>
                  <a:srgbClr val="006666"/>
                </a:solidFill>
                <a:uFillTx/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6666"/>
                </a:solidFill>
                <a:uFillTx/>
                <a:latin typeface="Arial"/>
              </a:rPr>
              <a:t>(продолжение)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ППР – динамический процесс, с паузами и остановками, но идущий вперед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ППР может идти по нарастающей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ППР проходит множество циклов, пока проблема не будет решен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Недостатки методов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кспертного опроса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, модели Карнеги и метода </a:t>
            </a:r>
            <a:r>
              <a:rPr b="0" lang="ru-RU" sz="3000" spc="-1" strike="noStrike">
                <a:solidFill>
                  <a:srgbClr val="006666"/>
                </a:solidFill>
                <a:latin typeface="Arial"/>
              </a:rPr>
              <a:t>инкрементального принятия решений</a:t>
            </a:r>
            <a:r>
              <a:rPr b="0" lang="ru-RU" sz="3000" spc="-1" strike="noStrike" u="sng">
                <a:solidFill>
                  <a:srgbClr val="006666"/>
                </a:solidFill>
                <a:uFillTx/>
                <a:latin typeface="Arial"/>
              </a:rPr>
              <a:t> </a:t>
            </a: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Фокусируются на конкретной одной проблеме (или двух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е могут одновременно просчитывать десятки решений для многих пробле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рудоемк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езультат часто отдален во временном промежутк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Модель мусорного ящик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Авторы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Майкл Коэн, Джон Олсен,  Джеймс Марч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вспомним: «Теория административного поведения» Д. Марч, Г. Саймон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Повторение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Главные идеи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«Теории административного поведения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Чем точнее обозначена цель, тем рациональнее поведение в организац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Цели определяются ценностными предпосылками организаци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нструирование цепочек «СРЕДСТВА – ЦЕЛИ», где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средств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выбираются руководством посредством принятия реш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веден термин «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организационное повед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642600"/>
            <a:ext cx="73134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3c6565"/>
                </a:solidFill>
                <a:latin typeface="Verdana"/>
              </a:rPr>
              <a:t>Модель мусорного ящика опирается на четыре понятия, которые являются своеобразными "атомами" процесса. 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блемы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Проблемы — это моменты неудовлетворенности текущей деятельностью и выполнением работы.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длагаемые реш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Решение — чья-либо идея, предложение. Такие идеи составляют составляют своеобразные поток альтернативных решений, текущий через организацию.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63640" y="333000"/>
            <a:ext cx="685008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А также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47640" y="19162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3. Участники принятия решения.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астники принятия решения — это служащие, которые пришли в организацию и проходят сквозь нее. Люди нанимаются на работу, меняют должности и увольняются. Участники значительно расходятся в своих идеях, восприятии проблему опыте, оценках и образовании. </a:t>
            </a:r>
            <a:br>
              <a:rPr sz="20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4.    Благоприятные возможности для выбора.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шения связываются с соответствующими проблемами и участниками — таким образом, делается удачный выбор. Разумеется, не все проблемы решаются, когда делается выбор, но организация движется по направлению снижения числа пробл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6666"/>
                </a:solidFill>
                <a:latin typeface="Book Antiqua"/>
              </a:rPr>
              <a:t>Модель Карнеги</a:t>
            </a: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снователи</a:t>
            </a:r>
            <a:r>
              <a:rPr b="1" lang="ru-RU" sz="2200" spc="-1" strike="noStrike">
                <a:solidFill>
                  <a:srgbClr val="000000"/>
                </a:solidFill>
                <a:latin typeface="Book Antiqua"/>
              </a:rPr>
              <a:t> – Г. Саймон, Джеймс Марч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дход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ограниченно-рациональны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ущность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шения будут эффективны, если они будут приниматься не одним менеджером, а группой (альянсом) менеджер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руппы необходимы, т.к.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ждый из руководителей подразделений хочет быть рациональным, но имеет ограниченную информацию. Больше  информации – больше вариант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е решения будут поддержаны всеми сторонами, а значит, приняты во всех подразделения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одель мусорного ящика (продолжение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ущность метода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Эта модель имеет дело с системой и потоком проблем внутри организаци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Эта модель рассматривает все внутренние процессы одновременно и решает все проблемы взаимосвязано с изменениями внешней сред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Условия для реализации метод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. Коммуникационные связи должны быть налажены на оптимальный режим функционирова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2. Ответственность  участников на всех этапах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Модель мусорного ящика (продолжение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51280" y="1916280"/>
            <a:ext cx="2736720" cy="1871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1979640" y="4076640"/>
            <a:ext cx="2736720" cy="1513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5580000" y="4149720"/>
            <a:ext cx="2808360" cy="1584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3851280" y="2637000"/>
            <a:ext cx="1368360" cy="27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5292720" y="2637000"/>
            <a:ext cx="1295280" cy="27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еш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AutoShape 13"/>
          <p:cNvSpPr/>
          <p:nvPr/>
        </p:nvSpPr>
        <p:spPr>
          <a:xfrm>
            <a:off x="4643280" y="2060640"/>
            <a:ext cx="1440000" cy="718920"/>
          </a:xfrm>
          <a:prstGeom prst="pi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AutoShape 14"/>
          <p:cNvSpPr/>
          <p:nvPr/>
        </p:nvSpPr>
        <p:spPr>
          <a:xfrm rot="10503000">
            <a:off x="4716000" y="2852280"/>
            <a:ext cx="1224000" cy="647640"/>
          </a:xfrm>
          <a:prstGeom prst="pi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6832080" y="2060640"/>
            <a:ext cx="12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ерхн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ровен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18"/>
          <p:cNvSpPr/>
          <p:nvPr/>
        </p:nvSpPr>
        <p:spPr>
          <a:xfrm flipV="1">
            <a:off x="2556000" y="2997360"/>
            <a:ext cx="122400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19"/>
          <p:cNvSpPr/>
          <p:nvPr/>
        </p:nvSpPr>
        <p:spPr>
          <a:xfrm flipH="1">
            <a:off x="2916000" y="3284640"/>
            <a:ext cx="9349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20"/>
          <p:cNvSpPr/>
          <p:nvPr/>
        </p:nvSpPr>
        <p:spPr>
          <a:xfrm>
            <a:off x="4716360" y="4941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Line 21"/>
          <p:cNvSpPr/>
          <p:nvPr/>
        </p:nvSpPr>
        <p:spPr>
          <a:xfrm flipH="1">
            <a:off x="4716000" y="5157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22"/>
          <p:cNvSpPr/>
          <p:nvPr/>
        </p:nvSpPr>
        <p:spPr>
          <a:xfrm>
            <a:off x="6588000" y="2997360"/>
            <a:ext cx="1224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Line 23"/>
          <p:cNvSpPr/>
          <p:nvPr/>
        </p:nvSpPr>
        <p:spPr>
          <a:xfrm flipH="1" flipV="1">
            <a:off x="6587640" y="2708280"/>
            <a:ext cx="158436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AutoShape 24"/>
          <p:cNvSpPr/>
          <p:nvPr/>
        </p:nvSpPr>
        <p:spPr>
          <a:xfrm>
            <a:off x="2700360" y="4076640"/>
            <a:ext cx="1440000" cy="719280"/>
          </a:xfrm>
          <a:prstGeom prst="pi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AutoShape 25"/>
          <p:cNvSpPr/>
          <p:nvPr/>
        </p:nvSpPr>
        <p:spPr>
          <a:xfrm>
            <a:off x="6227640" y="4149720"/>
            <a:ext cx="1440000" cy="719280"/>
          </a:xfrm>
          <a:prstGeom prst="pi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AutoShape 26"/>
          <p:cNvSpPr/>
          <p:nvPr/>
        </p:nvSpPr>
        <p:spPr>
          <a:xfrm rot="10503000">
            <a:off x="2771280" y="4869000"/>
            <a:ext cx="1224000" cy="720720"/>
          </a:xfrm>
          <a:prstGeom prst="pi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AutoShape 27"/>
          <p:cNvSpPr/>
          <p:nvPr/>
        </p:nvSpPr>
        <p:spPr>
          <a:xfrm rot="10503000">
            <a:off x="6443280" y="5013000"/>
            <a:ext cx="1224000" cy="647640"/>
          </a:xfrm>
          <a:prstGeom prst="pi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28"/>
          <p:cNvSpPr/>
          <p:nvPr/>
        </p:nvSpPr>
        <p:spPr>
          <a:xfrm>
            <a:off x="5508720" y="4797360"/>
            <a:ext cx="1368360" cy="27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29"/>
          <p:cNvSpPr/>
          <p:nvPr/>
        </p:nvSpPr>
        <p:spPr>
          <a:xfrm>
            <a:off x="1908000" y="4724280"/>
            <a:ext cx="1368720" cy="27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Text Box 30"/>
          <p:cNvSpPr/>
          <p:nvPr/>
        </p:nvSpPr>
        <p:spPr>
          <a:xfrm>
            <a:off x="3419640" y="4724280"/>
            <a:ext cx="1295280" cy="27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еш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31"/>
          <p:cNvSpPr/>
          <p:nvPr/>
        </p:nvSpPr>
        <p:spPr>
          <a:xfrm>
            <a:off x="7093080" y="4797360"/>
            <a:ext cx="1295280" cy="27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еш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6666"/>
                </a:solidFill>
                <a:latin typeface="Book Antiqua"/>
              </a:rPr>
              <a:t>Модель Карнеги (продолжение)</a:t>
            </a: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ложительные последствия группового (коалиционного) метода ПУР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Удовлетворение всех сторон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ыстрое решение проблем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облемно-ориентированный поиск решения конкретен и локален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Имеется возможность компромиссных решений, а значит – избегание конфликтов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етод экспертного опроса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8920" y="1700280"/>
            <a:ext cx="7386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ущность – решение проблемы через привлечение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внешних экспертов  и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здание рабочей группы (РГ) внутри организа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ые стадии экспертного опрос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) формулировка ЛПР цели экспертного опроса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) подбор ЛПР основного состава Рабочей группы (обычно - руководителя и секретаря рабочей группы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) разработка РГ и утверждение у ЛПР технического задания на проведение экспертного опрос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) разработка РГ подробного сценария проведения сбора и анализа экспертных мнений (оценок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Основные стадии экспертного опроса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:</a:t>
            </a:r>
            <a:br>
              <a:rPr sz="2400"/>
            </a:b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(продолжение)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5) подбор экспертов в соответствии с их компетентностью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6) формирование экспертной комиссии (целесообразно заключение договоров с экспертами об условиях их работы и ее оплаты, утверждение ЛПР состава экспертной комиссии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7) проведение сбора экспертной информации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Основные стадии экспертного опроса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: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(продолжение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 анализ экспертной информации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9) интерпретация полученных результатов и подготовка заключения для ЛПР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0) официальное окончание деятельности РГ   (в том числе подготовка и утверждение научного и финансового отчетов о проведении экспертного исследования, оплата труда экспертов и сотрудников РГ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28480" y="35676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истемный подход при принятии решений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уть метод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до рассматривать проблему в целом, а не "выдергивать" для обсуждения какую-нибудь одну черту, хотя и важную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"Системный анализ - это дисциплина, занимающаяся проблемами принятия решений в условиях, когда выбор альтернативы требует анализа сложной информации различной физической природы."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Н.Н.Моисеев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c6565"/>
                </a:solidFill>
                <a:latin typeface="Arial"/>
              </a:rPr>
              <a:t>Системный подход - методология исследования объектов как систем </a:t>
            </a:r>
            <a:r>
              <a:rPr b="1" lang="ru-RU" sz="2800" spc="-1" strike="noStrike">
                <a:solidFill>
                  <a:srgbClr val="3c6565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н дает возможность при принятии любого решения определить все взаимосвязи и с учетом их установить влияние этого решения на поведение как всей системы, так и отдельных ее часте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c6565"/>
                </a:solidFill>
                <a:latin typeface="Verdana"/>
              </a:rPr>
              <a:t>Система состоит из двух частей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) внешнее окружение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щее вход и выход, связь с внешней средой, обратную связь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2) внутренняя структура -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вокупность взаимосвязанных компонентов, обеспечивающих процесс воздействия субъекта управления на объект, переработку входа в выход и достижение целей системы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3T15:05:53Z</dcterms:created>
  <dc:creator>Константинова</dc:creator>
  <dc:description/>
  <dc:language>en-US</dc:language>
  <cp:lastModifiedBy>AcerNEW-1</cp:lastModifiedBy>
  <dcterms:modified xsi:type="dcterms:W3CDTF">2014-09-14T16:44:42Z</dcterms:modified>
  <cp:revision>52</cp:revision>
  <dc:subject/>
  <dc:title>Слайд 1</dc:title>
</cp:coreProperties>
</file>