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9F10-5455-4F4F-86DA-5EA8F8E0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DDB8-5275-4EDF-A55D-B3F5F7F5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F8F6-D9ED-4AB1-83A7-8068B579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96FE-0526-4DCE-BE27-3073316F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A5CF-E875-415A-8F9A-DC9B3B1F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3061-676B-4B54-9E11-BB035D5D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D79D-1B55-4F04-A306-ADF9BBA7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3261-BE50-4C26-9FF0-260116DB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75C5-3F71-49BA-AB24-E82F01EC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5E5F-DD0E-4B0F-AFB2-D22C9F45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82CF-88DA-4D18-9435-68368838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5E49-E84B-401C-B832-CFB9CFE6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7EB4-0E62-47EA-9BA6-0529900D43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3141720"/>
            <a:ext cx="7777440" cy="20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МОДЕЛЬ СЛУЖБЫ МЕДИАЦ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55640" y="4941720"/>
            <a:ext cx="83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8.12.2015, заведующая кафедрой общей педагогик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психологии ГО АУ ЯО ИРО Назарова И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generousmatters.com/wp-content/uploads/2013/04/group_opposite_directions_11350.png"/>
          <p:cNvPicPr/>
          <p:nvPr/>
        </p:nvPicPr>
        <p:blipFill>
          <a:blip r:embed="rId1"/>
          <a:stretch/>
        </p:blipFill>
        <p:spPr>
          <a:xfrm>
            <a:off x="-181080" y="11592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чем мы моделиру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строим модели для того, чтобы лучше понимать систему, которую созд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sc.zadocs.ru/stati/gbuk-samarskaya-oblastnaya-univercalenaya-nauchnaya-biblioteka/6.gif"/>
          <p:cNvPicPr/>
          <p:nvPr/>
        </p:nvPicPr>
        <p:blipFill>
          <a:blip r:embed="rId1"/>
          <a:stretch/>
        </p:blipFill>
        <p:spPr>
          <a:xfrm>
            <a:off x="2843280" y="3213000"/>
            <a:ext cx="33336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делирование позволяет достичь следующих ц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зуализировать систему в том виде как она есть либо как мы ее себе представля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фицировать структуру или поведение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овать шаблон, по которому мы создаем сис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ировать принятые нами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больше и сложнее система, тем важнее модел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разрабатываем модель сложной системы потому, что мы не способны понять и охватить систему цел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ополагающие принципы модел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ор модели оказывает решающее влияние на то, как будет осмысливаться проблема и какие решения будут приним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модель должна быть построена на различных уровнях адекватности и соответствия реальной сис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ие модели тесно связаны с действительностью. Все модели упрощают действи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ственная модель не является приемлемой. Каждая нетривиальная система лучше всего представляется небольшим множеством практически независимых мод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sm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cifi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— конкретная и понят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urabl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— есть измеритель, т. е. оценивающий процент ее выпол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evabl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—достижимая — реалистич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van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— в зоне ответственности и влияния сотрудника/организации на 10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e bounde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— ограничена во времен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исание мод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снование актуальности и реалистичности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цептуально-целевой компон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тельный компон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уальный компон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тико – результативный компон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намика развития   службы меди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Творческого моделирования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23760"/>
            <a:ext cx="1673280" cy="1428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539640" y="1452600"/>
            <a:ext cx="820908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1:31:40Z</dcterms:created>
  <dc:creator>Marina</dc:creator>
  <dc:description/>
  <dc:language>en-US</dc:language>
  <cp:lastModifiedBy>Инна Назарова</cp:lastModifiedBy>
  <dcterms:modified xsi:type="dcterms:W3CDTF">2015-12-07T18:33:30Z</dcterms:modified>
  <cp:revision>13</cp:revision>
  <dc:subject/>
  <dc:title>Слайд 1</dc:title>
</cp:coreProperties>
</file>