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AD99-0B54-4BED-8E33-4CD0CB52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C54-B107-46F3-85EE-DF3B47F0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C0A-B09E-444B-B0F3-A1B6D210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FBA4-531B-4D03-8FB8-CCFD899D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242A-02EC-4E74-9267-3F411CAF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028B-00DE-4BA2-8804-5DACA141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52C9-7E4A-4FE5-94A1-E0AA34A5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16B4-2949-45A4-86FE-8B9BD857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6AF-3391-4CC8-8681-33C6C0DF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EE18-8AD6-4268-A0A4-5BD92EA8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A768-B477-4280-9D5E-0D743FA2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0665-19A9-4ACE-9B65-EBD51F34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7AAE-71EA-4E27-A9F1-8427DEFF6B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8;&#1088;&#1077;&#1073;&#1086;&#1074;&#1072;&#1085;&#1080;&#1103;%20&#1082;%20&#1086;&#1092;&#1086;&#1088;&#1084;&#1083;&#1077;&#1085;&#1080;&#1102;%20&#1087;&#1088;&#1086;&#1077;&#1082;&#1090;&#1085;&#1099;x%20&#1088;&#1072;&#1073;&#1086;&#1090;/&#1055;&#1086;&#1083;&#1086;&#1078;&#1077;&#1085;&#1080;&#1077;%20&#1086;%20&#1055;&#1048;&#1044;.doc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0;&#1083;&#1072;&#1089;&#1089;&#1080;&#1092;&#1080;&#1082;&#1072;&#1094;&#1080;&#1103;%20&#1087;&#1088;&#1086;&#1077;&#1082;&#1090;&#1086;&#1074;.do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1;&#1080;&#1089;&#1090;%20&#1087;&#1088;&#1086;&#1076;&#1074;&#1080;&#1078;&#1077;&#1085;&#1080;&#1103;.doc" TargetMode="External"/><Relationship Id="rId2" Type="http://schemas.openxmlformats.org/officeDocument/2006/relationships/hyperlink" Target="file:///&#1048;&#1085;&#1089;&#1090;&#1088;&#1091;&#1082;&#1094;&#1080;&#1103;%20&#1076;&#1083;&#1103;%20&#1091;&#1095;&#1072;&#1097;&#1080;&#1093;&#1089;&#1103;.doc" TargetMode="External"/><Relationship Id="rId3" Type="http://schemas.openxmlformats.org/officeDocument/2006/relationships/hyperlink" Target="file:///&#1055;&#1083;&#1072;&#1085;&#1080;&#1088;&#1086;&#1074;&#1072;&#1085;&#1080;&#1077;%20%20&#1055;&#1048;&#1044;%20c%20&#1059;&#1059;&#1044;_&#1088;&#1072;&#1079;&#1076;&#1072;&#1090;&#1082;&#1072;.doc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539640" y="404640"/>
            <a:ext cx="824544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Требования к результатам проектной деятельности учащихся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Немцева Т.В.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преподаватель ГОАУ ЯО И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OurNewSchool"/>
          <p:cNvPicPr/>
          <p:nvPr/>
        </p:nvPicPr>
        <p:blipFill>
          <a:blip r:embed="rId1"/>
          <a:stretch/>
        </p:blipFill>
        <p:spPr>
          <a:xfrm>
            <a:off x="0" y="0"/>
            <a:ext cx="39956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ребования к содержанию и оформлению  и оценке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оложение о П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требования к оформлению информационной проект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требования к оформлению исследовательской проект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терии оценки презентации информационного и исследователь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бования к оформлению списка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ипы образовательных программ внеурочной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Комплексные образовательные программ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олагают последовательный переход от воспитательных результатов 1 уровня к 3-тьему в различных видах внеурочн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Тематические образовательные програм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правлены на получение воспитательных результа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пределенном проблемном поле (например, программа экологического воспит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Образовательные программы, ориентированные на достижение результатов определенного уровн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ют возрастную привязку (например, формирование социальных общественных умений по класс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Образовательные программы по конкретным видам внеурочной деятельност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апример, проектная, познавательная деятель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Возрастные образовательные программ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бразовательная программа внеурочной деятельности младших школьников, подростков, старшеклассни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иды про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оекты классифицируют последующим признакам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твор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 контактов участников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енный состав исполн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ной состав исполн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ительность вы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а выпол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ипология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Учебные проек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самостоятельная учебная деятельность по освоению и применению на практике новой информации в рамках одной или нескольких дисцип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Социальные проекты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сят комплексный характер, связан с разными сферами деятельности, выходящими за рамки учебных дисцип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бщие требования к проекту и проектн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04960"/>
            <a:ext cx="843588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основной результа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 получение «отчужденного продукта»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структура, последовательность выполнения отдельных действий, содержание этап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пределяются решаемой в проекте задачей, замыслом проекта, ожидаемым результатом его выполн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проблема реализации проектной дея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приводящей к  достижению большинством личностных и метапредметных ум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Основа проектной дея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оектный метод (способ достижения конкретной цели через детальную разработку проблемы))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азирующийся на самостоятельности, деятельности, результат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</a:rPr>
              <a:t>Планирование проектной деятельности школьников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ор тем проектов и их конкретизац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целей и формулирование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иск источников информации и определение списка литерату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ка рекомендаций по выполнению проекта (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ланирование этапов реализац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а 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ребования к оформл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роки, график выполнения, консульт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ланирование метапредметных результатов проект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ребования к результатам  проектн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Планировать и выполнять учебный проек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уя оборудование, модели, методы и приемы, адекватные исследуемой пробл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Выбирать и использовать мето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ответствующие рассматриваемой пробл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Использовать естественно-научные методы и при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к наблюдение, постановка проблемы, выдвижение гипотезы, эксперимент, моделирование, теоретическое обос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Распознавать и ставить вопрос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веты на которые могут быть получены путем научного исследования, формулировать на основе исследования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Ясно, логично, и точно излагать свою точку зр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овать языковые средства, адекватные пробл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Отличать факты о суждений, мнений, и оцен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ритически относиться к суждениям, мнениям, оцен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Видеть и комментировать связь научного знания и ценностных установ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моральных суждений при получении, распространении и применении научного 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езультаты проектно-исследовательской деятельности (ФГО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cc"/>
                </a:solidFill>
                <a:latin typeface="Arial"/>
              </a:rPr>
              <a:t>Выпускник науч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ировать  исследование в соответствии с поставленными задач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ывать и выявлять отличительные признаки живого, обнаруживать причинно-следственные св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имать решения об использовании соответствующих методов (наблюдение, эксперимент, моделирование, выдвижение гипотезы) для проведения биологических исслед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атывать и защищать исследовательские  проекты, моделирующие реальные биологические проце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ть коммуникативные умения, навыки сотрудничества, работу в парах ил группах с распределением ролей, разделением ответственности за конечный результ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езультаты проектно-исследовательской деятельности (ФГО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cc"/>
                </a:solidFill>
                <a:latin typeface="Arial"/>
              </a:rPr>
              <a:t>Выпускник получит возможность науч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стоятельно задумывать, планировать и выполнять учебное исследование, учебный и социальный про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ть догадку, озарение , интуи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ть естественно-научные методы и приемы, как наблюдение, постановка проблемы, выдвижение гипотезы, эксперимент, моделирование, теоретическое обосн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енаправлено и осознанно развивать свои коммуникативные способности, осваивать новые языковые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знавать свою ответственность за достоверность полученных знаний, за качество выполненного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2:23:48Z</dcterms:created>
  <dc:creator>Kondrashova</dc:creator>
  <dc:description/>
  <dc:language>en-US</dc:language>
  <cp:lastModifiedBy>Татьяна Васильевна Немцева</cp:lastModifiedBy>
  <dcterms:modified xsi:type="dcterms:W3CDTF">2015-04-02T12:19:06Z</dcterms:modified>
  <cp:revision>61</cp:revision>
  <dc:subject/>
  <dc:title>Слайд 1</dc:title>
</cp:coreProperties>
</file>