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9294813" cy="11736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FE4F-2001-432E-A3CE-D6AAE6FD9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7CE1-C517-43C9-87F8-DCF36F149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0C54-BD2B-4B50-98D5-840355244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505B-99B9-4233-B078-0EC63810A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5B639-9976-47B2-AB0D-5D1A2C421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E3B91-C539-4398-94A5-983C5811E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323A3-0608-456F-A4CD-CB8CA0466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BB1C6-D2D1-4ADA-91F7-001FDFCC1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2C14E-21C1-4A6A-BE14-F83B9DF66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6F074-929C-4F4C-B784-D7EDBF2B5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30226-5EA6-4909-801F-61A752D28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5C6C-E8C6-4446-9E44-871C7FA56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F534A-EAB6-41E8-96D7-7C33D04A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CB006-C2C4-4F57-BAED-1BCE0103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812D5-3330-444D-9A23-2C98102D7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96C55-B41F-4062-914D-1EBA0B330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0E617-8623-4052-9260-51B0FE74A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8562-6158-448E-9278-23E56F894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5052-BB62-4427-AF16-8AF1DAADA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DD3C-DD4B-4ACE-946C-C8E5A377A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536C-FD7E-4A5C-B538-CF1A9473B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F06C-F91A-4E00-B0FE-C6E4E023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AC83-73A1-4096-872B-0B473812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F930-1C7D-4C9D-9B63-206266C0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F9CD6-15B6-4C92-8025-71679B09C23D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FF7EA-CD0A-4BD3-B02A-61EC98A95BA7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2920" y="2349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200" spc="-1" strike="noStrike">
                <a:solidFill>
                  <a:srgbClr val="999900"/>
                </a:solidFill>
                <a:latin typeface="Garamond"/>
              </a:rPr>
              <a:t>Сравнительный анализ результатов ЕГЭ</a:t>
            </a:r>
            <a:r>
              <a:rPr b="0" lang="en-US" sz="52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0" lang="ru-RU" sz="5200" spc="-1" strike="noStrike">
                <a:solidFill>
                  <a:srgbClr val="999900"/>
                </a:solidFill>
                <a:latin typeface="Garamond"/>
              </a:rPr>
              <a:t>по биологии за 20</a:t>
            </a:r>
            <a:r>
              <a:rPr b="0" lang="en-US" sz="5200" spc="-1" strike="noStrike">
                <a:solidFill>
                  <a:srgbClr val="999900"/>
                </a:solidFill>
                <a:latin typeface="Garamond"/>
              </a:rPr>
              <a:t>1</a:t>
            </a:r>
            <a:r>
              <a:rPr b="0" lang="ru-RU" sz="5200" spc="-1" strike="noStrike">
                <a:solidFill>
                  <a:srgbClr val="999900"/>
                </a:solidFill>
                <a:latin typeface="Garamond"/>
              </a:rPr>
              <a:t>2-2014 гг.</a:t>
            </a:r>
            <a:endParaRPr b="0" lang="en-US" sz="5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484360" y="3933720"/>
            <a:ext cx="64008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Ст.преподаватель кафедры ЕМД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ГОУ ЯО ИРО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Немцева Т.В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Блок 1. Биология – наука о живой природе </a:t>
            </a:r>
            <a:r>
              <a:rPr b="1" i="1" lang="en-US" sz="2800" spc="-1" strike="noStrike">
                <a:solidFill>
                  <a:srgbClr val="990000"/>
                </a:solidFill>
                <a:latin typeface="Garamond"/>
              </a:rPr>
              <a:t>                                                         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Анализ ошибок, допущенных выпу</a:t>
            </a:r>
            <a:r>
              <a:rPr b="1" lang="en-US" sz="2800" spc="-1" strike="noStrike">
                <a:solidFill>
                  <a:srgbClr val="999900"/>
                </a:solidFill>
                <a:latin typeface="Garamond"/>
              </a:rPr>
              <a:t>c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книками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820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 числу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иболее сложных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следует отнести задания, в которых требовалось указать минимальный уровень организации живого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00"/>
                </a:solidFill>
                <a:latin typeface="Verdana"/>
              </a:rPr>
              <a:t>Назвали уровень, на котором происходит: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- фотосинтез (клеточный), только 54% участников,                                   - матричный синтез белка (клеточный) – 37%;                                 - метод биологии, изучающий строение и функции белка (биохимический), – 45%;                                                               - метод исследования степени распространения наследственных заболеваний человека (популяционно-статистический) – 27%;                                                                    - уровень организации колонии тлей на листьях смородины (популяционно-видовой) – 46%;                                                 - метод генетики для определения генотипа родительских форм (гибридологический) – 39%,                                                             - метод создания сортов растений с кратным увеличением набора хромосом в клетках (полиплоидизация) – 38%, гибридизация – 55%.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Блок 2. Клетка как биологическая система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999900"/>
                </a:solidFill>
                <a:latin typeface="Garamond"/>
              </a:rPr>
              <a:t>                                                          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Анализ ошибок, допущенных выпу</a:t>
            </a:r>
            <a:r>
              <a:rPr b="1" lang="en-US" sz="2800" spc="-1" strike="noStrike">
                <a:solidFill>
                  <a:srgbClr val="999900"/>
                </a:solidFill>
                <a:latin typeface="Garamond"/>
              </a:rPr>
              <a:t>c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книками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00"/>
                </a:solidFill>
                <a:latin typeface="Verdana"/>
              </a:rPr>
              <a:t>Наибольшие трудности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у участников вызвали вопрос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о различии состава ДНК и РНК, о кроссинговере и конъюгации, процессах, протекающих в митозе и мейозе, свойствах генетического код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по метаболизму в клетках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различным типам деления клетки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соответствия триплета на ДНК и антикодона на т-РНК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00"/>
                </a:solidFill>
                <a:latin typeface="Verdana"/>
              </a:rPr>
              <a:t>Выпускники не знают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что триплет на ДНК соответствует кодону на и-РНК, который, в свою очередь, соответствует антикодону на т-РНК. Следовательно, чтобы правильно найти соответствие триплета на ДНК и антикодона на т-РНК, следует дважды по принципу комплементарности найти соответствующие нуклеотиды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00"/>
                </a:solidFill>
                <a:latin typeface="Garamond"/>
              </a:rPr>
              <a:t>Примеры некоторых заданий, вызвавших наибольшие затруднения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00"/>
                </a:solidFill>
                <a:latin typeface="Verdana"/>
              </a:rPr>
              <a:t>А5. Какой способ питания характерен для молочнокислых бактерий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етеротрофный (30%)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хемотрофный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втотрофный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4)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ототрофный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00"/>
                </a:solidFill>
                <a:latin typeface="Verdana"/>
              </a:rPr>
              <a:t>А27. Синтез ДНК в клетке, кроме ядра, происходит в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ибосомах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шероховатой эндоплазматической сети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итохондриях (30%)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4)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ппарате Гольджи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00"/>
                </a:solidFill>
                <a:latin typeface="Garamond"/>
              </a:rPr>
              <a:t>Примеры некоторых заданий, вызвавших наибольшие затруднения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00"/>
                </a:solidFill>
                <a:latin typeface="Verdana"/>
              </a:rPr>
              <a:t>В части 2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слабо сформированными оказались умения сравнивать и соотносить: клетки прокариот и эукариот; соматические и половые клетки; процессы, протекающие в интерфазе, митозе и мейозе, при фотосинтезе и энергетическом обмене. Вызвали сущест-венные затруднения и задания на установление последовательности процессов, протекающих при фотосинтезе, гаметогенеза (сперматогенеза) у животных, хотя этот материал представлен во всех учебниках по общей биологии как базового, так и профильного уровн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00"/>
                </a:solidFill>
                <a:latin typeface="Garamond"/>
              </a:rPr>
              <a:t>Примеры некоторых заданий, вызвавших наибольшие затруднения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В6. Установите соответствие между особенностью процесса и фазой мейоза, для которой она характерна. (18%)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ОСОБЕННОСТЬ </a:t>
            </a:r>
            <a:r>
              <a:rPr b="0" lang="ru-RU" sz="14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990000"/>
                </a:solidFill>
                <a:latin typeface="Verdana"/>
              </a:rPr>
              <a:t>                                                             </a:t>
            </a: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ФАЗА МЕЙОЗА</a:t>
            </a:r>
            <a:r>
              <a:rPr b="0" i="1" lang="ru-RU" sz="1000" spc="-1" strike="noStrike">
                <a:solidFill>
                  <a:srgbClr val="99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Verdana"/>
              </a:rPr>
              <a:t>А) 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расхождение сестринских хромосом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)  анафаза I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к разным полюсам клетки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Б) образование четырёх гаплоидных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2)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анафаза II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ядер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В) расхождение двухроматидных хромосом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3) телофаза II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Г)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увеличение вдвое числа хромосом в клетке при расхождении сестринских хроматид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Д)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независимое расхождение хромосом из каждой гомологичной пары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В6. Установите соответствие между признаком и видом гаметогенеза, для которого этот признак характерен. (27%)</a:t>
            </a:r>
            <a:r>
              <a:rPr b="0" i="1" lang="ru-RU" sz="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Verdana"/>
              </a:rPr>
              <a:t>ПРИЗНАК </a:t>
            </a:r>
            <a:r>
              <a:rPr b="0" lang="ru-RU" sz="14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990000"/>
                </a:solidFill>
                <a:latin typeface="Verdana"/>
              </a:rPr>
              <a:t>                                                           ВИД ГАМЕТОГЕНЕЗА</a:t>
            </a:r>
            <a:r>
              <a:rPr b="0" i="1" lang="ru-RU" sz="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А) образуются яйцеклетки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)  овогенез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Б)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созревают четыре гаметы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2)  сперматогенез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В)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образуются направительные тельц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Г)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гаметы содержат небольшое количество цитоплазмы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Д)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гаметы содержат большое количество питательных веществ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00"/>
                </a:solidFill>
                <a:latin typeface="Garamond"/>
              </a:rPr>
              <a:t>В части 3 блока </a:t>
            </a:r>
            <a:r>
              <a:rPr b="1" i="1" lang="ru-RU" sz="3200" spc="-1" strike="noStrike">
                <a:solidFill>
                  <a:srgbClr val="999900"/>
                </a:solidFill>
                <a:latin typeface="Garamond"/>
              </a:rPr>
              <a:t>«Клетка как биологическая система»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рудными оказались задания линии С1 или С2, связанные с анализом рисунка или текста, на которых были изображены различные органоиды клетки, фазы деления митоза и мейоза, в среднем справились 25–33% участников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ложными оказались  вопросы, требующие объяснения причин изменения содержания тех или иных органоидов в клетках разных тканей. Для ответа на такие задания необходимо было установить причинно-следственные связи: вспомнить функции конкретных органоидов и объяснить причину их значительного содержания в клетках. Правильно ответили на такие задания только 8–20% участников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заданиях линии С5 предлагалось два типа задач по цитологии: 1) на применение знаний о генетическом коде; 2) на определение числа хромосом и ДНК в разных фазах митоза и мейоза, в половых и соматических клетках разных организмов.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Примеры трудных заданий С5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рудными оказались задачи на определение числа хромосом и ДНК в разных фазах митоза или мейоза, в половых и соматических клетках растений разных отделов, животных разных типов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0000"/>
                </a:solidFill>
                <a:latin typeface="Verdana"/>
              </a:rPr>
              <a:t>С5.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200" spc="-1" strike="noStrike">
                <a:solidFill>
                  <a:srgbClr val="990000"/>
                </a:solidFill>
                <a:latin typeface="Verdana"/>
              </a:rPr>
              <a:t>У хламидомонады преобладающим поколением является гаметофит. Определите хромосомный набор споры и гамет хламидомонады. Объясните, из каких исходных клеток и в результате какого деления образуются эти клетки при половом размножении.</a:t>
            </a:r>
            <a:r>
              <a:rPr b="0" i="1" lang="ru-RU" sz="1200" spc="-1" strike="noStrike">
                <a:solidFill>
                  <a:srgbClr val="99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Элементы ответа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) хромосомный набор споры – n (гаплоидный)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2) споры образуются из диплоидной зиготы путём мейоза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3) хромосомный набор гамет – n (гаплоидный)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4) гаметы образуются из клетки взрослого организма (гаметофита) путём митоз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0000"/>
                </a:solidFill>
                <a:latin typeface="Verdana"/>
              </a:rPr>
              <a:t>С5. Какой хромосомный набор характерен для вегетативной, генеративной клеток и спермиев пыльцевого зерна цветкового растения? Объясните, из каких исходных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200" spc="-1" strike="noStrike">
                <a:solidFill>
                  <a:srgbClr val="990000"/>
                </a:solidFill>
                <a:latin typeface="Verdana"/>
              </a:rPr>
              <a:t>клеток и в результате какого деления образуются эти клетки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Элементы ответа: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) набор хромосом вегетативной и генеративной клеток – n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2) вегетативная и генеративная клетки пыльцы образуются путём митоза при прорастании гаплоидной споры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3) хромосомный набор спермиев – n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4) спермии образуются из генеративной клетки путём митоз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В целом по данному блоку к числу слабо сформированных у выпускников знаний и умений можно отнести следующие: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) знание циклов развития растений разных отделов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2) определение числа хромосом и ДНК в разных фазах деления клетки, объяснение и аргументация причины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3) сравнение гаметофита и спорофита у разных групп растений, спор и половых клеток, спор и клеток спорофит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Блок 3</a:t>
            </a:r>
            <a:r>
              <a:rPr b="1" lang="ru-RU" sz="2800" spc="-1" strike="noStrike">
                <a:solidFill>
                  <a:srgbClr val="990000"/>
                </a:solidFill>
                <a:latin typeface="Garamond"/>
              </a:rPr>
              <a:t>. </a:t>
            </a: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Организм как биологическая система</a:t>
            </a:r>
            <a:br>
              <a:rPr sz="4000"/>
            </a:b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Анализ ошибок, допущенных выпу</a:t>
            </a:r>
            <a:r>
              <a:rPr b="1" lang="en-US" sz="2800" spc="-1" strike="noStrike">
                <a:solidFill>
                  <a:srgbClr val="999900"/>
                </a:solidFill>
                <a:latin typeface="Garamond"/>
              </a:rPr>
              <a:t>c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книками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00"/>
                </a:solidFill>
                <a:latin typeface="Verdana"/>
              </a:rPr>
              <a:t>Трудности вызвали лишь отдельные задания: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      - способ питания молочнокислых бактерий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 где требуется определить, что образуется в результате оплодотворения у растений (вместо зиготы выбирается зародышевый мешок);                        - слабо сформированы такие понятия, как генотип, геном, фенотип, альтернативные гены, аутосомы, геномные и генные мутации. </a:t>
            </a:r>
            <a:r>
              <a:rPr b="0" i="1" lang="ru-RU" sz="2400" spc="-1" strike="noStrike">
                <a:solidFill>
                  <a:srgbClr val="990000"/>
                </a:solidFill>
                <a:latin typeface="Verdana"/>
              </a:rPr>
              <a:t>Традиционно плохо участники отвечают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на вопросы, связанные с методами изучения генетики человека, о сцепленном наследовании генов.                                                 </a:t>
            </a:r>
            <a:r>
              <a:rPr b="0" i="1" lang="ru-RU" sz="2400" spc="-1" strike="noStrike">
                <a:solidFill>
                  <a:srgbClr val="990000"/>
                </a:solidFill>
                <a:latin typeface="Verdana"/>
              </a:rPr>
              <a:t>Вызвали затруднени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и отдельные задания по эмбриогенезу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Блок 3</a:t>
            </a:r>
            <a:r>
              <a:rPr b="1" lang="ru-RU" sz="2800" spc="-1" strike="noStrike">
                <a:solidFill>
                  <a:srgbClr val="990000"/>
                </a:solidFill>
                <a:latin typeface="Garamond"/>
              </a:rPr>
              <a:t>. </a:t>
            </a: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Организм как биологическая система.                                                   </a:t>
            </a:r>
            <a:r>
              <a:rPr b="1" i="1" lang="ru-RU" sz="2800" spc="-1" strike="noStrike">
                <a:solidFill>
                  <a:srgbClr val="999900"/>
                </a:solidFill>
                <a:latin typeface="Garamond"/>
              </a:rPr>
              <a:t>Примеры заданий, имеющих низкие результаты.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89308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Verdana"/>
              </a:rPr>
              <a:t>А6. В результате двойного оплодотворения у цветковых растений образуются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енеративные почки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емядоли (одна или две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игота и триплоидная клетка (44%)                                                                                         4) плод и семя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Verdana"/>
              </a:rPr>
              <a:t>А7. Совокупность всех признаков и свойств организма, проявляющихся в индивидуальном развитии, называют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енотипом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одификацией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енофондом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4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фенотипом (40%)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324000" y="4724280"/>
            <a:ext cx="86407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Verdana"/>
              </a:rPr>
              <a:t>А9. Фенотипические различия между однояйцевыми близнецами обусловлены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взаимодействием аллельных генов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разными генотипами организмов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сцеплением генов                                                                                                    4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влиянием условий среды (49%)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Блок 3</a:t>
            </a:r>
            <a:r>
              <a:rPr b="1" lang="ru-RU" sz="2800" spc="-1" strike="noStrike">
                <a:solidFill>
                  <a:srgbClr val="990000"/>
                </a:solidFill>
                <a:latin typeface="Garamond"/>
              </a:rPr>
              <a:t>. </a:t>
            </a: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Организм как биологическая система.                                                   </a:t>
            </a:r>
            <a:r>
              <a:rPr b="1" i="1" lang="ru-RU" sz="2800" spc="-1" strike="noStrike">
                <a:solidFill>
                  <a:srgbClr val="999900"/>
                </a:solidFill>
                <a:latin typeface="Garamond"/>
              </a:rPr>
              <a:t>Примеры заданий части 2, имеющих низкие результаты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00"/>
                </a:solidFill>
                <a:latin typeface="Verdana"/>
              </a:rPr>
              <a:t>В6. Установите соответствие между характеристикой метода изучения наследственности человека и его названием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(33%)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Verdana"/>
              </a:rPr>
              <a:t>ХАРАКТЕРИСТИКА </a:t>
            </a:r>
            <a:r>
              <a:rPr b="0" lang="ru-RU" sz="16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990000"/>
                </a:solidFill>
                <a:latin typeface="Verdana"/>
              </a:rPr>
              <a:t>                                            </a:t>
            </a:r>
            <a:r>
              <a:rPr b="0" i="1" lang="ru-RU" sz="1600" spc="-1" strike="noStrike">
                <a:solidFill>
                  <a:srgbClr val="990000"/>
                </a:solidFill>
                <a:latin typeface="Verdana"/>
              </a:rPr>
              <a:t>МЕТОД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А)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исследуется родословная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) цитогенетический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семь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Б)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выявляется сцепленность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) генеалогический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признака с полом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В)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изучается число хромосом                                                                            на стадии метафазы митоза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Г)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устанавливается доминантный признак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Д)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определяется наличие геномных мутаций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587700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100- бальников – нет по Ярославской области 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24000" y="1484280"/>
          <a:ext cx="8229600" cy="4530600"/>
        </p:xfrm>
        <a:graphic>
          <a:graphicData uri="http://schemas.openxmlformats.org/drawingml/2006/table">
            <a:tbl>
              <a:tblPr/>
              <a:tblGrid>
                <a:gridCol w="1344600"/>
                <a:gridCol w="3278160"/>
                <a:gridCol w="3606840"/>
              </a:tblGrid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ru-RU" sz="18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редний балл по 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ru-RU" sz="18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редний балл по Я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9900"/>
                          </a:solidFill>
                          <a:latin typeface="Times New Roman"/>
                          <a:ea typeface="Times New Roman"/>
                        </a:rPr>
                        <a:t>201</a:t>
                      </a:r>
                      <a:r>
                        <a:rPr b="1" lang="en-US" sz="1600" spc="-1" strike="noStrike">
                          <a:solidFill>
                            <a:srgbClr val="9999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600" spc="-1" strike="noStrike">
                          <a:solidFill>
                            <a:srgbClr val="999900"/>
                          </a:solidFill>
                          <a:latin typeface="Times New Roman"/>
                          <a:ea typeface="Times New Roman"/>
                        </a:rPr>
                        <a:t>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9900"/>
                          </a:solidFill>
                          <a:latin typeface="Arial"/>
                        </a:rPr>
                        <a:t>201</a:t>
                      </a:r>
                      <a:r>
                        <a:rPr b="1" lang="en-US" sz="1400" spc="-1" strike="noStrike">
                          <a:solidFill>
                            <a:srgbClr val="999900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999900"/>
                          </a:solidFill>
                          <a:latin typeface="Arial"/>
                        </a:rPr>
                        <a:t>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9900"/>
                          </a:solidFill>
                          <a:latin typeface="Arial"/>
                        </a:rPr>
                        <a:t>2014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59,</a:t>
                      </a:r>
                      <a:r>
                        <a:rPr b="1" lang="en-US" sz="1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преодолели минимальную границу (36 баллов) в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9900"/>
                          </a:solidFill>
                          <a:latin typeface="Times New Roman"/>
                          <a:ea typeface="Times New Roman"/>
                        </a:rPr>
                        <a:t>201</a:t>
                      </a:r>
                      <a:r>
                        <a:rPr b="1" lang="en-US" sz="1600" spc="-1" strike="noStrike">
                          <a:solidFill>
                            <a:srgbClr val="9999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600" spc="-1" strike="noStrike">
                          <a:solidFill>
                            <a:srgbClr val="999900"/>
                          </a:solidFill>
                          <a:latin typeface="Times New Roman"/>
                          <a:ea typeface="Times New Roman"/>
                        </a:rPr>
                        <a:t>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9900"/>
                          </a:solidFill>
                          <a:latin typeface="Arial"/>
                        </a:rPr>
                        <a:t>2013 </a:t>
                      </a:r>
                      <a:r>
                        <a:rPr b="1" lang="ru-RU" sz="1400" spc="-1" strike="noStrike">
                          <a:solidFill>
                            <a:srgbClr val="999900"/>
                          </a:solidFill>
                          <a:latin typeface="Arial"/>
                        </a:rPr>
                        <a:t>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,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48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9900"/>
                          </a:solidFill>
                          <a:latin typeface="Arial"/>
                        </a:rPr>
                        <a:t>2014 </a:t>
                      </a:r>
                      <a:r>
                        <a:rPr b="1" lang="ru-RU" sz="1400" spc="-1" strike="noStrike">
                          <a:solidFill>
                            <a:srgbClr val="999900"/>
                          </a:solidFill>
                          <a:latin typeface="Arial"/>
                        </a:rPr>
                        <a:t>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3,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Блок 3</a:t>
            </a:r>
            <a:r>
              <a:rPr b="1" lang="ru-RU" sz="2800" spc="-1" strike="noStrike">
                <a:solidFill>
                  <a:srgbClr val="990000"/>
                </a:solidFill>
                <a:latin typeface="Garamond"/>
              </a:rPr>
              <a:t>. </a:t>
            </a: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Организм как биологическая система.                                                   </a:t>
            </a:r>
            <a:r>
              <a:rPr b="1" i="1" lang="ru-RU" sz="2800" spc="-1" strike="noStrike">
                <a:solidFill>
                  <a:srgbClr val="999900"/>
                </a:solidFill>
                <a:latin typeface="Garamond"/>
              </a:rPr>
              <a:t>Примеры заданий части 3, имеющих низкие результаты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71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00"/>
                </a:solidFill>
                <a:latin typeface="Verdana"/>
              </a:rPr>
              <a:t>В заданиях линии С6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предлагались генетические задачи:              - на дигибридное скрещивание,                                                       - наследование признаков, сцепленных с полом,                                                - сцепленное наследование признаков.                                                       С этими заданиями в среднем справились 25% участников.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роме составления схем скрещивания и определения генотипов родителей и потомства, по условию задачи необходимо было объяснить причины представленных в условии результатов. Экзаменуемые должны были обосновать полученный результат и объяснить, какой закон имел место в конкретном случае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Так, например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необходимо было объяснить полученные результаты при полном сцеплении генов, появление четырех фенотипических групп в анализирующем скрещивании при сцепленном наследовании генов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Verdana"/>
              </a:rPr>
              <a:t>Невысокий результат выполнения этого задания можно объяснить тем, что многие выпускники сосредоточились только на решении задачи и составлении схемы скрещивания, не обращая внимания на то, что в условии требовалось объяснить закон и полученный результат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Блока 4 «Система и</a:t>
            </a:r>
            <a:r>
              <a:rPr b="1" i="1" lang="ru-RU" sz="4000" spc="-1" strike="noStrike">
                <a:solidFill>
                  <a:srgbClr val="990000"/>
                </a:solidFill>
                <a:latin typeface="Garamond"/>
              </a:rPr>
              <a:t> </a:t>
            </a: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многообразие органического мира»</a:t>
            </a:r>
            <a:r>
              <a:rPr b="1" i="1" lang="ru-RU" sz="2800" spc="-1" strike="noStrike">
                <a:solidFill>
                  <a:srgbClr val="999900"/>
                </a:solidFill>
                <a:latin typeface="Garamond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Анализ ошибок, допущенных выпу</a:t>
            </a:r>
            <a:r>
              <a:rPr b="1" lang="en-US" sz="2800" spc="-1" strike="noStrike">
                <a:solidFill>
                  <a:srgbClr val="999900"/>
                </a:solidFill>
                <a:latin typeface="Garamond"/>
              </a:rPr>
              <a:t>c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книками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работу включены вопросы общебиологического характера о систематике организмов, особенностях строения и жизнедеятельности бактерий, грибов, растений и животных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 их выполнении учащиеся должны были продемонстрировать умения определять организмы и особенности их строения по рисункам или описанию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Verdana"/>
              </a:rPr>
              <a:t>Слабо усвоенным оказался материал о признаках, лежащих в основе классификации цветковых растений, отличительных признаках основных групп растений и животных, особенностях жизнедеятельности организмов разных царств. В частности, вызвали затруднения вопросы об органах дыхания у насекомых, моллюсков разных классов, определение по рисунку зон корня, хотя этот материал относится к базовым знаниям и пред-ставлен во всех учебниках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Garamond"/>
              </a:rPr>
              <a:t>Блок 4 «Система и многообразие органического мира»</a:t>
            </a: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Примеры заданий части 1, вызвавших наибольшие затруднения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А13. Промежуточными хозяевами паразитических червей называют те организмы, в которых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зрослые особи живут, но не размножаются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живут и развиваются личинки паразита (46%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аразиты откладывают яйца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4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живут и размножаются взрослые особи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А13. Все многоклеточные животные имеют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ровеносную систему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ифференцированные клетки (44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вуслойное тело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4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вустороннюю симметрию тела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А32. Какой буквой на рисунке обозначена зона корня,                                          состоящая из образовательной ткани?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А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Б (24%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4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Г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6588000" y="4365720"/>
            <a:ext cx="8431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Garamond"/>
              </a:rPr>
              <a:t>Блок 4 «Система и многообразие органического мира»</a:t>
            </a: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Примеры заданий части 2, вызвавших наибольшие затруднения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96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ru-RU" sz="2400" spc="-1" strike="noStrike">
                <a:solidFill>
                  <a:srgbClr val="990000"/>
                </a:solidFill>
                <a:latin typeface="Verdana"/>
              </a:rPr>
              <a:t>Наибольшие затруднения у экзаменуемых вызвали задания на сопоставление биологических объектов (В4)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Сопоставить: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 строение и размножение мхов и папоротников,                              - особенностей органов дыхания у представителей моллюсков,                                                                                  - развитие насекомых с полным и неполным превращением на конкретных примерах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Определить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принадлежность представителей позвоночных к определенным класса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Соотносить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признаки птиц и пресмыкающихся у археоптерикс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Garamond"/>
              </a:rPr>
              <a:t>Блок 4 «Система и многообразие органического мира»</a:t>
            </a: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Примеры заданий части 2, вызвавших наибольшие затруднения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Verdana"/>
              </a:rPr>
              <a:t>В4. Установите соответствие между особенностью размножения и отделом растений, для которого она характерна. (25%)</a:t>
            </a:r>
            <a:r>
              <a:rPr b="0" i="1" lang="ru-RU" sz="1800" spc="-1" strike="noStrike">
                <a:solidFill>
                  <a:srgbClr val="99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Verdana"/>
              </a:rPr>
              <a:t>ОСОБЕННОСТЬ РАЗМНОЖЕНИЯ </a:t>
            </a:r>
            <a:r>
              <a:rPr b="0" lang="ru-RU" sz="16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990000"/>
                </a:solidFill>
                <a:latin typeface="Verdana"/>
              </a:rPr>
              <a:t>                        </a:t>
            </a:r>
            <a:r>
              <a:rPr b="0" i="1" lang="ru-RU" sz="1600" spc="-1" strike="noStrike">
                <a:solidFill>
                  <a:srgbClr val="990000"/>
                </a:solidFill>
                <a:latin typeface="Verdana"/>
              </a:rPr>
              <a:t>ОТДЕЛ РАСТЕНИЙ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А)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В цикле развития преобладает гаметофит           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1)  Моховидные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Б)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В цикле развития доминирует бесполое              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2)  Папоротниковидные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поколение растений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В)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Образование спор происходит в коробочке (спорогоне)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Г)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Спорофит не способен к образованию органических веществ из неорганических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Д)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Гаметофит представлен заростко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Е)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Спора прорастает в предросток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4358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Garamond"/>
              </a:rPr>
              <a:t>Блок 4 «Система и многообразие органического мира»</a:t>
            </a: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 </a:t>
            </a:r>
            <a:br>
              <a:rPr sz="2400"/>
            </a:b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Примеры заданий части 3, вызвавших наибольшие затруднения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Verdana"/>
              </a:rPr>
              <a:t>Самые низкие показатели выполнения заданий данного блока связаны с практико-ориентированными заданиями (С1).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                                                Участники ЕГЭ затруднились объяснить, как происходит заражение таежным энцефалитом, причины отсутствия семян в метелках кукурузы, роль грибницы в жизни грибов, суть опыта по выделению кислорода растениями при фотосинтезе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Verdana"/>
              </a:rPr>
              <a:t>С1. Растение кукуруза имеет два типа соцветий: початок и метёлку. Почему плоды образуются только в початке? (20%)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Элементы ответа: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1) початок состоит из женских цветков, в которых образуются плоды – зерновки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2) метёлка состоит из мужских цветков, которые образуют пыльцу, участвующую в оплодотворении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Verdana"/>
              </a:rPr>
              <a:t>С1. Почему люди, работающие в тайге в весенне-летнее время, нередко заболевают тяжёлой болезнью – таёжным энцефалитом? Объясните, как происходит заражение. (29%)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Элементы ответа: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) в это время в тайге активизируются таёжные клещи, которые, питаясь кровью зверей и птиц, становятся переносчиками возбудителей энцефалита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2) клещи, попавшие на кожу человека, присасываются к ней и со слюной вносят в неё возбудителей энцефалита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Garamond"/>
              </a:rPr>
              <a:t>Блок 4 «Система и многообразие органического мира»</a:t>
            </a: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Анализ ошибок, допущенных выпу</a:t>
            </a:r>
            <a:r>
              <a:rPr b="1" lang="en-US" sz="2800" spc="-1" strike="noStrike">
                <a:solidFill>
                  <a:srgbClr val="999900"/>
                </a:solidFill>
                <a:latin typeface="Garamond"/>
              </a:rPr>
              <a:t>c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книками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дельные </a:t>
            </a:r>
            <a:r>
              <a:rPr b="0" lang="ru-RU" sz="1800" spc="-1" strike="noStrike">
                <a:solidFill>
                  <a:srgbClr val="990000"/>
                </a:solidFill>
                <a:latin typeface="Verdana"/>
              </a:rPr>
              <a:t>задания С2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ыполнили от 2% до 9% участников. Например, </a:t>
            </a:r>
            <a:r>
              <a:rPr b="0" lang="ru-RU" sz="1800" spc="-1" strike="noStrike">
                <a:solidFill>
                  <a:srgbClr val="990000"/>
                </a:solidFill>
                <a:latin typeface="Verdana"/>
              </a:rPr>
              <a:t>определили бактериофаг по рисунку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54% экзаменуемых, но сумели </a:t>
            </a:r>
            <a:r>
              <a:rPr b="0" lang="ru-RU" sz="1800" spc="-1" strike="noStrike">
                <a:solidFill>
                  <a:srgbClr val="990000"/>
                </a:solidFill>
                <a:latin typeface="Verdana"/>
              </a:rPr>
              <a:t>описать особенности жизнедеятельности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только 5%.                                                  </a:t>
            </a:r>
            <a:r>
              <a:rPr b="0" lang="ru-RU" sz="1800" spc="-1" strike="noStrike">
                <a:solidFill>
                  <a:srgbClr val="990000"/>
                </a:solidFill>
                <a:latin typeface="Verdana"/>
              </a:rPr>
              <a:t>Определили по рисунку цветочную почку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61%, </a:t>
            </a:r>
            <a:r>
              <a:rPr b="0" lang="ru-RU" sz="1800" spc="-1" strike="noStrike">
                <a:solidFill>
                  <a:srgbClr val="990000"/>
                </a:solidFill>
                <a:latin typeface="Verdana"/>
              </a:rPr>
              <a:t>назвали части почки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13%, но </a:t>
            </a:r>
            <a:r>
              <a:rPr b="0" lang="ru-RU" sz="1800" spc="-1" strike="noStrike">
                <a:solidFill>
                  <a:srgbClr val="990000"/>
                </a:solidFill>
                <a:latin typeface="Verdana"/>
              </a:rPr>
              <a:t>ответили на вопрос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, какая ткань обеспечивает рост и развитее почки, только 6% экзаменуемых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и выполнении заданий линии С3 вызвали затруднения задания, где требовалось раскрыть особенности строения земноводных в связи с выходом на сушу, скелета птиц в связи с полетом, признаки членистоногих, грызунов, обеспечившие их широкое распространение на земле.                                                      Максимальное число баллов на подобные задания получили в среднем только 5% участников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90000"/>
                </a:solidFill>
                <a:latin typeface="Verdana"/>
              </a:rPr>
              <a:t>Анализ полученных результатов позволяет сделать вывод о слабо сформированных умениях сравнивать разные отделы растений и типы животных, выявлять их ароморфные признаки, определять по рисунку ткани и органы растений, раскрывать их функции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Garamond"/>
              </a:rPr>
              <a:t>Блок 5. Человек и его здоровье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                                       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Анализ ошибок, допущенных выпу</a:t>
            </a:r>
            <a:r>
              <a:rPr b="1" lang="en-US" sz="2800" spc="-1" strike="noStrike">
                <a:solidFill>
                  <a:srgbClr val="999900"/>
                </a:solidFill>
                <a:latin typeface="Garamond"/>
              </a:rPr>
              <a:t>c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книками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00"/>
                </a:solidFill>
                <a:latin typeface="Verdana"/>
              </a:rPr>
              <a:t>Наиболее низкие результаты (18–24%) получены на отдельные задания базового уровня: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                                  - распознавание по рисунку нервной и эпителиальной ткани,                                                                 - тип соединения костей конечностей,                                            - условия формирования и сохранения пассивного иммунитета,                                                                           - определение места впадения крупных лимфатических сосудов,                                                                                - особенности выработки условного рефлекса, поступления веществ в клетки из тканевой жидкости,                                                                                 - процессы регуляции теплоотдачи у человек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Garamond"/>
              </a:rPr>
              <a:t>Блок 5. Человек и его здоровье                                                  </a:t>
            </a:r>
            <a:r>
              <a:rPr b="1" lang="ru-RU" sz="2400" spc="-1" strike="noStrike">
                <a:solidFill>
                  <a:srgbClr val="999900"/>
                </a:solidFill>
                <a:latin typeface="Garamond"/>
              </a:rPr>
              <a:t>Примеры заданий части 1, вызвавших наибольшие затруднения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А17. В клетки тела человека питательные вещества поступают из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лимфы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клеток крови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каневой жидкости (19%)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4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енозной крови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А33. Крупные лимфатические сосуды впадают в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крупные артерии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ердце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лёгочные вены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4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олые вены ( 26%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А33. Пассивный искусственный иммунитет у человека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формируется после перенесённого заболевания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имеет кратковременное действие (24%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образуется после введения антибиотиков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4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охраняется в течение всей жизни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Verdana"/>
              </a:rPr>
              <a:t>А34. При выработке условного рефлекса условный раздражитель должен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следовать сразу после безусловного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редшествовать безусловному (26%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остепенно ослабляться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4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быть сильнее безусловного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35164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Garamond"/>
              </a:rPr>
              <a:t>Блок 5. Человек и его здоровье                                                      </a:t>
            </a:r>
            <a:r>
              <a:rPr b="1" lang="ru-RU" sz="2400" spc="-1" strike="noStrike">
                <a:solidFill>
                  <a:srgbClr val="999900"/>
                </a:solidFill>
                <a:latin typeface="Garamond"/>
              </a:rPr>
              <a:t>Анализ ошибок, допущенных выпу</a:t>
            </a:r>
            <a:r>
              <a:rPr b="1" lang="en-US" sz="2400" spc="-1" strike="noStrike">
                <a:solidFill>
                  <a:srgbClr val="999900"/>
                </a:solidFill>
                <a:latin typeface="Garamond"/>
              </a:rPr>
              <a:t>c</a:t>
            </a:r>
            <a:r>
              <a:rPr b="1" lang="ru-RU" sz="2400" spc="-1" strike="noStrike">
                <a:solidFill>
                  <a:srgbClr val="999900"/>
                </a:solidFill>
                <a:latin typeface="Garamond"/>
              </a:rPr>
              <a:t>книками в части 2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43588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Verdana"/>
              </a:rPr>
              <a:t>Выпускники затруднились соотнести: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                       - процессы пищеварения, протекающие в желудке, тонком и толстом кишечнике, - состав крови в сосудах кровеносной системы, функции разных типов нейронов, железы внутренней и внешней секреци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Verdana"/>
              </a:rPr>
              <a:t>Низки показател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выполнения задания </a:t>
            </a:r>
            <a:r>
              <a:rPr b="0" lang="ru-RU" sz="2800" spc="-1" strike="noStrike">
                <a:solidFill>
                  <a:srgbClr val="990000"/>
                </a:solidFill>
                <a:latin typeface="Verdana"/>
              </a:rPr>
              <a:t>на установление последовательности процессов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 обеспечивающих дыхательные движения у человека, движение крови по системе кровообращени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Структура экзаменационной работ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экзаменационной работе представлены задания разного типа:           с выбором одного или нескольких ответов, задания с кратким ответом на установление соответствия и последовательности биологических объектов, процессов, явлений, а также задания с развернутым ответо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90000"/>
                </a:solidFill>
                <a:latin typeface="Verdana"/>
              </a:rPr>
              <a:t>По уровню сложности задания распределяются следующим образом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I. Задания базового уровня с выбором одного верного ответа (А1–А26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II. Задания повышенного уровн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) с выбором одного (А27–А36) или нескольких (В1–В3) верных ответо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) на установление соответствия объектов, процессов, явлений (В4–В7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) на определение последовательности биологических процессов и явлений (В8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) с развернутым ответом (на два элемента) практико-ориентированного характера (С1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III. Задания высокого уровня с развернутым ответом (на 3 элемента и более) (С2–С6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Garamond"/>
              </a:rPr>
              <a:t>Блок 5. Человек и его здоровье                                                        </a:t>
            </a:r>
            <a:r>
              <a:rPr b="1" lang="ru-RU" sz="2400" spc="-1" strike="noStrike">
                <a:solidFill>
                  <a:srgbClr val="999900"/>
                </a:solidFill>
                <a:latin typeface="Garamond"/>
              </a:rPr>
              <a:t>Примеры заданий части 2, вызвавших наибольшие </a:t>
            </a: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затруднения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00"/>
                </a:solidFill>
                <a:latin typeface="Verdana"/>
              </a:rPr>
              <a:t>В5. Установите соответствие между процессом пищеварения у человека и органом пищеварительной системы, в котором он происходит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(19,4%)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00"/>
                </a:solidFill>
                <a:latin typeface="Verdana"/>
              </a:rPr>
              <a:t>ПРОЦЕСС ПИЩЕВАРЕНИЯ </a:t>
            </a:r>
            <a:r>
              <a:rPr b="0" lang="ru-RU" sz="20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90000"/>
                </a:solidFill>
                <a:latin typeface="Verdana"/>
              </a:rPr>
              <a:t>                                </a:t>
            </a:r>
            <a:r>
              <a:rPr b="0" i="1" lang="ru-RU" sz="2000" spc="-1" strike="noStrike">
                <a:solidFill>
                  <a:srgbClr val="990000"/>
                </a:solidFill>
                <a:latin typeface="Verdana"/>
              </a:rPr>
              <a:t>ОРГАН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А) Происходит окончательное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)  желудок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расщепление жиров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Б) Начинается переваривание белков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)  тонкая кишка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В) Происходит расщепление клетчатки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)  толстая кишка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Г) Пищевая масса обрабатывается                                                        желчью и поджелудочным соком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Д) Происходит интенсивное всасывание                                              питательных веществ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i="1" lang="ru-RU" sz="2400" spc="-1" strike="noStrike">
                <a:solidFill>
                  <a:srgbClr val="990000"/>
                </a:solidFill>
                <a:latin typeface="Garamond"/>
              </a:rPr>
              <a:t>Блок 5. Человек и его здоровье                                                                 </a:t>
            </a:r>
            <a:r>
              <a:rPr b="1" lang="ru-RU" sz="2400" spc="-1" strike="noStrike">
                <a:solidFill>
                  <a:srgbClr val="999900"/>
                </a:solidFill>
                <a:latin typeface="Garamond"/>
              </a:rPr>
              <a:t>А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нализ ошибок заданий части 3, допущенных выпу</a:t>
            </a:r>
            <a:r>
              <a:rPr b="1" lang="en-US" sz="2800" spc="-1" strike="noStrike">
                <a:solidFill>
                  <a:srgbClr val="999900"/>
                </a:solidFill>
                <a:latin typeface="Garamond"/>
              </a:rPr>
              <a:t>c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книками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частники затруднились установить по рисунку строение кожи, описать функции эпидермиса и подкожной клетчатки, строение почки и функции ее частей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ложными оказались  задания, в которых требовалось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объяснить особенности дыхательных движений у человека при спокойном вдохе и выдохе,                           - транспорта газов кровью,                                                                                       - регуляции кровяного давления в процессе работы и в спокойном состоянии;                                                                             - установить отделы нервной системы, участвующие в этом процессе,                                                                                      - причины введения инсулина человеку только в виде инъекций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Garamond"/>
              </a:rPr>
              <a:t>Блок 5. Человек и его здоровье                                                        </a:t>
            </a:r>
            <a:r>
              <a:rPr b="1" lang="ru-RU" sz="2400" spc="-1" strike="noStrike">
                <a:solidFill>
                  <a:srgbClr val="999900"/>
                </a:solidFill>
                <a:latin typeface="Garamond"/>
              </a:rPr>
              <a:t>Примеры заданий части 3, вызвавших наибольшие затруднения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435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С2. На рисунке представлены слои кожи человека, обозначенные буквами А и В. Назовите их. Какие функции они выполняют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?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Элементы ответа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)   А – эпидермис;                                                                                                                                                В – подкожная жировая клетчатка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2) эпидермис выполняет защитную                                                                                                                                                 функцию, обеспечивает образование                                                                                               пигмента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3) подкожная жировая клетчатка                                                                                                                  препятствует  охлаждению тела,                                                                                                        является энергетическим                                                                                                      резервом, играет роль амортизатора                                                                                          при ушибах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С3. Что лежит в основе изменения кровяного давления человека в спокойном состоянии и во время работы? Какие отделы нервной системы это обеспечивают?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Элементы ответа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) в спокойном состоянии расслабляются гладкие мышцы сосудов и увеличивается их просвет, давление понижается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2) во время работы сокращаются гладкие мышцы сосудов, сужается их просвет, давление повышается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3) в изменении кровяного давления участвуют симпатический (повышает) и парасимпатический (понижает) отделы вегетативной нервной системы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5148360" y="1916280"/>
            <a:ext cx="2663640" cy="25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Блок 6. Эволюция живой природы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                            </a:t>
            </a:r>
            <a:r>
              <a:rPr b="1" lang="ru-RU" sz="2400" spc="-1" strike="noStrike">
                <a:solidFill>
                  <a:srgbClr val="999900"/>
                </a:solidFill>
                <a:latin typeface="Garamond"/>
              </a:rPr>
              <a:t>А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нализ ошибок, допущенных выпу</a:t>
            </a:r>
            <a:r>
              <a:rPr b="1" lang="en-US" sz="2800" spc="-1" strike="noStrike">
                <a:solidFill>
                  <a:srgbClr val="999900"/>
                </a:solidFill>
                <a:latin typeface="Garamond"/>
              </a:rPr>
              <a:t>c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книками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явлены отдельные понятия, закономерности, слабо освоенные выпускниками и требующие серьезной подготовки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установление признака, на основании которого особей относят к одному виду, изменчивости, приводящей к сохранению особей с полезными свойствами;                                                            - определение атавизмов на конкретных примерах, экологического видообразования при разделении популяции по срокам размножения, экологических критериев вида;                                                                                           - признаки морфофизиологического прогресса на примера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начительные затруднения вызвали задания в разных вариантах, где требовалось установить первично- и вторично водных животных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Блок 6. Эволюция живой природы                                   </a:t>
            </a:r>
            <a:r>
              <a:rPr b="1" lang="ru-RU" sz="2400" spc="-1" strike="noStrike">
                <a:solidFill>
                  <a:srgbClr val="999900"/>
                </a:solidFill>
                <a:latin typeface="Garamond"/>
              </a:rPr>
              <a:t>Примеры заданий, вызвавших наибольшие затруднения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А22. Приспособленность организмов к среде обитания формируется в результате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одификационной изменчивости (49%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тремления особей к совершенствованию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менения методов селекции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4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охранения особей с полезными изменениями (21%)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В8. Установите последовательность формирования популяции тёмноокрашенной бабочки берёзовой пяденицы в загрязнённых промышленных районах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31%)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явление в потомстве разноокрашенных бабочек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величение численности бабочек с более тёмной окраской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охранение в результате естественного отбора бабочек с тёмной окраской и гибель со светлой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4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озникновение популяции тёмноокрашенных бабочек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Слабо сформированы у выпускников учебные умения сравнивать и сопоставлять эволюционные процессы, признаки организмов: дивергенцию и конвергенцию; ароморфозы и идиоадаптации на примерах у пресмыкающихся, растений; науки, изучающие различные доказательства эволюции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К типичным ошибкам, повторяющимся из года в год, следует отнести неумение экзаменуемых устанавливать правильную последовательность процессов видообразования и формирования приспособленности как результата эволюци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Блок 6. Эволюция живой природы                  </a:t>
            </a:r>
            <a:r>
              <a:rPr b="1" lang="ru-RU" sz="2400" spc="-1" strike="noStrike">
                <a:solidFill>
                  <a:srgbClr val="999900"/>
                </a:solidFill>
                <a:latin typeface="Garamond"/>
              </a:rPr>
              <a:t>А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нализ ошибок, допущенных выпу</a:t>
            </a:r>
            <a:r>
              <a:rPr b="1" lang="en-US" sz="2800" spc="-1" strike="noStrike">
                <a:solidFill>
                  <a:srgbClr val="999900"/>
                </a:solidFill>
                <a:latin typeface="Garamond"/>
              </a:rPr>
              <a:t>c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книками в части 3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00"/>
                </a:solidFill>
                <a:latin typeface="Verdana"/>
              </a:rPr>
              <a:t>В линии С2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существенные затруднения вызвали два похожих задания разных вариантов.                                                                      По изображению пород голубей и разновидностей капусты требовалось определить эволюционные процессы и вид отбора, обеспечившие выведение этих разновидностей, и установить, изменения каких органов были взяты за основу. Только 3% экзаменуемых правильно ответили на эти задания и получили максимальный балл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заданиях  </a:t>
            </a:r>
            <a:r>
              <a:rPr b="0" i="1" lang="ru-RU" sz="2000" spc="-1" strike="noStrike">
                <a:solidFill>
                  <a:srgbClr val="990000"/>
                </a:solidFill>
                <a:latin typeface="Verdana"/>
              </a:rPr>
              <a:t>линии С4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можно выделить вопросы, на которые следует обратить внимание при подготовке к ЕГЭ:                                                                                                            - причины вымирания вида при снижении его численности, сокращении ареала, снижении адаптационных возможностей организма;                                                  - эволюционные доказательства принадлежности человека к типу Хордовые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Блок 7</a:t>
            </a:r>
            <a:r>
              <a:rPr b="1" lang="ru-RU" sz="2800" spc="-1" strike="noStrike">
                <a:solidFill>
                  <a:srgbClr val="990000"/>
                </a:solidFill>
                <a:latin typeface="Garamond"/>
              </a:rPr>
              <a:t>. </a:t>
            </a: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Экосистемы и присущие им закономерности                                                                  </a:t>
            </a:r>
            <a:r>
              <a:rPr b="1" i="1" lang="ru-RU" sz="28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Анализ ошибок, допущенных выпу</a:t>
            </a:r>
            <a:r>
              <a:rPr b="1" lang="en-US" sz="2800" spc="-1" strike="noStrike">
                <a:solidFill>
                  <a:srgbClr val="999900"/>
                </a:solidFill>
                <a:latin typeface="Garamond"/>
              </a:rPr>
              <a:t>c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книками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дания по экологии, как правило, выполняются хорошо и не вызывают особых затруднений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 ответе на задания экологического характера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выпускники должны продемонстрировать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знание основных экологических закономерностей, сформированность учебных умений выявлят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ущественные признаки экосистемы, процессов круговорота веществ и превращения энергии, устанавливать взаимосвязи организмов в экосистеме и типы их взаимодействия, антропогенные изменения в биосфере, составлять цепи питания, сравнивать природные экосистемы и агроэкосистемы.                                             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Отдельные трудности возникли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у экзаменуемых при выполнении заданий на определение устойчивости различных экосистем, сравнение агроэкосистем и природных сообщест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Garamond"/>
              </a:rPr>
              <a:t>Блок 7</a:t>
            </a:r>
            <a:r>
              <a:rPr b="1" lang="ru-RU" sz="2400" spc="-1" strike="noStrike">
                <a:solidFill>
                  <a:srgbClr val="990000"/>
                </a:solidFill>
                <a:latin typeface="Garamond"/>
              </a:rPr>
              <a:t>. </a:t>
            </a:r>
            <a:r>
              <a:rPr b="1" i="1" lang="ru-RU" sz="2400" spc="-1" strike="noStrike">
                <a:solidFill>
                  <a:srgbClr val="990000"/>
                </a:solidFill>
                <a:latin typeface="Garamond"/>
              </a:rPr>
              <a:t>Экосистемы и присущие им закономерности</a:t>
            </a:r>
            <a:r>
              <a:rPr b="0" lang="ru-RU" sz="2400" spc="-1" strike="noStrike">
                <a:solidFill>
                  <a:srgbClr val="999900"/>
                </a:solidFill>
                <a:latin typeface="Garamond"/>
              </a:rPr>
              <a:t>                                                             </a:t>
            </a:r>
            <a:r>
              <a:rPr b="1" lang="ru-RU" sz="2400" spc="-1" strike="noStrike">
                <a:solidFill>
                  <a:srgbClr val="999900"/>
                </a:solidFill>
                <a:latin typeface="Garamond"/>
              </a:rPr>
              <a:t>Анализ ошибок, допущенных выпу</a:t>
            </a:r>
            <a:r>
              <a:rPr b="1" lang="en-US" sz="2400" spc="-1" strike="noStrike">
                <a:solidFill>
                  <a:srgbClr val="999900"/>
                </a:solidFill>
                <a:latin typeface="Garamond"/>
              </a:rPr>
              <a:t>c</a:t>
            </a:r>
            <a:r>
              <a:rPr b="1" lang="ru-RU" sz="2400" spc="-1" strike="noStrike">
                <a:solidFill>
                  <a:srgbClr val="999900"/>
                </a:solidFill>
                <a:latin typeface="Garamond"/>
              </a:rPr>
              <a:t>книками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 ответе на задания экологического характера учащиеся продемонстрировали знание основного содержания и сформированность ряда учебных умений: выявлять существенные признаки экосистемы, процессов круговорота веществ и превращения энерги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днако в этом году, в отличие от предыдущих лет, вызвали затруднения задания на установление абиотических факторов среды, определение консументов и продуцентов в экосистемах и цепях питания, выбор правильного суждения об агроценозах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Garamond"/>
              </a:rPr>
              <a:t>Блок 7</a:t>
            </a:r>
            <a:r>
              <a:rPr b="1" lang="ru-RU" sz="2400" spc="-1" strike="noStrike">
                <a:solidFill>
                  <a:srgbClr val="990000"/>
                </a:solidFill>
                <a:latin typeface="Garamond"/>
              </a:rPr>
              <a:t>. </a:t>
            </a:r>
            <a:r>
              <a:rPr b="1" i="1" lang="ru-RU" sz="2400" spc="-1" strike="noStrike">
                <a:solidFill>
                  <a:srgbClr val="990000"/>
                </a:solidFill>
                <a:latin typeface="Garamond"/>
              </a:rPr>
              <a:t>Экосистемы и присущие им закономерности </a:t>
            </a:r>
            <a:r>
              <a:rPr b="1" lang="ru-RU" sz="2400" spc="-1" strike="noStrike">
                <a:solidFill>
                  <a:srgbClr val="999900"/>
                </a:solidFill>
                <a:latin typeface="Garamond"/>
              </a:rPr>
              <a:t>Примеры заданий, вызвавших наибольшие затруднения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А25. Какой организм отсутствует в приведённой цепи питания: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листовой опад </a:t>
            </a:r>
            <a:r>
              <a:rPr b="0" lang="ru-RU" sz="1400" spc="-1" strike="noStrike">
                <a:solidFill>
                  <a:srgbClr val="990000"/>
                </a:solidFill>
                <a:latin typeface="Verdana"/>
              </a:rPr>
              <a:t> </a:t>
            </a:r>
            <a:r>
              <a:rPr b="1" i="1" lang="ru-RU" sz="1400" spc="-1" strike="noStrike">
                <a:solidFill>
                  <a:srgbClr val="990000"/>
                </a:solidFill>
                <a:latin typeface="Verdana"/>
              </a:rPr>
              <a:t>… </a:t>
            </a:r>
            <a:r>
              <a:rPr b="0" lang="ru-RU" sz="1400" spc="-1" strike="noStrike">
                <a:solidFill>
                  <a:srgbClr val="990000"/>
                </a:solidFill>
                <a:latin typeface="Verdana"/>
              </a:rPr>
              <a:t> </a:t>
            </a: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ёж </a:t>
            </a:r>
            <a:r>
              <a:rPr b="0" lang="ru-RU" sz="1400" spc="-1" strike="noStrike">
                <a:solidFill>
                  <a:srgbClr val="990000"/>
                </a:solidFill>
                <a:latin typeface="Verdana"/>
              </a:rPr>
              <a:t> </a:t>
            </a: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лисица?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узнечик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айский жук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гриб-трутовик (38%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4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ождевой червь (46%)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А24. Минеральные вещества, используемые растениями в процессе почвенного питания, относят к группе факторов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езонных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антропогенных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биотических (36%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4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абиотических (39%)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А35. Разделение популяций одного вида по срокам размножения может привести к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пуляционным волнам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экологическому видообразованию (28%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силению межвидовой борьбы (36%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4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онвергенци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знаков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0" i="1" lang="ru-RU" sz="1600" spc="-1" strike="noStrike">
                <a:solidFill>
                  <a:srgbClr val="990000"/>
                </a:solidFill>
                <a:latin typeface="Verdana"/>
              </a:rPr>
              <a:t>В заданиях части С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участники не смогли обосновать:                                                  - последствия обработки деревьев ядохимикатами,                                                                                                   - приспособленность растений к жизни в тундре.                                                   Объяснить, почему каменный уголь относят к веществам биогенного происхождения и невосполнимым ресурсам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Планируемые изменения КИМ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Verdana"/>
              </a:rPr>
              <a:t>В части 1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ены задания А и В уровн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меньшено число заданий с выбором одного верного ответа с 36 до 25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веты к заданиям 1–25 записываются в виде одной цифры, которая соответствует номеру правильного отве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величено число заданий с множественным выбором до 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на соответствие до 4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 построение последовательности -1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веты к заданиям 26–33 записываются в виде последовательности цифр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Разделы курса биолог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держание проверки на едином экзамене по биологии составляют знания и умения по всем разделам школьного курса биологии с 6 по 11 класс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щая биология −70%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еловек и его здоровье − 15%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тения, Животные, Бактерии, Грибы, Лишайники −15%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Изменения в содержании и структуре экзаменационной работы в 2015 г.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Verdana"/>
              </a:rPr>
              <a:t>В части 2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величить число заданий с развернутым ответом, выделив обязательно в каждом варианте линии заданий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 контролирующих умения работать с изображением биологических объектов, схемами, диаграммами,                                                                                    - на анализ биологической информации, нахождение ошибок и их исправление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удет уменьшено число заданий с выбором одного верного ответа с 36 до 25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щее число заданий в экзаменационной работе в связи с этим сократится с 50 до 40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Рекомендации учителям биологии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89308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ля достижения положительных результатов на экзамене следует в учебном процессе обратить внимание на повторение и закрепление материала, который традиционно вызывает затруднения у выпускников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мощь учителю при подготовке учащихся к ЕГЭ окажут статьи в журнале «Биология в школе» (2009-2010. № 1, 2011-2014. № 10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тодическую помощь учителям и обучающимся при подготовке к ЕГЭ могут оказать материалы с сайта ФИПИ: www.fipi.ru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окументы, определяющие структуру и содержание КИМ ЕГЭ 2015 г. (кодификатор элементов содержания и требований к уровню подготовки выпускников, спецификация и демонстрационный вариант КИМ)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крытый банк заданий ЕГЭ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чебно-методические пособия под грифом ФИПИ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налитические отчеты о результатах экзамена, методические рекомендации и методические письма прошлых лет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4"/>
          <p:cNvSpPr/>
          <p:nvPr/>
        </p:nvSpPr>
        <p:spPr>
          <a:xfrm>
            <a:off x="592200" y="1341360"/>
            <a:ext cx="8551800" cy="53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еспечение прочного овладения обучающимися содержанием стандарта (базовый уровень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учение учащихся (имеющих оценки 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  <a:ea typeface="Arial"/>
              </a:rPr>
              <a:t>«4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  <a:ea typeface="Arial"/>
              </a:rPr>
              <a:t>«5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 применению знаний в измененной ситуа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зработка вариативных задан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зработка заданий на разрушение стереотип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учение различным методам решений одних и тех  же задан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еспечение прочности овладения  учебным материал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ция повторения (непрерывность, обобщение, системность)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Garamond"/>
              </a:rPr>
              <a:t>Подготовка обучающихся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Контролируемые темы разделов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ервый блок «Биология как наука. Методы научного познания»</a:t>
            </a: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содержит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атериал о достижениях биологии, методах исследования, роли ученых в познан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кружающего мира, об общих признаках биологических систем, основных уровнях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рганизации живой природы, о роли биологических теорий, идей, гипотез 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ормировании современной естественнонаучной картины мир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торой блок «Клетка как биологическая система»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одержит задания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веряющие знания о строении и функциях клетки, ее химической организации, гене 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енетическом коде, метаболизме, многообразии клеток, их делении; умения устанавлива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заимосвязь строения и функций органоидов клетки; умения распознавать и сравнива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летки разных организмов, процессы, протекающие в ни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Третий блок «Организм как биологическая система»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нтролирует освое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наний о вирусах, об организменном уровне организации жизни, присущих ему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акономерностях, о вредном влиянии мутагенов, алкоголя, наркотиков, никотина н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енетический аппарат клетки, защите среды от загрязнения мутагенами, наследственных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болезнях человека, об их причинах и профилактике, о селекции организмов 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биотехнологии; овладение умениями сравнивать биологические объекты, процессы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явления, применять знания биологической терминологии и символики при решении задач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 генетик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 четвертом блоке «Система и многообразие органического мира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веряются знания о многообразии, строении, жизнедеятельности и размножен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рганизмов различных царств живой природы; умения сравнивать организмы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характеризовать и определять их принадлежность к определенному систематическому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аксону, устанавливать причинно-следственные связи между строением и функцие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рганов и систем органов организмов разных царств, взаимосвязи организмов и сред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ита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Контролируемые темы разделов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ятый блок «Организм человека и его здоровье»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являет уровень усво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истемы знаний о строении и жизнедеятельности организма человека, лежащих в основ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ормирования гигиенических норм и правил здорового образа жизни, профилакти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равм и заболеваний; овладения умениями обосновывать взаимосвязь органов и систе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рганов человека, особенности, обусловленные прямохождением и трудово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еятельностью; делать вывод о роли нейрогуморальной регуляции процесс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жизнедеятельности и об особенностях высшей нервной деятельности человек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шестой блок «Эволюция живой природы»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ключены задания, направленны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 контроль знаний о виде и его структуре, движущих силах, направлениях и результатах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волюции органического мира, этапах антропогенеза, биосоциальной природе человек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мений характеризовать критерии вида, причины и этапы эволюции, объяснять основны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роморфозы в эволюции растительного и животного мира, устанавливать причин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ногообразия видов и приспособленности организмов к среде обита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едьмой блок «Экосистемы и присущие им закономерности»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оставляю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адания, направленные на проверку знаний об экологических закономерностях, цепях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итания, круговороте веществ в биосфере; умений устанавливать взаимосвяз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рганизмов, человека и окружающей среды, объяснять причины устойчивости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аморегуляции, саморазвития и смены экосистем, необходимость сохран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ногообразия видов, защиты окружающей среды как основы устойчивого развит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биосфер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Уровни, проверяемых элементов содержания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Verdana"/>
              </a:rPr>
              <a:t>На базовом уровне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веряются наиболее существенные элементы содержания  курса биологии основной и средней (полной) школы, сформированность у школьников научного мировоззрения и биологической компетентност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ладение биологической терминологией и символикой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нание основных методов изучения живой природы, наиболее важных признаков биологических объектов, особенностей организма человека, гигиенических норм и правил здорового образа жизни, экологических основ охраны окружающей сред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нимание основных положений биологических теорий, законов, правил, гипотез, закономерностей, сущности биологических процессов и явлений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мение распознавать биологические объекты по их описанию и рисункам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шать простейшие биологические задачи, использовать биологические знания в практической деятельнос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Уровни, проверяемых элементов содержания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Verdana"/>
              </a:rPr>
              <a:t>На повышенном уровне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веряется овладение учащимися более сложными 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нообразными видами учебной деятельност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нание сущности биологических процессов, явлений, общебиологических закономерностей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мения определять, сравнивать, классифицировать, объяснять биологическ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екты и процессы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мения устанавливать взаимосвязи организмов, процессов, явлений, выявля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щие и отличительные признаки, составлять схемы пищевых цепей, применять знания в измененной ситуа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Уровни, проверяемых элементов содержания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Verdana"/>
              </a:rPr>
              <a:t>Задания высокого уровня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едусматривают развернутый свободный ответ и направлены на проверку сформированности умений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амостоятельно оперировать биологическими понятиями, обосновывать и объяснять биологические процессы и явления, грамотно формулировать свой ответ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нять знания в новой ситуации, устанавливать причинно-следственные связи, анализировать, систематизировать и интегрировать знания, обобщать и формулировать выводы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шать биологические задачи, оценивать и прогнозировать биологические процессы, применять теоретические знания на практик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09:33:09Z</dcterms:created>
  <dc:creator>nemceva</dc:creator>
  <dc:description/>
  <dc:language>en-US</dc:language>
  <cp:lastModifiedBy>Татьяна Васильевна Немцева</cp:lastModifiedBy>
  <dcterms:modified xsi:type="dcterms:W3CDTF">2014-10-27T12:14:00Z</dcterms:modified>
  <cp:revision>45</cp:revision>
  <dc:subject/>
  <dc:title>Сравнительный анализ результатов ЕГЭ за 2009-2010 год</dc:title>
</cp:coreProperties>
</file>