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B25-78EF-4E14-B295-3969C472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B3A-F30A-4CB4-9FBF-7347DA2D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CDE-DE7E-45D9-994E-2A9D4FBC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CE6-98E6-45EF-8B7C-0BE57907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9034-E6B3-4CE8-A942-93383848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1EC2-4A7E-483A-B457-E6215C62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2A58-C96E-4EC4-B249-E7098DBD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2B49-EDDA-44B6-B174-9A971962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2CA0-41D8-4086-B437-0BBEEC8A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D4C2-3BAB-4424-BE0E-BBECA0AB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0A60-148C-4301-A862-665281A7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DBC-C735-445F-A20C-99A7A490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B53D-D9F2-4144-B9AC-AC673F2F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AE5C-EBB9-4EB8-9451-1B2F9E2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5BF8-F847-4B71-B37F-5A8C7F4D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8CD7-5D92-4847-8C7B-3ADD4CA9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EDA1-9E78-4397-AD02-08E4D04A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B2A-63EE-45D1-B6B6-33438074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E1F-F7B9-4BD6-A661-CF37C42A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F77-8B29-4DB3-BCEB-D79AA83E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F84-D7E1-42FA-9755-71EE22A8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E6D-AD33-409C-9270-FDB46AE6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6CD-D049-4549-9597-5312E8CB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D2E-F1E4-43A9-A991-55DD0294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1CFE-3B10-49C3-866A-0AFA164B9D9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ABD4-D49E-43E3-838D-2DC82EF59EC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ичные ошибки при выполнении заданий ЕГЭ по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68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Автор: Немцева Т.В.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ст.преподаватель кафедры ЕМД ГОУ ЯО ИРО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Белки, в отличие от нуклеиновых кислот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участвуют в образовании плазматической мембра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ходят в состав хромосо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ыполняют гуморальную регуля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существляют транспор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выполняют защи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переносят наследственную информацию из ядра к рибосом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,3,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ва отличия белков от нуклеиновых кислот определяют 40%, а три отличия – только 20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Типичной ошибкой, которую допускают выпускники, 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тнесение транспортной функции только к белкам, тогда как т - РНК также выполняют эту функци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3. Установите соответствие между характеристикой энергетического обмена и его этапом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ХАРАКТЕРИСТИКА                                                                             ЭТАП ЭНЕРГЕТИЧЕСКОГО ОБМЕН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А) происходит в анаэробных условиях                                               1) гликолиз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Б) происходит в митохондриях                                                            2) кислородное окисление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) образуется молоч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Г) образуется пировиноград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Д) синтезируется 36 молекул АТФ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1 2 1 1 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На это задание правильно ответили и получили 2 балла только 13% экзаменуемых. Допустили одну ошибку и получили 1 балл 21%. Остальные получили 0 баллов. При подготовке к ЕГЭ на вопросы, связанные с обменом веществе в клетке, следует обращать особое внимание. Ошибки при выполнении таких заданий повторяются из года в год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4. Установите последовательность процессов, происходящих при фагоцитозе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поступление мономеров в цитоплазму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захват клеточной мембраной питательных вещест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гидролиз полимеров до мономеро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образование фагоцитозного пузырька внутри клетки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5) слияние фагоцитозного пузырька с лизосомой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2 4 5 3 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 выполнении данного задания правильно определили последовательность и получили 2 балла только 30% экзаменуемых. Низкие результаты свидетельствуют о неумении представить в целом процесс фагоцитоза и определить последовательность его этапов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особенностью процесса и фазой мейоза, для которой она характерна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. (18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ФАЗА МЕЙОЗА</a:t>
            </a:r>
            <a:r>
              <a:rPr b="0" i="1" lang="ru-RU" sz="1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анафаза 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к разным полюсам клет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анафаза II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яде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3) телофаза I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признаком и видом гаметогенеза, для которого этот признак характерен.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(27%)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РИЗНАК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ВИД ГАМЕТОГЕНЕЗА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ов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  спермат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образуются направительные тельц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большое количество питательных вещест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, наиболее часто вызывающие затруд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09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какой период жизненного цикла клетки синтезируется наибольшее количество АТФ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Сколько хромосом содержит ядро исходной клетки, если при мейозе образуется ядро с 12 хромосомами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ие связи обеспечивают образование третичной структуры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ая связь обеспечивает соединение кодона и - РНК с антикодоном т - РНК при биосинтезе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ую функцию в клетке выполняет белок ДНК-полимераза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 преобразуется энергия на подготовительном этапе энергетического обмен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 образование АТФ при фотосинтезе используется энергия электронов молекулы (хлорофилла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ибольшее количество энергии запасается в АТФ в процессе (биологического окисления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ем второе деление мейоза отличается от первого делени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результате какого деления происходит уменьшение числа хромосом в 2 раз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4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инии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5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едлагаются два типа задач по цитологи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на применение знаний 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генетическом коде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на определение числа хромосом и ДНК в разных фазах митоза 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мейоза, в половых и соматических клетках организм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аибольшие затруднения вызывают задания второго типа, проверяющие знания о хромосомном наборе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порофита и гаметофита водорослей, мхов, папоротников, голосеменных и цветковых растений; об образовании у растений спор в процессе мейоза, а половых клеток – в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оцессе митоз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Трудными оказываются и задания на определение числа хромосом и ДНК в разных фазах деления при образовании половых клеток у животны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Примеры заданий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1. Какой хромосомный набор характерен для гамет и спор растения мха кукушкина льн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бъясните, из каких клеток и в результате какого деления они образуютс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2. Для соматической клетки животного характерен диплоидный набор хромосом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3. Хромосомный набор соматических клеток пшеницы равен 28. Определите хромосомный набор и число молекул ДНК в ядре (клетке) семязачатка перед началом мейоза I и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ледует обратить внимание на то, что для решения задач данного тип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обходимо актуализировать знания о сущности митоза и мейоза, процессах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отекающих в разных фазах, циклах развития растений разных отделов. К числ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достатков в ответах экзаменуемых следует отнести отсутствие объяснений полученных в каждом случае результат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4. Для соматической клетки животного характерен диплоидный набор хромосом. 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Схема решения задачи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 в конце телофазы мейоза I набор хромосом – 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 анафазе мейоза II набор хромосом – 2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конце телофазы I произошло редукционное деление, число хромосом и ДНК уменьшилось в 2 раза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в анафазе мейоза II к полюсам расходятся сестринские хроматиды (хромосомы), поэтому число хромосом и число ДНК равное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 числу типичных ошибок следует также отнести наличие в ответе вместо объяснения результатов, как это требуется в условии задачи, описания процессов, происходящих в эти фазы мейоза.       Такие ответы не учитываются, даже если в описании отсутствуют ошибк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) хромосомный набор споры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споры образуются из диплоидной зиготы путём мейоза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гамет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гаметы образуются из клетки взрослого организма (гаметофита) путём митоза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 клеток и в результате какого деления образуются эти клетки.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) набор хромосом вегетативной и генеративной клеток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спермиев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спермии образуются из генеративной клетки путём митоза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C5. Укажите число хромосом и количество молекул ДНК в профазе первого и второго мейотического деления клетки. Какое событие происходит с хромосомами в профазе первого делени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. В профазе первого деления количество хромосом и ДНК отвечает формуле 2n4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. В профазе второго деления формула – n2с, так как клетка гаплоид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. В профазе первого деления происходят конъюгация и кроссинговер гомологичных хромосо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целом по данному блоку к числу слабо сформированных у выпускников знаний и умений можно отнести следующие: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) знание циклов развития растений разных отделов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аиболее сложных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Назвали уровень, на котором происходит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икл развития спорового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дыш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олодое растение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Взрослое растение со спорангиями (спорофит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ЕЙОЗ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пор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(высыпаются наружу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сток(гаметофит)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Архегоний                                               Антеридий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Яйцеклетка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          Сперматозоид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Оплодотворение яйцеклетки в архегонии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349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92428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6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581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36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623736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790640"/>
            <a:ext cx="8664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удности вызвали лишь отдельные задания: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     - способ питания молочнокислых бактерий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адиционно плохо участники отвечают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Вызвали затруднения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и отдельные задания по эмбриогенез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48960" y="1981080"/>
            <a:ext cx="766116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1. Согласно закону Т. Моргана гены наследуются преимущественно вместе, если они расположены 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аут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разных гомологичн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одной хромосоме (5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полов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2. Генетическая информация зиготы реализуется в процесс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филогенеза 2) гаметогенеза 3) эволюции 4) онтогенеза (5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Если при моногибридном скрещивании четверть особей несет рецессивный признак, а три четверти – доминантный, значит, про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равило единообраз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закон расщепления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промежуточное наследован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закон неполного доминирова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. В результате двойного оплодотворения у цветковых растений образуютс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еративные почки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мядоли (одна или две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5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отипом                                 3) генофондом                                                                        2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одификацией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4) фенотипом (40%)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6. Фенотипические различия между однояйцевыми близнецами обусловлены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заимодействием аллельных ген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азными генотипами организм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цеплением генов                                                                                                    4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2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На повышенном уровне в частях 1 и 2 наиболее сложными оказались задания по эмбриогенезу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Задания разного типа (выбор одного ответа из четырех, выбор нескольких верных ответов из шести, установление соответствия), проверяющие знание стадий развития зародыша, образования тканей животных из зародышевых листков, сравнение сперматогенеза и овогенеза, выполнены значительно хуже, чем все остальные задания этого блок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сть (А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На стадии бластулы зародыш животного имеет полость и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ва слоя кле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эпителиа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соедините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дин слой клеток (35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ие ткани и органы позвоночного животного образуются из клеток, обозначенных на рисунке цифрой 1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товые желез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ост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огтевые пластин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соединитель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кожный эпидерми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гладкая мышеч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3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193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66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(33%)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ХАРАКТЕРИСТИКА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МЕТОД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сследуется родословная 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цитогенетически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семь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ыявляется сцепленность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генеалогический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признака с полом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устанавливается доминантный признак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определяется наличие геномных мута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ХАРАКТЕРИСТИКА                                 ВИД ГАМЕТОГЕНЕЗ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А) образуется одна крупная                    1) овогенез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ловая клетк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Б) образуются направительные              2) сперматогенез клетк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) формируется много мелких                                                                                                гамет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Г) питательные вещества                                                                                                     запасаются в одной из четырех                                                                                     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) образуются подвижные гамет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1212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77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е низкие результаты (1 балл – 27%; 2 балла – 15%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лучены на следующе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66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4.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Установите соответствие между органом, тканью позвоночного животного и зародышевым листком, из которого они образую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РГАН, ТКАНЬ                             ЗАРОДЫШЕВЫЙ ЛИС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кишечник                                  1) энт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кровь                                        2) мез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поч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легк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хрящев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Е) сердечная мышц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212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 подготовке к ЕГЭ следует особое внимание уделит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вторению характерных признаков разных стадий развития зародыша, установлению соответствия между тканями и органами животных и конкретными зародышевым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листками, которые их формируют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ие результаты получены и на задание, в котором требовалось установи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и геномных мут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21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6600"/>
                </a:solidFill>
                <a:latin typeface="Arial"/>
              </a:rPr>
              <a:t>5. Чем характеризуется геномная мутация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1) изменением нуклеотидной последовательности ДНК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2) утратой одной хромосомы в диплоидном набор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3) кратным увеличением числа хромосом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4) изменением структуры синтезируемых белков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5) удвоением участка хромосомы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6) изменением числа хромосом в кариотип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8080"/>
                </a:solidFill>
                <a:latin typeface="Arial"/>
              </a:rPr>
              <a:t>Ответ: 236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з года в год сложными оказываются задания, требующие установить различия между генотипом, геномом и кариотипом, неаллельными и аллельными генами на конкретных примерах; указать причины хромосомных и геномных мутаций, постоян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ромосомного набора организмов при половом размножении, признаки модификационной и наследственной изменчивости, методы, применяемые в селекции и биотехнологи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.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 (часть 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790640"/>
            <a:ext cx="85914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Экзаменуемые в целом освоили материал об уровнях организации живого и методах его изучения, роли различных биологических наук в познании природы, признаках и свойствах живых организм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Однако отдельные задания вызвали затруднени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1. В основе разделения органоидов методом центрифугирования лежат их различия по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строению и состав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выполняемым функция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размеру и массе (49%)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4) расположению в цитоплазм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2. Какие органоиды были обнаружены в клетке впервые с помощью электронного микроскоп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ядра 2) хлоропласты 3) рибосомы (51%) 4) вакуол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i="1" lang="ru-RU" sz="1800" spc="-1" strike="noStrike">
                <a:solidFill>
                  <a:srgbClr val="292929"/>
                </a:solidFill>
                <a:latin typeface="Arial"/>
              </a:rPr>
              <a:t>сложных следует отнести задания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 в которых требовалось определить область биологии, изучающую межвидовые отношения (экология), метод генетики человека, с помощью которого устанавливается характер наследования признаков (генеалогический); метод, используемый в генетике для определения геномных мутаци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заданиях линии С6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предлагались генетические задачи:                                                                - на дигибридное скрещивание,                                   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Так, например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аибольшие трудности в этом году вызвали генетические задачи на анализ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родословных и наследование групп крови и резус-фактора, а также задача, в которой один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признак был аутосомным, а другой сцеплен с Х-хромосомо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Группа крови и резус-фактор – аутосомные несцепленные признаки. Группа крови контролируется тремя аллелями одного гена: i0, IA, IB. Аллели IA и IB доминантны по отношению к аллелю i0. Первую группу (0) определяют рецессивные аллели i0, вторую группу (А) определяет доминантный аллель IA, третью группу (В) определяет доминантный аллель IB, а четвертую (АВ) – два доминантных аллеля – IAIB. Положительный резус-фактор (R) доминирует над отрицательным (r). У отца третья группа крови и положительный резус (дигетерозигота), у матери вторая группа и положительный резус (дигомозигота). Определите генотипы родителей. Какую группу крови и резус-фактор могут иметь дети в этой семье, каковы их возможные генотипы и соотношение фенотипов? Составьте схему решения задачи. Какой закон наследственности проявляется в данном случае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8948" t="42826" r="12111" b="19532"/>
          <a:stretch/>
        </p:blipFill>
        <p:spPr>
          <a:xfrm>
            <a:off x="395280" y="1916280"/>
            <a:ext cx="8353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решении генетических задач следует внимательно читать условие задачи, анализировать его и правильно определять признаки, генотипы родителей (см. задачу 1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наличии в условии буквенных обозначений признаков нужно использовать указанные в задаче  символы, а не упрощать их или приводить свои, так как это может привести к неверному решению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Если в условии задачи указано, что признак сцеплен с Х-хромосомой, то его нужно обозначать Хh, а не просто h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налогично нужно использовать символы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бозначающие группы крови (см. задачу 2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ебрежность при решении задачи может привести к потере балл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158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ставлен во всех учебниках.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 разделу «Растения» экзаменуемые часто затрудняются ответить на вопросы о строении корня, росте дерева в толщину за счет деления клеток камбия, о причинах     передвижения воды в растениях, об особенностях образования плодов и семян у покрытосеменных растений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Из завязи пестика после оплодотворения образуетс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емя 2) зигота 3) плод (49%) 4) зародыш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2. Найдите верное описание корневого волос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часть корня, защищенная корневым чехлико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молодой кончик корня, состоящий из одинаковых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молодая сильно вытянутая клетка с тонкой оболочкой (3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часть корня, в которой находятся сосуд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о усвоены знания о грибах и бактерия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на вопрос об отличии грибов от бактерий вместо ответа «наличие ядра» экзаменуемые выбрали ответ «являются гетеротрофами», не учитывая, что многие бактерии также гетеротрофные организмы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Выпускники часто не знают организмов, способных к хемосинтез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Для каких организмов характерен хемосинтез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цианобактер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бактериофаг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эукарио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еробактерий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4. Микориза – эт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аразит, живущий за счет других организм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симбиоз мицелия с корнями растений (51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болезнь растения, вызванная грибам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гифы гриба, на которых развивается плодовое тел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 разделу «Животные» основные трудности вызвал материал о беспозвоночных животных. Экзаменуемые затруднились ответить на вопросы о функции ресничек у инфузории, стрекательных клеток у гидры, о развитой нервной системы у свободноживущих организмов по сравнению с паразитическими формам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Какую функцию выполняет клетка, обозначенная вопросительным знаком на схеме строения тела гидры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вызывает паралич или гибель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коснувшихся мелки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животных (4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при делении образует клетки                                                                                            других вид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оспринимает действия химических                                                         раздражителе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ринимает возбуждение и передает                                                                         его другим клетка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2953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Что происходит в пищеварительных вакуолях простейших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неорганические вещества растворяются и выводятся наружу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органические вещества превращаются в воду и углекислый газ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синтезируются органические веще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ложные органические вещества расщепляются до мономеров (39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ые знания о функциях органоидов клетки приводят к низки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результатам. 25% учащихся выбрали ответ 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У свободноживущего плоского червя белой планарии, в отличие от печеночного сосальщика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тело имеет двустороннюю симметр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жизненный цикл происходит со сменой хозяе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имеется выделительная систе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нервная система и органы чувств лучше развиты (4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8. Обыкновенный дельфин, погружаясь в морские глубины, расходует кислород, который содержится в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ких (54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полостях тел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воздушных мешк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жабр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9. У млекопитающих, по сравнению с пресмыкающимися, в процессе эволюции в дыхательной системе появилис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очные пузырьки в легких (4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трахеи и бронх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равое и левое легк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ноздри и носовые полост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Наибольшие трудност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участников вызвали вопросы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по метаболизму в клетках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различным типам деления клетки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соответствия триплета на ДНК и антикодона на т-РНК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не знают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0. Промежуточными хозяевами паразитических червей называют те организмы, в которых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зрослые особи живут, но не размножаютс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виваются личинки паразита (46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аразиты откладывают яйц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множаются взрослые особи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1. Все многоклеточные животные имеют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кровеносную систему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ифференцированные клетки (44%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лойное тело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тороннюю симметрию тела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2. Какой буквой на рисунке обозначена зона корня,                                          состоящая из образовательной ткани?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Б (24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Г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599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поставить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Определ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относ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В4. Установите соответствие между особенностью размножения и отделом растений, для которого она характерна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. (25%)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СОБЕННОСТЬ РАЗМНОЖЕНИ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ТДЕЛ РАСТЕНИЙ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преобладает гаметофит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)  Моховидные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доминирует бесполое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 Папоротниковидные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поколение растений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Образование спор происходит в коробочке (спорогоне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офит не способен к образованию органических веществ из неорганических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аметофит представлен заростком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Е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а прорастает в предросток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8080" y="1341360"/>
            <a:ext cx="88455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Установите соответствие между признаком животного и классом, для которого он характерен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ЗНАК ЖИВОТНОГО                                       КЛАС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наличие головогруди и брюшка                       1) Паукообразные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одна пара усиков                                               2) Насекомы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четыре пары ходильных ног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глаза простые или отсутствую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дыхание только трахейно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11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Выпускники не смогли найти отличительные признаки насекомых и паукообразны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Растение кукуруза имеет два типа соцветий: початок и метёлку. Почему плоды образуются только в початке?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0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9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клещи, попавшие на кожу человека, присасываются к ней и со слюной вносят в неё возбудителей энцефали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Примеры заданий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1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, вызвавших затрудне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1. Ветроопыляемые деревья и кустарники чаще зацветают до распускания листьев, и в их тычинках, как правило, образуется гораздо больше пыльцы, чем у насекомоопыляемых. Объясните, с чем это связано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2. Почему малярия распространена в заболоченных районах? Кто является возбудителем этого заболевания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Многие ответы оказались правильными, но неполным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 при ответе на задание 1 экзаменуемые указали, что большое количество пыльцы обеспечивает вероятность опыления и оплодотворения. Однако объяснения причины зацветания ветроопыляемых растений до распускания листьев дали только 12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ответе на задание 2 экзаменуемые правильно указали, что переносчиком малярии являются малярийные комары, однако не указали, что личинки комара развиваются в воде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ыпускники плохо справляются с заданиями линии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3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– высокого уровн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сложност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 3. В чем состоит связь дыхания и фотосинтеза у растений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За это задание 1 балл получили 31%; 2 балла – 6%; 3 балла – только 1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кзаменуемы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ответе требовалось раскрыть следующие позиции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какие вещества выделяются и поглощаются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ак происходит преобразование солнечной энергии 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нергии АТФ;                                                                                                                             3) что происходит с органическими веществами в этих процессах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аще всего в ответе участники указывали только на поглощение углекислого газа и выделение кислорода при фотосинтезе, и на поглощение кислорода и выделение углекислого газа при дыхании. Остальные позиции в ответах не были раскрыты, что привело к таким низким результата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000" y="1483920"/>
            <a:ext cx="8783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меры заданий разных уровней сложности, вызвавших наибольшие затруднени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ой буквой обозначен на рисунке двигательный нейрон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А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Б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Г (48%)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. В организме человека облегчает расщепление жиров, усиливает перистальтику кишечник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джелудочный с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соляная кислот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инсули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желчь (37%)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33075" t="22153" r="39769" b="59116"/>
          <a:stretch/>
        </p:blipFill>
        <p:spPr>
          <a:xfrm>
            <a:off x="4211640" y="2708280"/>
            <a:ext cx="3672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17. В клетки тела человека питательные вещества поступают из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имф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леток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тканевой жидкости (19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венозной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Крупные лимфатические сосуды впадают в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рупные артери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ердце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ёгочные вен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полые вены ( 26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Пассивный искусственный иммунитет у человека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формируется после перенесённого заболевания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имеет кратковременное действие (24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образуется после введения антибиотиков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охраняется в течение всей жизни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А34. При выработке условного рефлекса условный раздражитель должен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следовать сразу после безусловного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редшествовать безусловному (26%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остепенно ослабляться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быть сильнее безусловного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(19,4%)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ЦЕСС ПИЩЕВАРЕНИЯ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РГА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А) Происходит окончательное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 желудок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расщепление жиров                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 тонк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Б) Начинается переваривание белков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 толст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) Происходит расщепление клетча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этом блоке затруднения у выпускников вызвали вопросы о строении и функциях органических компонентов и органоидов клетки, об энергетическом обмене веществ, о фотосинтезе, биосинтезе белка, репликации ДНК, различных типах деления клетки.</a:t>
            </a: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Одна из функций клеточного центра</a:t>
            </a:r>
            <a:r>
              <a:rPr b="0" i="1" lang="ru-RU" sz="1700" spc="-1" strike="noStrike">
                <a:solidFill>
                  <a:srgbClr val="292929"/>
                </a:solidFill>
                <a:latin typeface="Arial"/>
              </a:rPr>
              <a:t> –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управление биосинтезом белка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формирование ядерной оболочки 3) образование веретена деления (53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перемещение веществ в клетке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2. Вторичная структура белка поддерживается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ковалентными связ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электростатически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водородными связями (54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гидрофобны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3. Сигнальную, двигательную, транспортную и защитную функции в клетке выполняю</a:t>
            </a:r>
            <a:r>
              <a:rPr b="0" lang="ru-RU" sz="1700" spc="-1" strike="noStrike">
                <a:solidFill>
                  <a:srgbClr val="ff6600"/>
                </a:solidFill>
                <a:latin typeface="Arial"/>
              </a:rPr>
              <a:t>т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белки (52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углево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липи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ДНК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728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85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2. На рисунке представлены слои кожи человека, обозначенные буквами А и В. Назовите их. Какие функции они выполняют?</a:t>
            </a:r>
            <a:r>
              <a:rPr b="1" i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      А – эпидермис;                                                       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подкожная жировая клетчатка                                                                                                                                                   препятствует  охлаждению тела,                                                                                                                                         является энергетическим                                                                                                                                                              резервом, играет роль амортизатора                                                                                                                                                           при ушибах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-316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Наиболее низкие результаты (18–24%) получены на отдельные задания базового уровня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- распознавание по рисунку нервной и эпителиальной ткани,                                           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-31644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2. Приспособленность организмов к среде обитания формируется в результате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модификационной изменчивости (49%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тремления особей к совершенствованию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менения методов селекции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я особей с полезными изменениями (21%)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31%)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оявление в потомстве раз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озникновение популяции тём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3164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должны продемонстрировать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Отдельные трудности возникл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1578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товой опад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ёж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ица?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узнечи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майский жу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гриб-трутовик (3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дождевой червь (46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сезо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нтропоге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иотических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биотических (39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пуляционным волнам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онвергенции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изнаков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В заданиях части С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участники не смогли обосновать:                                                                                      - 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                                -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На повышенном уровне в части 1 на низком уровне выполнены следующие зада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. В процессе обмена веществ в клетке энергия АТФ может использовать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ля выделения углекислого газа из кле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на поступление веществ в клетку через плазматическую мембрану (1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при расщеплении биополимер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для образования воды на кислородном этапе энергетического обмен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Четвертичная структура молекулы гемоглобина представляет собо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глобулу из одной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двойную полипептидную спирал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есколько соединенных полипептидных цепей (4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оследовательность аминокислот в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Какой способ питания характерен для молочнокислых бактерий?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гетеротрофный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ем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вт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фототрофны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Синтез ДНК в клетке, кроме ядра, происходит в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ибосомах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итохондриях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ппарате Гольдж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В части 2 (В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слабо сформированными оказались умения сравнивать и соотносить:                                                 - клетки прокариот и эукариот;                                                        - соматические и половые клетки;                                                                   - процессы, протекающие в интерфазе, митозе и мейозе, при фотосинтезе и энергетическом обмене.                                         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Вызвали сущест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790640"/>
            <a:ext cx="85201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части 2 (В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к числу трудных следует отнести следующие задани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Какие особенности строения и свойств воды определяют ее функции в клетке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пособность образовывать водород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наличие в молекулах макроэргических связе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олярность молекул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высокая теплоемкост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5) способность образовывать ион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6) способность выделять энергию при расщеплени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,3,4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ве функции воды в клетке учащиеся определяют легко (48%), а три функции отмечают только 30% участник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0:22:35Z</dcterms:created>
  <dc:creator>nemceva</dc:creator>
  <dc:description/>
  <dc:language>en-US</dc:language>
  <cp:lastModifiedBy>nemceva</cp:lastModifiedBy>
  <dcterms:modified xsi:type="dcterms:W3CDTF">2014-09-18T12:46:28Z</dcterms:modified>
  <cp:revision>16</cp:revision>
  <dc:subject/>
  <dc:title>Уровни организации живых систем</dc:title>
</cp:coreProperties>
</file>