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294813" cy="1173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B30-1AA1-4384-8336-3EF7151E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E17-3A12-40B3-B24C-ADAE512E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57C-CAB3-4CE9-B297-BFD47452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67A-24F3-40C1-B119-23E9EDEF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590A-CB53-4BC8-ADB0-C0602C4A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DF65-D561-4536-85E5-757B195E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E27-7849-42ED-9323-643943D7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017-4167-49C3-A329-1BDA8F9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9520-879E-495C-BE09-29AB9E6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1212-539B-46AA-8086-8883CB13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4752-C57A-48BA-8169-75CC76D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F38-3C87-442A-89D0-A1EA9690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3E45-7220-4795-9B23-5C9D83D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2DB-58D7-4EA7-8D64-9DD4C59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1F8-CA25-4B98-A5F6-2E90A03C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EC36-71B3-4114-A3CB-4A59A841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54A5-7E03-44A9-82AB-71C380C9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7E-AAEB-41E6-AA3B-BBA7DF67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591-ED15-4B82-A109-EDC3BDF5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B7B-C5AE-4550-91D2-55920DB5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18D-103D-456D-950F-5C0B961D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F92-54C2-4457-912F-40A80D2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B82-8D3A-4E5C-99BB-17EA6AF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CF3-CF1B-4371-8183-98A1643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5087-2F17-4C77-872E-5687DF07849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5B89-4AF5-4104-9ABF-BF820DF19B0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Сравнительный анализ результатов ЕГЭ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по биологии за 20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1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2-2014 гг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.преподаватель кафедры ЕМ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У ЯО ИР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цева Т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1. Биология – наука о живой природе </a:t>
            </a:r>
            <a:r>
              <a:rPr b="1" i="1" lang="en-US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числу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ее слож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звали уровень, на котором происходит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2. Клетка как биологическая систем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ибольшие тру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участников вызвали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 метаболизму в клетка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различным типам деления клет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тветствия триплета на ДНК и антикодона на т-РН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ыпускники не зн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5. Какой способ питания характерен для молочнокислых бактери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теротрофный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трофны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27. Синтез ДНК в клетке, кроме ядра, происходит 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сом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тохондриях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арате Гольдж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 части 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лабо сформированными оказались умения сравнивать и соотносить: клетки прокариот и эукариот; соматические и половые клетки; процессы, протекающие в интерфазе, митозе и мейозе, при фотосинтезе и энергетическом обмене. Вызвали сущест-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особенностью процесса и фазой мейоза, для которой она характерна. (18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ФАЗА МЕЙОЗА</a:t>
            </a:r>
            <a:r>
              <a:rPr b="0" i="1" lang="ru-RU" sz="1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анафаза 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к разным полюсам клет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афаза 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ядер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телофаза I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признаком и видом гаметогенеза, для которого этот признак характерен. (27%)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ПРИЗНАК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ВИД ГАМЕТОГЕНЕЗА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ов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 спермат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образуются направительные тельц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большое количество питательных вещест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части 3 блока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«Клетка как биологическая система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линии С5 предлагалось два типа задач по цитологии: 1) на применение знаний о генетическом коде; 2) на определение числа хромосом и ДНК в разных фазах митоза и мейоза, в половых и соматических клетках разных организм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римеры трудных заданий С5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</a:t>
            </a:r>
            <a:r>
              <a:rPr b="0" i="1" lang="ru-RU" sz="1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хромосомный набор споры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споры образуются из диплоидной зиготы путём мейоз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гамет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гаметы образуются из клетки взрослого организма (гаметофита) путём мито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клеток и в результате какого деления образуются эти клетки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 набор хромосом вегетативной и генеративной клеток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спермиев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спермии образуются из генеративной клетки путём митоз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 целом по данному блоку к числу слабо сформированных у выпускников знаний и умений можно отнести следующие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знание циклов развития растений разных отделов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</a:t>
            </a: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удности вызвали лишь отдельные зада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- способ питания молочнокислых бактер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адиционно плохо участники отвеч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ызвали 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отдельные задания по эмбриогенез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, имеющих низкие результаты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6. В результате двойного оплодотворения у цветковых растений образуютс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еративные поч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ядоли (одна или две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7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тип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ификаци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фонд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нотипом (40%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4000" y="472428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9. Фенотипические различия между однояйцевыми близнецами обусловлены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заимодействием аллельных ген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ными генотипами организм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цеплением генов                                                                                                    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33%)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ХАРАКТЕРИСТИКА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МЕТОД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следуется родословная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цитогенети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мь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является сцепленность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генеалог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знака с пол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станавливается доминантный призна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ределяется наличие геномных мутаци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00- бальников – нет по Ярославской области 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1344600"/>
                <a:gridCol w="3278160"/>
                <a:gridCol w="36068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Я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</a:t>
                      </a: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9,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минимальную границу (36 баллов)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3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заданиях линии С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лагались генетические задачи:              - на дигибридное скрещивание,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, 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а 4 «Система и</a:t>
            </a: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многообразие органического мира»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-ставлен во всех учебника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Промежуточными хозяевами паразитических червей называют те организмы, в которы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рослые особи живут, но не размножаютс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виваются личинки паразита (4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азиты откладывают яйц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множаются взрослые особи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Все многоклеточные животные име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овеносную систему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фференцированные клетки (4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лойное тело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тороннюю симметрию тел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2. Какой буквой на рисунке обозначена зона корня,                                          состоящая из образовательной ткани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постави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относ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В4. Установите соответствие между особенностью размножения и отделом растений, для которого она характерна. (25%)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СОБЕННОСТЬ РАЗМНОЖЕНИЯ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ТДЕЛ РАСТЕНИ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преобладает гаметофит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)  Моховид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доминирует бесполое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)  Папоротниковидны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коление растен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ование спор происходит в коробочке (спорогон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офит не способен к образованию органических веществ из неорганически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аметофит представлен заростк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а прорастает в предросто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Растение кукуруза имеет два типа соцветий: початок и метёлку. Почему плоды образуются только в початке? (20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 (29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лещи, попавшие на кожу человека, присасываются к ней и со слюной вносят в неё возбудителей энцефали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ьные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задания С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и от 2% до 9% участников. Например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бактериофаг по рисун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54% экзаменуемых, но сумели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исать особен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олько 5%.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по рисунку цветочную поч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61%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назвали части поч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3%, 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тветили на вопро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акая ткань обеспечивает рост и развитее почки, только 6% экзаменуем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ыполнении заданий линии С3 вызвали затруднения задания, где требовалось раскрыть особенности строения земноводных в связи с выходом на сушу, скелета птиц в связи с полетом, признаки членистоногих, грызунов, обеспечившие их широкое распространение на земле.                                                      Максимальное число баллов на подобные задания получили в среднем только 5% участ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Анализ полученных результатов позволяет сделать вывод о слабо сформированных умениях сравнивать разные отделы растений и типы животных, выявлять их ароморфные признаки, определять по рисунку ткани и органы растений, раскрывать их функц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ее низкие результаты (18–24%) получены на отдельные задания базов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- распознавание по рисунку нервной и эпителиальной ткани,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7. В клетки тела человека питательные вещества поступают из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мф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леток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каневой жидкости (19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нозной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Крупные лимфатические сосуды впадают 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рупные артер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ёгочные вен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лые вены ( 2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Пассивный искусственный иммунитет у человек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ормируется после перенесённого заболева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меет кратковременное действие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разуется после введения антибиотик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охраняется в течение всей жизн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34. При выработке условного рефлекса условный раздражитель должен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ледовать сразу после безусловног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шествовать безусловному (26%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тепенно ослаблять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ыть сильнее безусловно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 в части 2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Выпускники затруднились соотнести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- процессы пищеварения, протекающие в желудке, тонком и толстом кишечнике, - состав крови в сосудах кровеносной системы, функции разных типов нейронов, железы внутренней и внешней секре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зки показате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полнения задания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а установление последовательности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беспечивающих дыхательные движения у человека, движение крови по системе кровообра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руктура экзаменационной работ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кзаменационной работе представлены задания разного типа:           с выбором одного или нескольких ответов, задания с кратким ответом на установление соответствия и последовательности биологических объектов, процессов, явлений, а также задания с развернутым отве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По уровню сложности задания распределяю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. Задания базового уровня с выбором одного верного ответа (А1–А2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. Задания повышенного уров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 выбором одного (А27–А36) или нескольких (В1–В3) верных отв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а установление соответствия объектов, процессов, явлений (В4–В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на определение последовательности биологических процессов и явлений (В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с развернутым ответом (на два элемента) практико-ориентированного характера (С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I. Задания высокого уровня с развернутым ответом (на 3 элемента и более) (С2–С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19,4%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ПРОЦЕСС ПИЩЕВАРЕНИЯ 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                              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ОРГАН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Происходит окончательное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щепление жир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Начинается переваривание белков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 тонк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Происходит расщепление клетчатки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 толст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 заданий части 3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затруднились установить по рисунку строение кожи, описать функции эпидермиса и подкожной клетчатки, строение почки и функции ее ча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задания, в которых требовалос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бъяснить особенности дыхательных движений у человека при спокойном вдохе и выдохе,                           - транспорта газов кровью,                                                                                       - регуляции кровяного давления в процессе работы и в спокойном состоянии;                                                                             - установить отделы нервной системы, участвующие в этом процессе,                                                                                      - причины введения инсулина человеку только в виде инъе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2. На рисунке представлены слои кожи человека, обозначенные буквами А и В. Назовите их. Какие функции они выполня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 А – эпидермис;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подкожная жировая клетчатка                                                                                                                  препятствует  охлаждению тела,                                                                                                        является энергетическим                                                                                                      резервом, играет роль амортизатора                                                                                          при ушиба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2. Приспособленность организмов к среде обитания формируется в результат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ификационной изменчивости (49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ления особей к совершенствован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я методов селек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я особей с полезными изменениями (21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1%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в потомстве раз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никновение популяции тём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 в части 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линии С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ущественные затруднения вызвали два похожих задания разных вариантов.                                                                      По изображению пород голубей и разновидностей капусты требовалось определить эволюционные процессы и вид отбора, обеспечившие выведение этих разновидностей, и установить, изменения каких органов были взяты за основу. Только 3% экзаменуемых правильно ответили на эти задания и получили максимальный бал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линии С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жно выделить вопросы, на которые следует обратить внимание при подготовке к ЕГЭ:                                                                                                            - причины вымирания вида при снижении его численности, сокращении ареала, снижении адаптационных возможностей организма;                                                  - эволюционные доказательства принадлежности человека к типу Хордовы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              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пускники должны продемонстр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дельные трудности возникл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товой опад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1" i="1" lang="ru-RU" sz="1400" spc="-1" strike="noStrike">
                <a:solidFill>
                  <a:srgbClr val="990000"/>
                </a:solidFill>
                <a:latin typeface="Verdana"/>
              </a:rPr>
              <a:t>…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ёж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ица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нечи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йский жу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иб-трутовик (3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ждевой червь (46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зо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тропог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тических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биотических (39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пуляционным волнам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вергенц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наков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В заданиях части С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участники не смогли обосновать:                                                  -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уемые изменения КИ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ены задания А и В уров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ено число заданий с выбором одного верного ответа с 36 до 2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1–25 записываются в виде одной цифры, которая соответствует номеру правильного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о число заданий с множественным выбором до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соответствие до 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строение последовательности -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26–33 записываются в виде последовательност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делы курса биолог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проверки на едином экзамене по биологии составляют знания и умения по всем разделам школьного курса биологии с 6 по 11 класс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ая биология −70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и его здоровье − 1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ения, Животные, Бактерии, Грибы, Лишайники −15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зменения в содержании и структуре экзаменационной работы в 2015 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ть число заданий с развернутым ответом, выделив обязательно в каждом варианте линии зада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нтролирующих умения работать с изображением биологических объектов, схемами, диаграммами,                                                                                    - на анализ биологической информации, нахождение ошибок и их исправл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ет уменьшено число заданий с выбором одного верного ответа с 36 до 2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е число заданий в экзаменационной работе в связи с этим сократится с 50 до 4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Рекомендации учителям биоло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достижения положительных результатов на экзамене следует в учебном процессе обратить внимание на повторение и закрепление материала, который традиционно вызывает затруднения у выпуск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учителю при подготовке учащихся к ЕГЭ окажут статьи в журнале «Биология в школе» (2009-2010. № 1, 2011-2014. № 10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ическую помощь учителям и обучающимся при подготовке к ЕГЭ могут оказать материалы с сайта ФИПИ: www.fipi.ru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ы, определяющие структуру и содержание КИМ ЕГЭ 2015 г. (кодификатор элементов содержания и требований к уровню подготовки выпускников, спецификация и демонстрационный вариант КИМ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ый банк заданий ЕГЭ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о-методические пособия под грифом ФИП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тические отчеты о результатах экзамена, методические рекомендации и методические письма прошлых ле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92200" y="1341360"/>
            <a:ext cx="8551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го овладения обучающимися содержанием стандарта (базовый уровен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учащихся (имеющих оценк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4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менению знаний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вариативны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заданий на разрушение стереотип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различным методам решений одних и тех  же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сти овладения  учебным матери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вторения (непрерывность, обобщение, системность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aramond"/>
              </a:rPr>
              <a:t>Подготовка обучающихс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вый блок «Биология как наука. Методы научного познания»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одержи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 о достижениях биологии, методах исследования, роли ученых в позн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ружающего мира, об общих признаках биологических систем, основных уровн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и живой природы, о роли биологических теорий, идей, гипотез 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и современной естественнонаучной картины ми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торой блок «Клетка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ит задания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щие знания о строении и функциях клетки, ее химической организации, гене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ом коде, метаболизме, многообразии клеток, их делении; умения устанавл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заимосвязь строения и функций органоидов клетки; умения распознавать и сравн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етки разных организмов, процессы, протекающие в н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ретий блок «Организм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ирует осво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ний о вирусах, об организменном уровне организации жизни, присущих е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омерностях, о вредном влиянии мутагенов, алкоголя, наркотиков, никотина 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ий аппарат клетки, защите среды от загрязнения мутагенами, наследственн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езнях человека, об их причинах и профилактике, о селекции организмов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технологии; овладение умениями сравнивать биологические объекты, процесс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ения, применять знания биологической терминологии и символики при решении зада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генети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четвертом блоке «Система и многообразие органического ми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тся знания о многообразии, строении, жизнедеятельности и размнож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 различных царств живой природы; умения сравнивать организм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изовать и определять их принадлежность к определенному систематическо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сону, устанавливать причинно-следственные связи между строением и функци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и систем органов организмов разных царств, взаимосвязи организмов и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ятый блок «Организм человека и его здоровье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являет уровень усво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ы знаний о строении и жизнедеятельности организма человека, лежащих в осно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я гигиенических норм и правил здорового образа жизни, профилак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вм и заболеваний; овладения умениями обосновывать взаимосвязь органов и сист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человека, особенности, обусловленные прямохождением и трудо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ю; делать вывод о роли нейрогуморальной регуляции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изнедеятельности и об особенностях высшей нервной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естой блок «Эволюция живой прир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ены задания, направл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онтроль знаний о виде и его структуре, движущих силах, направлениях и результат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волюции органического мира, этапах антропогенеза, биосоциальной природе челове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ий характеризовать критерии вида, причины и этапы эволюции, объяснять осно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оморфозы в эволюции растительного и животного мира, устанавливать 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 и приспособленности организмов к среде 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дьмой блок «Экосистемы и присущие им закономерности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я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ния, направленные на проверку знаний об экологических закономерностях, цеп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тания, круговороте веществ в биосфере; умений устанавливать взаим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, человека и окружающей среды, объяснять причины устойчивости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регуляции, саморазвития и смены экосистем, необходимость сохра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, защиты окружающей среды как основы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сфе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Verdana"/>
              </a:rPr>
              <a:t>На базовом уровн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яются наиболее существенные элементы содержания  курса биологии основной и средней (полной) школы, сформированность у школьников научного мировоззрения и биологической компетент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ние биологической терминологией и символи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е основных методов изучения живой природы, наиболее важных признаков биологических объектов, особенностей организма человека, гигиенических норм и правил здорового образа жизни, экологических основ охраны окружающей сре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основных положений биологических теорий, законов, правил, гипотез, закономерностей, сущности биологических процессов и явл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распознавать биологические объекты по их описанию и рисун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ать простейшие биологические задачи, использовать биологические знания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а повышенном уровн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яется овладение учащимися более сложным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образными видами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е сущности биологических процессов, явлений, общебиологических закономер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определять, сравнивать, классифицировать, объяснять биолог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 и процес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устанавливать взаимосвязи организмов, процессов, явлений, выявл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и отличительные признаки, составлять схемы пищевых цепей, применять знания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Задания высокого уровн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усматривают развернутый свободный ответ и направлены на проверку сформированности уме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 оперировать биологическими понятиями, обосновывать и объяснять биологические процессы и явления, грамотно формулировать свой отв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знания в новой ситуации, устанавливать причинно-следственные связи, анализировать, систематизировать и интегрировать знания, обобщать и формулиров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ть биологические задачи, оценивать и прогнозировать биологические процессы, применять теоретические знания на прак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33:09Z</dcterms:created>
  <dc:creator>nemceva</dc:creator>
  <dc:description/>
  <dc:language>en-US</dc:language>
  <cp:lastModifiedBy>Татьяна Васильевна Немцева</cp:lastModifiedBy>
  <dcterms:modified xsi:type="dcterms:W3CDTF">2014-10-27T12:14:00Z</dcterms:modified>
  <cp:revision>45</cp:revision>
  <dc:subject/>
  <dc:title>Сравнительный анализ результатов ЕГЭ за 2009-2010 год</dc:title>
</cp:coreProperties>
</file>