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EB9-0DED-4C4D-8997-FBEF08B1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A72-7B81-4EC4-9D91-B3FCAD24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8FB-D8FE-498D-9D57-2D5BFAF7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475-F38E-4366-AE57-34E49342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D29-0D0A-4BB9-AC35-2A312279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389-5D46-4D84-B023-806C2CF5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B4EE-6235-41E3-A9F2-992FA7C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BC9-E1B6-48AF-A368-661D0E8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B11-F625-4FDE-9345-62DC823F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73D4-0245-4E6A-9F2B-0785EA38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B9C-5399-46FB-9C5D-326F3AD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483-5C9B-4741-A9CD-A94FAC5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F56E-14C1-466B-802D-4EDB18D0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E68C-DFF1-4A5F-BF73-14BDADC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4625-442C-4977-8A12-26C6448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870-32E9-492E-90E3-C9911C3C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EA7-3A30-4271-9509-FC69B450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FBA-C271-475E-A6F0-D5FE0AE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46D-6685-4433-8CF5-789BD81F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963-7221-477A-97DC-1097CCA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7CB-F513-459A-BD88-B5246834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613-5AE4-4A1C-9F02-E97F79A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951-D952-4F49-B94A-67CC6CD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6FD-EC2F-4C75-BDD5-2F12509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611C-404E-427D-9AA3-FD669CD732A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CB49-D87C-4B3A-9117-C36E5030B02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программы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0440" cy="1473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277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нтаж РЭА и прибор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й слож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phone_1120"/>
          <p:cNvPicPr/>
          <p:nvPr/>
        </p:nvPicPr>
        <p:blipFill>
          <a:blip r:embed="rId2"/>
          <a:stretch/>
        </p:blipFill>
        <p:spPr>
          <a:xfrm>
            <a:off x="0" y="364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bekas"/>
          <p:cNvPicPr/>
          <p:nvPr/>
        </p:nvPicPr>
        <p:blipFill>
          <a:blip r:embed="rId3"/>
          <a:stretch/>
        </p:blipFill>
        <p:spPr>
          <a:xfrm>
            <a:off x="313200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duet2"/>
          <p:cNvPicPr/>
          <p:nvPr/>
        </p:nvPicPr>
        <p:blipFill>
          <a:blip r:embed="rId4"/>
          <a:stretch/>
        </p:blipFill>
        <p:spPr>
          <a:xfrm>
            <a:off x="6516720" y="3573360"/>
            <a:ext cx="214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189000"/>
          <a:ext cx="9180360" cy="66546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Выводы элементов обрезать вручную бокорез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таж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и работе с полупроводниковыми приборами пользоваться антиэлектростатическим браслетом для защиты элементов от статического электричества. Сопротивление  между антиэлектростатическим браслетом и корпусом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мегоом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 пайке полупроводниковых приборов использовать паяльник мощностью не более 25 Вт напряжением 36В, заземление жала паяльн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больше или равно 5 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189000"/>
          <a:ext cx="9180360" cy="63817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ри пайке не допускать попадания припоя на корпус ЭРЭ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Наносить флюс, на поверхность подлежащую пайке, без каплеобразования, не допускается затекания флюса в негерметичный подстроечный резисто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разъёмы, колодки, тактовую кнопку. Запрещается использовать активный флюс, паять, избегая излишнего перегре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89000"/>
          <a:ext cx="9180360" cy="57960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мывка и уклад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тереть поверхность платы, деталей, пайки, элементы от загрязнений тампоном из миткаля, смоченным в спирте (спирто –бензиновая смесь 1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Исключить затекание промывочной жидкости во внутрь негерметичных приборов, уз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ные материал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ир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бензиновая смесь 1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Мит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-36360" y="115920"/>
          <a:ext cx="9180360" cy="77119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троль монта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верить качество монтажа на соответствие схемы электрической и перечня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Проверить качество пайки. Пайка монтажных соединений должна быть скелетной, обеспечивать надёжность электрического контакта и необходимою механическую прочность. Поверхность галтелей припоя по всему периметру паяного шва должна быть вогнутой, непрерывной, гладкой, глянцевой без тёмных пятен и посторонних включений. Высота паяных соединений над печатной платой не должна превышать 2 мм. для всех электрорадиоэлемен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115920"/>
          <a:ext cx="9180360" cy="710244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71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зоры между токонесущими элементами и корпусом должны быть не менее 1,0 м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аркировка деталей должна быть чёткой и яс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Пайки должны быть чистыми, ровными без раковин и подтё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Выводы радиоэлементов не должны лежать на острых кромках дет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Детали не должны иметь вмятин, царапин и других поврежд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Не допускается наличие брызг припоя и посторонних предметов на деталях и элементов монт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Щу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 №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Примеры монтажа радиоэлемент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219320" y="2286000"/>
            <a:ext cx="617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838080" y="9907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022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190512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4479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2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62120" y="1143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2860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09680" y="1371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9400" y="3808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0574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лексные работы по теме «Монтаж РЭА и приборов средней сложност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052" descr="Video1"/>
          <p:cNvPicPr/>
          <p:nvPr/>
        </p:nvPicPr>
        <p:blipFill>
          <a:blip r:embed="rId1"/>
          <a:stretch/>
        </p:blipFill>
        <p:spPr>
          <a:xfrm>
            <a:off x="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53" descr="r_002"/>
          <p:cNvPicPr/>
          <p:nvPr/>
        </p:nvPicPr>
        <p:blipFill>
          <a:blip r:embed="rId2"/>
          <a:stretch/>
        </p:blipFill>
        <p:spPr>
          <a:xfrm>
            <a:off x="5076720" y="3860640"/>
            <a:ext cx="3291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533520" y="990720"/>
            <a:ext cx="6324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енсато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314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57200" y="1143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0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, МТ, МЛТ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44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19920" y="1905120"/>
            <a:ext cx="12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3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9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28800" y="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914560" cy="3279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325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84356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Что произойдет если радиоэлементы не правильно установит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660240"/>
            <a:ext cx="5724360" cy="6197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мейте в виду, что на поиск ошибочно установленного элемента потребуется много времени при последующей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наладке электронного усрой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81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13264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авайте повторим требования к пайке. </a:t>
            </a:r>
            <a:br>
              <a:rPr sz="4400"/>
            </a:b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акая должна быть пайка?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955880"/>
            <a:ext cx="9144000" cy="2781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Недопустим перегрев ножек электрорадиоэлементов и контактных площадок печатной пла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2590920" y="4930920"/>
            <a:ext cx="38862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34120"/>
            <a:ext cx="9144000" cy="478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Признаком качественной пайки является равномерно растекшийся припой, который при застывании приобретает гладкую блестящую поверхность без пор и острых выпуклостей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684000"/>
            <a:ext cx="7772400" cy="34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Качество пайки не зависит от количества залитого припоя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658880"/>
            <a:ext cx="90360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знаком плохой пайки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является матовая шероховатая поверхность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47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рещается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 монтаже радиоэлектронной аппаратуры и приборов пользоваться флюсом с содержанием кислоты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45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1.Выполнить монтаж электронного устройства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333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a0000"/>
                </a:solidFill>
                <a:latin typeface="Verdana"/>
              </a:rPr>
              <a:t>Повтори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Если пайка будет некачественной, то какие могут быть последствия?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859320"/>
            <a:ext cx="9034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ьзоваться исправным инструмен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ботать в спец. одеж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верить исправность оборудования,  приборов и соблюдать правила работы  с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0"/>
            <a:ext cx="800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ВЗАИМОКОНТРОЛЯ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л: _____________                                                                      Проверил: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07"/>
          <p:cNvGrpSpPr/>
          <p:nvPr/>
        </p:nvGrpSpPr>
        <p:grpSpPr>
          <a:xfrm>
            <a:off x="685800" y="1066680"/>
            <a:ext cx="7314840" cy="5410440"/>
            <a:chOff x="685800" y="1066680"/>
            <a:chExt cx="7314840" cy="5410440"/>
          </a:xfrm>
        </p:grpSpPr>
        <p:grpSp>
          <p:nvGrpSpPr>
            <p:cNvPr id="276" name="Group 105"/>
            <p:cNvGrpSpPr/>
            <p:nvPr/>
          </p:nvGrpSpPr>
          <p:grpSpPr>
            <a:xfrm>
              <a:off x="691560" y="1069560"/>
              <a:ext cx="7302600" cy="5404680"/>
              <a:chOff x="691560" y="1069560"/>
              <a:chExt cx="7302600" cy="5404680"/>
            </a:xfrm>
          </p:grpSpPr>
          <p:grpSp>
            <p:nvGrpSpPr>
              <p:cNvPr id="277" name="Group 38"/>
              <p:cNvGrpSpPr/>
              <p:nvPr/>
            </p:nvGrpSpPr>
            <p:grpSpPr>
              <a:xfrm>
                <a:off x="691560" y="1069560"/>
                <a:ext cx="649800" cy="429120"/>
                <a:chOff x="691560" y="1069560"/>
                <a:chExt cx="649800" cy="429120"/>
              </a:xfrm>
            </p:grpSpPr>
            <p:sp>
              <p:nvSpPr>
                <p:cNvPr id="278" name="Rectangle 3"/>
                <p:cNvSpPr/>
                <p:nvPr/>
              </p:nvSpPr>
              <p:spPr>
                <a:xfrm>
                  <a:off x="777240" y="1069560"/>
                  <a:ext cx="478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№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37"/>
                <p:cNvSpPr/>
                <p:nvPr/>
              </p:nvSpPr>
              <p:spPr>
                <a:xfrm>
                  <a:off x="691560" y="1069560"/>
                  <a:ext cx="64980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40"/>
              <p:cNvGrpSpPr/>
              <p:nvPr/>
            </p:nvGrpSpPr>
            <p:grpSpPr>
              <a:xfrm>
                <a:off x="1341720" y="1069560"/>
                <a:ext cx="4088520" cy="429120"/>
                <a:chOff x="1341720" y="1069560"/>
                <a:chExt cx="4088520" cy="429120"/>
              </a:xfrm>
            </p:grpSpPr>
            <p:sp>
              <p:nvSpPr>
                <p:cNvPr id="281" name="Rectangle 4"/>
                <p:cNvSpPr/>
                <p:nvPr/>
              </p:nvSpPr>
              <p:spPr>
                <a:xfrm>
                  <a:off x="1427040" y="1069560"/>
                  <a:ext cx="39171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  критериев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39"/>
                <p:cNvSpPr/>
                <p:nvPr/>
              </p:nvSpPr>
              <p:spPr>
                <a:xfrm>
                  <a:off x="1341720" y="1069560"/>
                  <a:ext cx="408852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42"/>
              <p:cNvGrpSpPr/>
              <p:nvPr/>
            </p:nvGrpSpPr>
            <p:grpSpPr>
              <a:xfrm>
                <a:off x="5430600" y="1069560"/>
                <a:ext cx="2563560" cy="429120"/>
                <a:chOff x="5430600" y="1069560"/>
                <a:chExt cx="2563560" cy="42912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5516280" y="1069560"/>
                  <a:ext cx="239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ллы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41"/>
                <p:cNvSpPr/>
                <p:nvPr/>
              </p:nvSpPr>
              <p:spPr>
                <a:xfrm>
                  <a:off x="5430600" y="1069560"/>
                  <a:ext cx="256356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" name="Group 44"/>
              <p:cNvGrpSpPr/>
              <p:nvPr/>
            </p:nvGrpSpPr>
            <p:grpSpPr>
              <a:xfrm>
                <a:off x="691560" y="1498680"/>
                <a:ext cx="649800" cy="526680"/>
                <a:chOff x="691560" y="1498680"/>
                <a:chExt cx="649800" cy="526680"/>
              </a:xfrm>
            </p:grpSpPr>
            <p:sp>
              <p:nvSpPr>
                <p:cNvPr id="287" name="Rectangle 6"/>
                <p:cNvSpPr/>
                <p:nvPr/>
              </p:nvSpPr>
              <p:spPr>
                <a:xfrm>
                  <a:off x="777240" y="14986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691560" y="14986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1341720" y="1498680"/>
                <a:ext cx="4088520" cy="526680"/>
                <a:chOff x="1341720" y="1498680"/>
                <a:chExt cx="4088520" cy="526680"/>
              </a:xfrm>
            </p:grpSpPr>
            <p:sp>
              <p:nvSpPr>
                <p:cNvPr id="290" name="Rectangle 7"/>
                <p:cNvSpPr/>
                <p:nvPr/>
              </p:nvSpPr>
              <p:spPr>
                <a:xfrm>
                  <a:off x="1427040" y="14986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лестящая гладкая поверхность пай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Rectangle 45"/>
                <p:cNvSpPr/>
                <p:nvPr/>
              </p:nvSpPr>
              <p:spPr>
                <a:xfrm>
                  <a:off x="1341720" y="14986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5430600" y="1498680"/>
                <a:ext cx="2563560" cy="526680"/>
                <a:chOff x="5430600" y="1498680"/>
                <a:chExt cx="2563560" cy="526680"/>
              </a:xfrm>
            </p:grpSpPr>
            <p:sp>
              <p:nvSpPr>
                <p:cNvPr id="293" name="Rectangle 8"/>
                <p:cNvSpPr/>
                <p:nvPr/>
              </p:nvSpPr>
              <p:spPr>
                <a:xfrm>
                  <a:off x="5516280" y="14986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Rectangle 47"/>
                <p:cNvSpPr/>
                <p:nvPr/>
              </p:nvSpPr>
              <p:spPr>
                <a:xfrm>
                  <a:off x="5430600" y="14986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5" name="Group 50"/>
              <p:cNvGrpSpPr/>
              <p:nvPr/>
            </p:nvGrpSpPr>
            <p:grpSpPr>
              <a:xfrm>
                <a:off x="691560" y="2025360"/>
                <a:ext cx="649800" cy="526680"/>
                <a:chOff x="691560" y="2025360"/>
                <a:chExt cx="649800" cy="526680"/>
              </a:xfrm>
            </p:grpSpPr>
            <p:sp>
              <p:nvSpPr>
                <p:cNvPr id="296" name="Rectangle 9"/>
                <p:cNvSpPr/>
                <p:nvPr/>
              </p:nvSpPr>
              <p:spPr>
                <a:xfrm>
                  <a:off x="777240" y="20253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Rectangle 49"/>
                <p:cNvSpPr/>
                <p:nvPr/>
              </p:nvSpPr>
              <p:spPr>
                <a:xfrm>
                  <a:off x="691560" y="20253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8" name="Group 52"/>
              <p:cNvGrpSpPr/>
              <p:nvPr/>
            </p:nvGrpSpPr>
            <p:grpSpPr>
              <a:xfrm>
                <a:off x="1341720" y="2025360"/>
                <a:ext cx="4088520" cy="526680"/>
                <a:chOff x="1341720" y="2025360"/>
                <a:chExt cx="4088520" cy="526680"/>
              </a:xfrm>
            </p:grpSpPr>
            <p:sp>
              <p:nvSpPr>
                <p:cNvPr id="299" name="Rectangle 10"/>
                <p:cNvSpPr/>
                <p:nvPr/>
              </p:nvSpPr>
              <p:spPr>
                <a:xfrm>
                  <a:off x="1427040" y="20253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Скелетная» пай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Rectangle 51"/>
                <p:cNvSpPr/>
                <p:nvPr/>
              </p:nvSpPr>
              <p:spPr>
                <a:xfrm>
                  <a:off x="1341720" y="20253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1" name="Group 54"/>
              <p:cNvGrpSpPr/>
              <p:nvPr/>
            </p:nvGrpSpPr>
            <p:grpSpPr>
              <a:xfrm>
                <a:off x="5430600" y="2025360"/>
                <a:ext cx="2563560" cy="526680"/>
                <a:chOff x="5430600" y="2025360"/>
                <a:chExt cx="2563560" cy="526680"/>
              </a:xfrm>
            </p:grpSpPr>
            <p:sp>
              <p:nvSpPr>
                <p:cNvPr id="302" name="Rectangle 11"/>
                <p:cNvSpPr/>
                <p:nvPr/>
              </p:nvSpPr>
              <p:spPr>
                <a:xfrm>
                  <a:off x="5516280" y="20253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5430600" y="20253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4" name="Group 56"/>
              <p:cNvGrpSpPr/>
              <p:nvPr/>
            </p:nvGrpSpPr>
            <p:grpSpPr>
              <a:xfrm>
                <a:off x="691560" y="2552400"/>
                <a:ext cx="649800" cy="526680"/>
                <a:chOff x="691560" y="2552400"/>
                <a:chExt cx="649800" cy="526680"/>
              </a:xfrm>
            </p:grpSpPr>
            <p:sp>
              <p:nvSpPr>
                <p:cNvPr id="305" name="Rectangle 12"/>
                <p:cNvSpPr/>
                <p:nvPr/>
              </p:nvSpPr>
              <p:spPr>
                <a:xfrm>
                  <a:off x="777240" y="255240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Rectangle 55"/>
                <p:cNvSpPr/>
                <p:nvPr/>
              </p:nvSpPr>
              <p:spPr>
                <a:xfrm>
                  <a:off x="691560" y="255240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58"/>
              <p:cNvGrpSpPr/>
              <p:nvPr/>
            </p:nvGrpSpPr>
            <p:grpSpPr>
              <a:xfrm>
                <a:off x="1341720" y="2552400"/>
                <a:ext cx="4088520" cy="526680"/>
                <a:chOff x="1341720" y="2552400"/>
                <a:chExt cx="4088520" cy="526680"/>
              </a:xfrm>
            </p:grpSpPr>
            <p:sp>
              <p:nvSpPr>
                <p:cNvPr id="308" name="Rectangle 13"/>
                <p:cNvSpPr/>
                <p:nvPr/>
              </p:nvSpPr>
              <p:spPr>
                <a:xfrm>
                  <a:off x="1427040" y="255240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авильная формовка и лужение выводов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Rectangle 57"/>
                <p:cNvSpPr/>
                <p:nvPr/>
              </p:nvSpPr>
              <p:spPr>
                <a:xfrm>
                  <a:off x="1341720" y="255240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0" name="Group 60"/>
              <p:cNvGrpSpPr/>
              <p:nvPr/>
            </p:nvGrpSpPr>
            <p:grpSpPr>
              <a:xfrm>
                <a:off x="5430600" y="2552400"/>
                <a:ext cx="2563560" cy="526680"/>
                <a:chOff x="5430600" y="2552400"/>
                <a:chExt cx="2563560" cy="526680"/>
              </a:xfrm>
            </p:grpSpPr>
            <p:sp>
              <p:nvSpPr>
                <p:cNvPr id="311" name="Rectangle 14"/>
                <p:cNvSpPr/>
                <p:nvPr/>
              </p:nvSpPr>
              <p:spPr>
                <a:xfrm>
                  <a:off x="5516280" y="255240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59"/>
                <p:cNvSpPr/>
                <p:nvPr/>
              </p:nvSpPr>
              <p:spPr>
                <a:xfrm>
                  <a:off x="5430600" y="255240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3" name="Group 62"/>
              <p:cNvGrpSpPr/>
              <p:nvPr/>
            </p:nvGrpSpPr>
            <p:grpSpPr>
              <a:xfrm>
                <a:off x="691560" y="3079080"/>
                <a:ext cx="649800" cy="526680"/>
                <a:chOff x="691560" y="3079080"/>
                <a:chExt cx="649800" cy="526680"/>
              </a:xfrm>
            </p:grpSpPr>
            <p:sp>
              <p:nvSpPr>
                <p:cNvPr id="314" name="Rectangle 15"/>
                <p:cNvSpPr/>
                <p:nvPr/>
              </p:nvSpPr>
              <p:spPr>
                <a:xfrm>
                  <a:off x="777240" y="30790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61"/>
                <p:cNvSpPr/>
                <p:nvPr/>
              </p:nvSpPr>
              <p:spPr>
                <a:xfrm>
                  <a:off x="691560" y="30790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6" name="Group 64"/>
              <p:cNvGrpSpPr/>
              <p:nvPr/>
            </p:nvGrpSpPr>
            <p:grpSpPr>
              <a:xfrm>
                <a:off x="1341720" y="3079080"/>
                <a:ext cx="4088520" cy="526680"/>
                <a:chOff x="1341720" y="3079080"/>
                <a:chExt cx="4088520" cy="526680"/>
              </a:xfrm>
            </p:grpSpPr>
            <p:sp>
              <p:nvSpPr>
                <p:cNvPr id="317" name="Rectangle 16"/>
                <p:cNvSpPr/>
                <p:nvPr/>
              </p:nvSpPr>
              <p:spPr>
                <a:xfrm>
                  <a:off x="1427040" y="30790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Состояние печатных проводников (отслоение дорожек)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Rectangle 63"/>
                <p:cNvSpPr/>
                <p:nvPr/>
              </p:nvSpPr>
              <p:spPr>
                <a:xfrm>
                  <a:off x="1341720" y="30790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9" name="Group 66"/>
              <p:cNvGrpSpPr/>
              <p:nvPr/>
            </p:nvGrpSpPr>
            <p:grpSpPr>
              <a:xfrm>
                <a:off x="5430600" y="3079080"/>
                <a:ext cx="2563560" cy="526680"/>
                <a:chOff x="5430600" y="3079080"/>
                <a:chExt cx="2563560" cy="526680"/>
              </a:xfrm>
            </p:grpSpPr>
            <p:sp>
              <p:nvSpPr>
                <p:cNvPr id="320" name="Rectangle 17"/>
                <p:cNvSpPr/>
                <p:nvPr/>
              </p:nvSpPr>
              <p:spPr>
                <a:xfrm>
                  <a:off x="5516280" y="30790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Rectangle 65"/>
                <p:cNvSpPr/>
                <p:nvPr/>
              </p:nvSpPr>
              <p:spPr>
                <a:xfrm>
                  <a:off x="5430600" y="30790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68"/>
              <p:cNvGrpSpPr/>
              <p:nvPr/>
            </p:nvGrpSpPr>
            <p:grpSpPr>
              <a:xfrm>
                <a:off x="691560" y="3605760"/>
                <a:ext cx="649800" cy="526680"/>
                <a:chOff x="691560" y="3605760"/>
                <a:chExt cx="649800" cy="526680"/>
              </a:xfrm>
            </p:grpSpPr>
            <p:sp>
              <p:nvSpPr>
                <p:cNvPr id="323" name="Rectangle 18"/>
                <p:cNvSpPr/>
                <p:nvPr/>
              </p:nvSpPr>
              <p:spPr>
                <a:xfrm>
                  <a:off x="777240" y="36057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Rectangle 67"/>
                <p:cNvSpPr/>
                <p:nvPr/>
              </p:nvSpPr>
              <p:spPr>
                <a:xfrm>
                  <a:off x="691560" y="36057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70"/>
              <p:cNvGrpSpPr/>
              <p:nvPr/>
            </p:nvGrpSpPr>
            <p:grpSpPr>
              <a:xfrm>
                <a:off x="1341720" y="3605760"/>
                <a:ext cx="4088520" cy="526680"/>
                <a:chOff x="1341720" y="3605760"/>
                <a:chExt cx="4088520" cy="526680"/>
              </a:xfrm>
            </p:grpSpPr>
            <p:sp>
              <p:nvSpPr>
                <p:cNvPr id="326" name="Rectangle 19"/>
                <p:cNvSpPr/>
                <p:nvPr/>
              </p:nvSpPr>
              <p:spPr>
                <a:xfrm>
                  <a:off x="1427040" y="36057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Укладка монтаж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Промывка па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верка соответствия схеме монтаж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Rectangle 69"/>
                <p:cNvSpPr/>
                <p:nvPr/>
              </p:nvSpPr>
              <p:spPr>
                <a:xfrm>
                  <a:off x="1341720" y="36057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8" name="Group 72"/>
              <p:cNvGrpSpPr/>
              <p:nvPr/>
            </p:nvGrpSpPr>
            <p:grpSpPr>
              <a:xfrm>
                <a:off x="5430600" y="3605760"/>
                <a:ext cx="2563560" cy="526680"/>
                <a:chOff x="5430600" y="3605760"/>
                <a:chExt cx="2563560" cy="526680"/>
              </a:xfrm>
            </p:grpSpPr>
            <p:sp>
              <p:nvSpPr>
                <p:cNvPr id="329" name="Rectangle 20"/>
                <p:cNvSpPr/>
                <p:nvPr/>
              </p:nvSpPr>
              <p:spPr>
                <a:xfrm>
                  <a:off x="5516280" y="36057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71"/>
                <p:cNvSpPr/>
                <p:nvPr/>
              </p:nvSpPr>
              <p:spPr>
                <a:xfrm>
                  <a:off x="5430600" y="36057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1" name="Group 74"/>
              <p:cNvGrpSpPr/>
              <p:nvPr/>
            </p:nvGrpSpPr>
            <p:grpSpPr>
              <a:xfrm>
                <a:off x="691560" y="4132440"/>
                <a:ext cx="649800" cy="526680"/>
                <a:chOff x="691560" y="4132440"/>
                <a:chExt cx="649800" cy="526680"/>
              </a:xfrm>
            </p:grpSpPr>
            <p:sp>
              <p:nvSpPr>
                <p:cNvPr id="332" name="Rectangle 21"/>
                <p:cNvSpPr/>
                <p:nvPr/>
              </p:nvSpPr>
              <p:spPr>
                <a:xfrm>
                  <a:off x="777240" y="413244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73"/>
                <p:cNvSpPr/>
                <p:nvPr/>
              </p:nvSpPr>
              <p:spPr>
                <a:xfrm>
                  <a:off x="691560" y="413244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1341720" y="4132440"/>
                <a:ext cx="4088520" cy="526680"/>
                <a:chOff x="1341720" y="4132440"/>
                <a:chExt cx="4088520" cy="52668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1427040" y="413244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75"/>
                <p:cNvSpPr/>
                <p:nvPr/>
              </p:nvSpPr>
              <p:spPr>
                <a:xfrm>
                  <a:off x="1341720" y="413244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7" name="Group 78"/>
              <p:cNvGrpSpPr/>
              <p:nvPr/>
            </p:nvGrpSpPr>
            <p:grpSpPr>
              <a:xfrm>
                <a:off x="5430600" y="4132440"/>
                <a:ext cx="2563560" cy="526680"/>
                <a:chOff x="5430600" y="4132440"/>
                <a:chExt cx="2563560" cy="526680"/>
              </a:xfrm>
            </p:grpSpPr>
            <p:sp>
              <p:nvSpPr>
                <p:cNvPr id="338" name="Rectangle 23"/>
                <p:cNvSpPr/>
                <p:nvPr/>
              </p:nvSpPr>
              <p:spPr>
                <a:xfrm>
                  <a:off x="5516280" y="413244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Rectangle 77"/>
                <p:cNvSpPr/>
                <p:nvPr/>
              </p:nvSpPr>
              <p:spPr>
                <a:xfrm>
                  <a:off x="5430600" y="413244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0" name="Group 80"/>
              <p:cNvGrpSpPr/>
              <p:nvPr/>
            </p:nvGrpSpPr>
            <p:grpSpPr>
              <a:xfrm>
                <a:off x="691560" y="4659480"/>
                <a:ext cx="649800" cy="526680"/>
                <a:chOff x="691560" y="4659480"/>
                <a:chExt cx="649800" cy="526680"/>
              </a:xfrm>
            </p:grpSpPr>
            <p:sp>
              <p:nvSpPr>
                <p:cNvPr id="341" name="Rectangle 24"/>
                <p:cNvSpPr/>
                <p:nvPr/>
              </p:nvSpPr>
              <p:spPr>
                <a:xfrm>
                  <a:off x="777240" y="46594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Rectangle 79"/>
                <p:cNvSpPr/>
                <p:nvPr/>
              </p:nvSpPr>
              <p:spPr>
                <a:xfrm>
                  <a:off x="691560" y="46594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Group 82"/>
              <p:cNvGrpSpPr/>
              <p:nvPr/>
            </p:nvGrpSpPr>
            <p:grpSpPr>
              <a:xfrm>
                <a:off x="1341720" y="4659480"/>
                <a:ext cx="4088520" cy="526680"/>
                <a:chOff x="1341720" y="4659480"/>
                <a:chExt cx="4088520" cy="526680"/>
              </a:xfrm>
            </p:grpSpPr>
            <p:sp>
              <p:nvSpPr>
                <p:cNvPr id="344" name="Rectangle 25"/>
                <p:cNvSpPr/>
                <p:nvPr/>
              </p:nvSpPr>
              <p:spPr>
                <a:xfrm>
                  <a:off x="1427040" y="46594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>
                  <a:off x="1341720" y="46594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84"/>
              <p:cNvGrpSpPr/>
              <p:nvPr/>
            </p:nvGrpSpPr>
            <p:grpSpPr>
              <a:xfrm>
                <a:off x="5430600" y="4659480"/>
                <a:ext cx="2563560" cy="526680"/>
                <a:chOff x="5430600" y="4659480"/>
                <a:chExt cx="2563560" cy="526680"/>
              </a:xfrm>
            </p:grpSpPr>
            <p:sp>
              <p:nvSpPr>
                <p:cNvPr id="347" name="Rectangle 26"/>
                <p:cNvSpPr/>
                <p:nvPr/>
              </p:nvSpPr>
              <p:spPr>
                <a:xfrm>
                  <a:off x="5516280" y="46594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Rectangle 83"/>
                <p:cNvSpPr/>
                <p:nvPr/>
              </p:nvSpPr>
              <p:spPr>
                <a:xfrm>
                  <a:off x="5430600" y="46594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Group 86"/>
              <p:cNvGrpSpPr/>
              <p:nvPr/>
            </p:nvGrpSpPr>
            <p:grpSpPr>
              <a:xfrm>
                <a:off x="691560" y="5186160"/>
                <a:ext cx="637560" cy="526680"/>
                <a:chOff x="691560" y="5186160"/>
                <a:chExt cx="637560" cy="526680"/>
              </a:xfrm>
            </p:grpSpPr>
            <p:sp>
              <p:nvSpPr>
                <p:cNvPr id="350" name="Rectangle 27"/>
                <p:cNvSpPr/>
                <p:nvPr/>
              </p:nvSpPr>
              <p:spPr>
                <a:xfrm>
                  <a:off x="777240" y="5186160"/>
                  <a:ext cx="465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Rectangle 85"/>
                <p:cNvSpPr/>
                <p:nvPr/>
              </p:nvSpPr>
              <p:spPr>
                <a:xfrm>
                  <a:off x="691560" y="5186160"/>
                  <a:ext cx="637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Group 88"/>
              <p:cNvGrpSpPr/>
              <p:nvPr/>
            </p:nvGrpSpPr>
            <p:grpSpPr>
              <a:xfrm>
                <a:off x="1329480" y="5186160"/>
                <a:ext cx="4100760" cy="526680"/>
                <a:chOff x="1329480" y="5186160"/>
                <a:chExt cx="4100760" cy="526680"/>
              </a:xfrm>
            </p:grpSpPr>
            <p:sp>
              <p:nvSpPr>
                <p:cNvPr id="353" name="Rectangle 28"/>
                <p:cNvSpPr/>
                <p:nvPr/>
              </p:nvSpPr>
              <p:spPr>
                <a:xfrm>
                  <a:off x="1415160" y="5186160"/>
                  <a:ext cx="39290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Rectangle 87"/>
                <p:cNvSpPr/>
                <p:nvPr/>
              </p:nvSpPr>
              <p:spPr>
                <a:xfrm>
                  <a:off x="1329480" y="5186160"/>
                  <a:ext cx="41007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Group 90"/>
              <p:cNvGrpSpPr/>
              <p:nvPr/>
            </p:nvGrpSpPr>
            <p:grpSpPr>
              <a:xfrm>
                <a:off x="5430600" y="5186160"/>
                <a:ext cx="2563560" cy="526680"/>
                <a:chOff x="5430600" y="5186160"/>
                <a:chExt cx="2563560" cy="526680"/>
              </a:xfrm>
            </p:grpSpPr>
            <p:sp>
              <p:nvSpPr>
                <p:cNvPr id="356" name="Rectangle 29"/>
                <p:cNvSpPr/>
                <p:nvPr/>
              </p:nvSpPr>
              <p:spPr>
                <a:xfrm>
                  <a:off x="5516280" y="51861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Rectangle 89"/>
                <p:cNvSpPr/>
                <p:nvPr/>
              </p:nvSpPr>
              <p:spPr>
                <a:xfrm>
                  <a:off x="5430600" y="51861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92"/>
              <p:cNvGrpSpPr/>
              <p:nvPr/>
            </p:nvGrpSpPr>
            <p:grpSpPr>
              <a:xfrm>
                <a:off x="691560" y="5712840"/>
                <a:ext cx="637560" cy="760680"/>
                <a:chOff x="691560" y="5712840"/>
                <a:chExt cx="637560" cy="760680"/>
              </a:xfrm>
            </p:grpSpPr>
            <p:sp>
              <p:nvSpPr>
                <p:cNvPr id="359" name="Rectangle 30"/>
                <p:cNvSpPr/>
                <p:nvPr/>
              </p:nvSpPr>
              <p:spPr>
                <a:xfrm>
                  <a:off x="777240" y="5712840"/>
                  <a:ext cx="465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Rectangle 91"/>
                <p:cNvSpPr/>
                <p:nvPr/>
              </p:nvSpPr>
              <p:spPr>
                <a:xfrm>
                  <a:off x="691560" y="5712840"/>
                  <a:ext cx="637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Group 94"/>
              <p:cNvGrpSpPr/>
              <p:nvPr/>
            </p:nvGrpSpPr>
            <p:grpSpPr>
              <a:xfrm>
                <a:off x="1329480" y="5712840"/>
                <a:ext cx="4100760" cy="760680"/>
                <a:chOff x="1329480" y="5712840"/>
                <a:chExt cx="4100760" cy="760680"/>
              </a:xfrm>
            </p:grpSpPr>
            <p:sp>
              <p:nvSpPr>
                <p:cNvPr id="362" name="Rectangle 31"/>
                <p:cNvSpPr/>
                <p:nvPr/>
              </p:nvSpPr>
              <p:spPr>
                <a:xfrm>
                  <a:off x="1415160" y="5712840"/>
                  <a:ext cx="39290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Rectangle 93"/>
                <p:cNvSpPr/>
                <p:nvPr/>
              </p:nvSpPr>
              <p:spPr>
                <a:xfrm>
                  <a:off x="1329480" y="5712840"/>
                  <a:ext cx="41007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Group 96"/>
              <p:cNvGrpSpPr/>
              <p:nvPr/>
            </p:nvGrpSpPr>
            <p:grpSpPr>
              <a:xfrm>
                <a:off x="5430600" y="5712840"/>
                <a:ext cx="2563560" cy="760680"/>
                <a:chOff x="5430600" y="5712840"/>
                <a:chExt cx="2563560" cy="760680"/>
              </a:xfrm>
            </p:grpSpPr>
            <p:sp>
              <p:nvSpPr>
                <p:cNvPr id="365" name="Rectangle 32"/>
                <p:cNvSpPr/>
                <p:nvPr/>
              </p:nvSpPr>
              <p:spPr>
                <a:xfrm>
                  <a:off x="5516280" y="5712840"/>
                  <a:ext cx="2391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Rectangle 95"/>
                <p:cNvSpPr/>
                <p:nvPr/>
              </p:nvSpPr>
              <p:spPr>
                <a:xfrm>
                  <a:off x="5430600" y="5712840"/>
                  <a:ext cx="2563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Group 98"/>
              <p:cNvGrpSpPr/>
              <p:nvPr/>
            </p:nvGrpSpPr>
            <p:grpSpPr>
              <a:xfrm>
                <a:off x="691560" y="6473880"/>
                <a:ext cx="637560" cy="360"/>
                <a:chOff x="691560" y="6473880"/>
                <a:chExt cx="637560" cy="360"/>
              </a:xfrm>
            </p:grpSpPr>
            <p:sp>
              <p:nvSpPr>
                <p:cNvPr id="368" name="Rectangle 33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Rectangle 97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0" name="Group 100"/>
              <p:cNvGrpSpPr/>
              <p:nvPr/>
            </p:nvGrpSpPr>
            <p:grpSpPr>
              <a:xfrm>
                <a:off x="1329480" y="6473880"/>
                <a:ext cx="11520" cy="360"/>
                <a:chOff x="1329480" y="6473880"/>
                <a:chExt cx="11520" cy="36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2" name="Rectangle 99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3" name="Group 102"/>
              <p:cNvGrpSpPr/>
              <p:nvPr/>
            </p:nvGrpSpPr>
            <p:grpSpPr>
              <a:xfrm>
                <a:off x="1341720" y="6473880"/>
                <a:ext cx="4088520" cy="360"/>
                <a:chOff x="1341720" y="6473880"/>
                <a:chExt cx="4088520" cy="360"/>
              </a:xfrm>
            </p:grpSpPr>
            <p:sp>
              <p:nvSpPr>
                <p:cNvPr id="374" name="Rectangle 35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5" name="Rectangle 101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6" name="Group 104"/>
              <p:cNvGrpSpPr/>
              <p:nvPr/>
            </p:nvGrpSpPr>
            <p:grpSpPr>
              <a:xfrm>
                <a:off x="5430600" y="6473880"/>
                <a:ext cx="2563560" cy="360"/>
                <a:chOff x="5430600" y="6473880"/>
                <a:chExt cx="2563560" cy="360"/>
              </a:xfrm>
            </p:grpSpPr>
            <p:sp>
              <p:nvSpPr>
                <p:cNvPr id="377" name="Rectangle 36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8" name="Rectangle 103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9" name="Rectangle 106"/>
            <p:cNvSpPr/>
            <p:nvPr/>
          </p:nvSpPr>
          <p:spPr>
            <a:xfrm>
              <a:off x="685800" y="1066680"/>
              <a:ext cx="731484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Rectangle 108"/>
          <p:cNvSpPr/>
          <p:nvPr/>
        </p:nvSpPr>
        <p:spPr>
          <a:xfrm>
            <a:off x="571680" y="628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95280" y="380880"/>
            <a:ext cx="6782040" cy="393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– 6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 –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– 3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3" descr="BS00559_"/>
          <p:cNvPicPr/>
          <p:nvPr/>
        </p:nvPicPr>
        <p:blipFill>
          <a:blip r:embed="rId3"/>
          <a:stretch/>
        </p:blipFill>
        <p:spPr>
          <a:xfrm>
            <a:off x="2286000" y="39625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200"/>
            <a:ext cx="90345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ыполнение самостоятель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дведем итоги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8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1.Выполнить монт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3840" cy="3048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4487a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icture 4"/>
          <p:cNvSpPr/>
          <p:nvPr/>
        </p:nvSpPr>
        <p:spPr>
          <a:xfrm>
            <a:off x="4648320" y="0"/>
            <a:ext cx="39621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омашнее задание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1560" cy="24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торить назначение узлов электронных осциллограф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0595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емонстрация выполнен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2495880"/>
            <a:ext cx="9144000" cy="3018600"/>
          </a:xfrm>
          <a:prstGeom prst="rect">
            <a:avLst/>
          </a:prstGeom>
          <a:solidFill>
            <a:srgbClr val="66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311120" y="703440"/>
            <a:ext cx="47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Verdana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861480"/>
            <a:ext cx="9034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 flipV="1" rot="10800000">
            <a:off x="-1440" y="1987920"/>
            <a:ext cx="82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Разработать технолог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цесс по выбранно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стройств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034560" cy="34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Если вы удачно выберите труд и вложите в него всю душу, то счастье само вас отыщет»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                      К.Д.Ушинский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Verdana"/>
              </a:rPr>
              <a:t>Проверка домашнего задания №1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80360" cy="713268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и 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-ческий ре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 и контрольно измерительные приб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верить комплектность согласно перечню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Проверить детали на отсутствие механических повреждений, сколов, наруш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одготовить паяльник к работ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регулировать длин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заточить стержень нужной формы и облудить припоем ПОС-61;-проверить температур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инц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Теплоот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Бокор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Паяльник 36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-17640" y="458640"/>
          <a:ext cx="9180720" cy="6492960"/>
        </p:xfrm>
        <a:graphic>
          <a:graphicData uri="http://schemas.openxmlformats.org/drawingml/2006/table">
            <a:tbl>
              <a:tblPr/>
              <a:tblGrid>
                <a:gridCol w="849600"/>
                <a:gridCol w="4443480"/>
                <a:gridCol w="1744560"/>
                <a:gridCol w="2143080"/>
              </a:tblGrid>
              <a:tr h="64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Облудить выводы элементов паяльником с применением припоя ПОС-61 и флюса ФКСП. Расстояние от корпуса до поверхности лужения не должно быть менее 5 мм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чее место должно быть оснащено приточно- вытяжной вентиляцией.  При лужении не допускать попадания припоя на корпус ЭРЭ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Выполнить обрезку и формовку выводов элементов согласно приложения. При формовке выводов элементов обеспечить меры предосторожности от изгиба выводов у основания корпуса элемента, придерживая вывод элемента круглогубцами или пинцет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 стержня паяльника 250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nn</cp:lastModifiedBy>
  <dcterms:modified xsi:type="dcterms:W3CDTF">2010-06-10T11:32:44Z</dcterms:modified>
  <cp:revision>24</cp:revision>
  <dc:subject/>
  <dc:title>PowerPoint Presentation</dc:title>
</cp:coreProperties>
</file>