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17FD5-E885-4922-A87D-0A0465302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AD598-7D5C-478A-BFE2-FBE374477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A4DFD-4332-4CBD-9CF0-80B19852A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B6450-6508-4B2B-B304-E5CC0FD44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C621F-E872-4858-87A8-6FAA13D9D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F4466-981F-4E62-A5FA-B005DC40A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9D656-4531-499B-A2B8-1E5D68447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0AEC5-7179-489E-A5DB-3F456CA1A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B2F5D-2177-4B20-AD91-D593F1C8F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6D3BD-41ED-4A3C-8AB4-CF9E6FA09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93EF4-F282-409C-BE7A-7A4E43283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CC04C-5050-4FF1-9D86-9BD72DCD3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BD929-A695-49B6-8CBB-42D993E92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93794-CD64-40C5-9ABC-F5A00C45C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373BF-6893-4B97-BBC3-DF2D8BDC6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72C0F-C8FE-4FC1-96F8-FD1FEE347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04887-AD39-4BD3-92F7-3D49AC12F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E3921-1F8F-4B66-8503-CC1E2F9EA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462E4-9227-4A57-AF56-04BBF5294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A166F-CE65-407E-97F1-C50212BCA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0B3CA-EE3F-4F4D-8066-FD76E2E88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C3D45-D57F-4289-B968-C13AC48FD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E9481-CC23-42C5-B7DE-F7E38FB16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C2DD3-E983-475C-B3DA-388149B49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B8218-FB86-4FA1-9A6B-A4AD57F8624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A88D9-3132-4469-B81A-672C568BB7A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Педагогическая технология «Школа социализации»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Мастерска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Технологические этапы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                                          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5.«Афиширование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Вывешивание произведений работ учащихся (текстов, рисунков, схем, проектов) в классе и ознакомление с ними. Представление результатов работы групп. Постановка вопросов друг другу по поводу выполненных заданий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Технологические этапы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6. «Разрыв»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нутреннее осознание участников Мастерской неполноты или несоответствия своего прежнего знания новому. Фиксация внимания участников на возникших познавательных противоречиях. Организация работы учащихся в группах с источниками информации, позволяющими разрешить возникшие противоречи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7. «Рефлексия»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Инициация и активизация рефлексии учащихся по поводу индивидуальной и совместной деятельности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Технологические этапы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Литература по Мастерской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Ерёмина Т.Я. Мастерские по литературе. 10-й класс. Метод. пособие. СПб., 2004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Ерёмина Т.Я. Мастерские по литературе. 11-й класс. Метод. пособие. СПб., 2004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бразовательны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показать разрушительный процесс, который происходит в душе главной героини повест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повторить понятия : «лейтмотив», «натуральная школа», «контраст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обнаружить ряд сюжетных параллелей в драме А.Н.Островского «Гроза» и в повести Н.С.Лескова «Леди Макбет Мценского уезда» и на основе их сравнить характеры двух героинь 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обратить внимание на своеобразие развязки сюжет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доказать актуальность пове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Цели и задачи Мастерской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Цели и задачи Мастерской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Развивающ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формировать готовность к социальному взаимодействию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развивать устную речь, творческие возможност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учить представлять и цивилизованно отстаивать свою точку зрения и мнение групп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способствовать умению анализировать нестандартные ситуации и соотносить их с устремлениями других люд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Цели и задачи Мастерской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оспитательны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отметить актуальность повести (отказ от новорождённого младенца; превращение свободы, не знающей нравственных ограничений, в свою противоположность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раскрыть нравственную непросветвлённость чувства Катерины Измайловой, толкающего её на страшные преступле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Литература по повести Н.С.Лескова «Леди Макбет Мценского уезда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Вишневская И. Великое инакомыслие. // Комсомольская правда. - 16 февраля 1991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Лебедев Ю.В.Николай Семёнович Лесков // Литература в школе. – 2000. -№6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Столярова И.В. В поисках идеала (Творчество Н.С.Лескова). Л.,1978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Учамбрина Н.С.Лесков. «Леди Макбет Мценского уезда».10 класс. // Литература в школе. – 2008. - №3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.Чередникова М.П. Открытие Лескова // Литература в школе.  1991. – №2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История Мастерских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лово «мастерская» появилось в отечественной педагогике в начале 90-х годов 20 в. как термин французской группы «Новое образование». У истоков этой системы обучения стояли знаменитые психологи  Поль Ланжеван, Анри Валлон, Жан Пиаж. Слово это обозначает новый тип занятия, основанный на гуманистической философи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последние годы технологию называют не «французскими», а  «петербургскими педагогическими мастерским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Определение и цели Мастерской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стерская - педагогическая технология, которая по своей специфике основывается на тех целях, использует те средства образования и воспитания, которые стратегией модернизации образования отмечаются как важнейш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ели : ученик должен действовать автономно и рефлексивно; использовать различные средства интерактивно; входить в социально-гетерогенные группы и функционировать в ни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новная целевая ориентация заключается в том, чтобы предоставить обучающимся средства, позволяющие им личностно саморазвиваться, осознавать самих себя и свое место в мире, понимать других люд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Типы Мастерских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 построения зна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 творческого пись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 ценностных ориентац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 по самопознани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Особенности Мастерской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бота с текстом на мастерских позволяет школьный анализ произведения представить как лично и общественно (для группы или класса) значимое дел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астерская включает в себя ряд заданий для учащихся, которые способствуют определенному движению в предметном плане. Внутри каждого задания школьники свободны в выборе способов выполнения. Позиция учителя состоит в консультировании учащихся, помощи им в организации учебной работы и осмыслении осваиваемых способов деятельност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Технологические этапы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. «Индукция»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Создание эмоционального настроя, включение чувств ученика, создание личного отношения к предмету обсуждения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Технологические этапы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2. «Самоконструкция»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Индивидуальное создание гипотезы, решения, текста, рисунка, проек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68000" y="1413000"/>
            <a:ext cx="81406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3. «Социоконструкция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Работа учащихся в группах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Технологические этапы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Технологические этапы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. «Социализация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Предъявление созданного продукта всем участникам, соединение индивидуальных результатов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0T21:27:42Z</dcterms:created>
  <dc:creator>777</dc:creator>
  <dc:description/>
  <dc:language>en-US</dc:language>
  <cp:lastModifiedBy>777</cp:lastModifiedBy>
  <dcterms:modified xsi:type="dcterms:W3CDTF">2010-08-24T05:18:38Z</dcterms:modified>
  <cp:revision>11</cp:revision>
  <dc:subject/>
  <dc:title>Технология «Школа социализации»</dc:title>
</cp:coreProperties>
</file>