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448-BEE3-4D98-825B-54119078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2EB-208E-4059-87A8-37CB7E3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6CC-A660-4825-9655-EAFA951F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8C2-DD6B-42BC-BAF4-BD583713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49B4-B684-4579-B9C9-5AFD188B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7D2-A3D6-467B-8E0A-F7072309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B82B-A82B-45E0-9906-A69DF4A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097E-0464-4EBB-B80E-5E71816D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C3A-9755-4C0E-83A3-C3C699CD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8894-E354-45B1-B3D6-F26FFDCF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0EB-C7D6-478B-B427-CF55E10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D42-E64C-463E-8F84-B13EE62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AE1A-E7C2-40BE-A273-A7DF648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BB01-1912-488C-82DD-96C91CC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3F6-B399-4300-B799-A9872FE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9246-9241-4A2B-BC85-AAC2C79F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394-5209-4F7A-8337-5A7337A8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9BB-59A6-4D42-A518-85769B8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BA8-12DB-485E-BB17-3BEE9334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994-4314-4532-B092-19DF4FF9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353-A43E-46F9-9ABC-15791121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875-3E78-4AAA-87B7-4E3AB64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84D-1745-404B-97E6-6FDB90B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246-BDF5-43A1-B3C9-6E91EB5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FA8C-8E09-426C-9ECD-2FBFFA506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833E-8672-4142-B21B-756ACF61E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0280"/>
            <a:ext cx="914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259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Мастерская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по повести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Н.С. Лескова </a:t>
            </a:r>
            <a:br>
              <a:rPr sz="4200"/>
            </a:b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«Леди Макбет Мценского уезда»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ahoma"/>
              </a:rPr>
              <a:t>Драма любви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помните предпосланный повести эпигра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ём, по-вашему, его смыс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а нет жертвам, и они не впро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больше их, тем более трев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.Шекспир «Макб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1229-88b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Воспоминание Н.С. Лесков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е становилось временами  невыносимо жутко, волос поднимался дыбом, я застывал при малейшем шорохе, который производил сам движением ноги или поворотом шеи. Это были тяжёлые минуты, которых мне не забыть никогда. С тех пор избегаю описания таких ужа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авните поведение Катерины Львовны и Серге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Зиновия Измайлова (главы 7- 8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мальчика Феди Лямина (главы 9-11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допросах (глава 12 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торге (главы 13-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9734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35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5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чему повесть заканчивается ещё одним преступлением Катерины Измайлов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Задание 6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общего и чем отличаются Катерина Измайло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Катерина Кабано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Художник русской душ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был спасателем – всегда рядом с Достоевским и Толстым, чуть, правда, в стороне (то как бы отставая от них, то забегая вперёд), неоценённый и непризнанный до конца дней, поскольку на тяжкой дороге любви мешал ему  собственный темперамент: во всём «аффектация и пересол», торопливость и горячность самовыражения, во всём и всему – противоборство. На небосводе же русской литературы одинокая звезда его, наверное, ближе всего сошлась к звезде А.Н.Остро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Бас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Творческая судьба повест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32 г. – композитор Д.Шостакович создал на материале повести оперу «Катерина Измай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1 г. – польский режиссёр А.Вайда снял фильм «Сибирская леди Макб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6 г. – режиссёр М.Шапиро снял фильм-оперу с Г.Вишневской в главной пар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79 г. – постановка А.Гончарова в Московском театре им. Вл. Маяковского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89 г. – режиссёр Р.Балаян создал фильм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4 г. – режиссёр В.Тодоровский снял фильм «Подмосковные вечера», в котором история страсти Катерины Измайловой была перенесена в наш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952560"/>
                <a:tab algn="l" pos="1136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исьменно ответить на один из вопро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276720"/>
            <a:ext cx="7238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Преступница или жер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ина Измай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Можно ли оправдать     преступление, совершё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-за люб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cc"/>
                </a:solidFill>
                <a:latin typeface="Tahoma"/>
              </a:rPr>
              <a:t>Хроника жизни Н.С. Лескова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52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Родился 4 февраля 1831 г. в с.Горохове, Орловской губернии. Отец был заседателем Орловской уголовной палат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 1847-1849 гг. служил в Орловской палате уголовного суд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 1849 по 1856 г. занимал различные должности в Киевской казённой палат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57 г. – поступление на службу в хозяйственно-коммерческую компанию. «Изъездил всю Россию в самых разнообразных направлениях», «собрал «большое обилие впечатлений и запас бытовых сведений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61 г. – переезд в Петербург. Публикация первых рассказов, в основе которых лежат реальные событи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95 г. – кончи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eskov_1" descr=""/>
          <p:cNvPicPr/>
          <p:nvPr/>
        </p:nvPicPr>
        <p:blipFill>
          <a:blip r:embed="rId2"/>
          <a:stretch/>
        </p:blipFill>
        <p:spPr>
          <a:xfrm>
            <a:off x="203040" y="2057400"/>
            <a:ext cx="3530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История создания повести 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«Леди Макбет Мценского уезда»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568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а в 1864 г. в Киеве в начале творческого пути Н.С.Лескова. Впервые напечатана в 1865 году в журнале «Эпоха», издаваемом братьями Ф. и М. Достоевскими, под названием «Леди Макбет нашего уезда». Имеет подзаголовок – «очерк». Писатель всегда настаивал на особом значении для его творчества факта, реального происшествия, от которого могло бы оттолкнуться воображение: «Я всегда люблю основывать дело на живом событии, а не на вымысл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ть жизни ты подашь пример кровав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на тебе такой же даст у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Ты в кубок яду льёшь, а справед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односит этот яд к твоим губ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У. Шекспир «Макб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Цели и задачи Мастерской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ть русскую драму, созревшую на почве косного, неподвижного б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ть крестный путь лесковской герои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сложность, неоднозначность народной души, непостижимость поведения простого человека с точки зрения раз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судьбы Катерины Кабановой и Катерины Измайло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ься в том, что за любым преступлением неизбежно следует нака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чем ассоциируется у вас жизнь Катерины Львов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упеческом «тереме»? (глава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_15-ledi_makb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2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зарождается любов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изображено автором захватившее героиню чувство? (глава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8-03-12T09:10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