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401-8D18-4DBC-8CEE-E3319E72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702-731F-43AD-8DA5-9273267A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E40-8EEC-46D9-A766-0A9E4028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394-F4B0-42BD-A4C4-7852C475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45A-7820-479B-9102-E63D4E73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5FC-BA11-4109-8FA5-7CC89A99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9FB-326C-4BA5-9211-7AA5D7C8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D8C-1EB4-44B8-96C6-5584B560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262-1988-44E4-A44A-42F562CA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A35-48EF-436F-8DD6-140DF97D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8E1-B251-42EE-920F-18F12571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56F-5717-47D4-8B8E-80CFACAD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EABC-189D-4316-8677-8B3AC9AA1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5;&#1086;&#1083;&#1086;&#1078;&#1077;&#1085;&#1080;&#1077;%20&#1086;%20&#1090;&#1074;&#1086;&#1088;&#1095;&#1077;&#1089;&#1082;&#1086;&#1081;%20&#1075;&#1088;&#1091;&#1087;&#1087;&#1077;-&#1086;&#1088;&#1080;&#1075;&#1080;&#1085;&#1072;&#1083;.doc" TargetMode="Externa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реализации муниципального проекта «Внедрение ИК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чебный проц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46483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ута С.А., заведующая районным методическим кабинетом Управления образования Любимского М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08.20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457200"/>
            <a:ext cx="838224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304920"/>
            <a:ext cx="2971800" cy="5410080"/>
          </a:xfrm>
          <a:prstGeom prst="downArrow">
            <a:avLst>
              <a:gd name="adj1" fmla="val 50000"/>
              <a:gd name="adj2" fmla="val 455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533520"/>
            <a:ext cx="1600200" cy="60948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33520"/>
            <a:ext cx="1600200" cy="53316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1371600"/>
            <a:ext cx="2209680" cy="99072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а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чело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в рамках М.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2971800"/>
            <a:ext cx="1371600" cy="60948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1371600"/>
            <a:ext cx="2057400" cy="114300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а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чело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в рамках М.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743200"/>
            <a:ext cx="1828800" cy="99072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Гидросфе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9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2680" y="45720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Выбор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3400" y="1523880"/>
            <a:ext cx="30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Формирование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648320"/>
            <a:ext cx="6324480" cy="160020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ый банк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3760" y="289548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Выбор темы/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200" y="464832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572000"/>
            <a:ext cx="533412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диное  учебно-тематическое 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технологические карты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0958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атический 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1371600"/>
          <a:ext cx="8382240" cy="2208240"/>
        </p:xfrm>
        <a:graphic>
          <a:graphicData uri="http://schemas.openxmlformats.org/drawingml/2006/table">
            <a:tbl>
              <a:tblPr/>
              <a:tblGrid>
                <a:gridCol w="1067040"/>
                <a:gridCol w="990360"/>
                <a:gridCol w="1828800"/>
                <a:gridCol w="1752840"/>
                <a:gridCol w="1523880"/>
                <a:gridCol w="1219320"/>
              </a:tblGrid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льтиме-дийные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ет-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-льное храни-лищ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-риа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685440" y="380988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ка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7520" y="487692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ография «Гидросф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05920" y="56386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дель расчета эффектив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научность, наглядность, доступность 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500" spc="-1" strike="noStrike">
                <a:solidFill>
                  <a:srgbClr val="cc0000"/>
                </a:solidFill>
                <a:latin typeface="Arial"/>
              </a:rPr>
              <a:t>Результа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0000"/>
                </a:solidFill>
                <a:latin typeface="Arial"/>
              </a:rPr>
              <a:t>____________________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500" spc="-1" strike="noStrike">
                <a:solidFill>
                  <a:srgbClr val="cc0000"/>
                </a:solidFill>
                <a:latin typeface="Arial"/>
              </a:rPr>
              <a:t>затрат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временные, физические, материальные, …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планы уроков, дидактический материал и т.п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реализации муниципального проекта «Внедрение ИК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чебный проц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120" y="46483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ута С.А., заведующая районным методическим кабинетом Управления образования Любимского М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08.20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уктура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219320"/>
            <a:ext cx="1828800" cy="83808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819520"/>
            <a:ext cx="1828800" cy="99036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еб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4648320"/>
            <a:ext cx="1828800" cy="91440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2057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304920"/>
          <a:ext cx="8534160" cy="6275160"/>
        </p:xfrm>
        <a:graphic>
          <a:graphicData uri="http://schemas.openxmlformats.org/drawingml/2006/table">
            <a:tbl>
              <a:tblPr/>
              <a:tblGrid>
                <a:gridCol w="3200400"/>
                <a:gridCol w="1828800"/>
                <a:gridCol w="2181240"/>
                <a:gridCol w="1323720"/>
              </a:tblGrid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др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о-тех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-метод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-цио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</a:tr>
              <a:tr h="56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юторо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ов – 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 ИСО (36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ение для будущего    (67 чел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тнерство в образовании (10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«Современные 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образо-вательные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остоянно действующие семин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спользование И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униципальный проект по СОТ (9 шко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 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Ц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 комп.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оектора, принтер-сканер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оутбу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ключение к Интер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кол-ва компьютеров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о проект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овременные образовательные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ет, коллекция цифровых образовательных ресурсов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меро-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676520" y="38862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вышение квал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95400" y="1771560"/>
          <a:ext cx="730728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771560"/>
                    <a:ext cx="730728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8305920" y="56386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457200"/>
          <a:ext cx="838224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822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rcRect l="46875" t="63543" r="25003" b="29168"/>
          <a:stretch/>
        </p:blipFill>
        <p:spPr>
          <a:xfrm>
            <a:off x="3505320" y="1676520"/>
            <a:ext cx="2743200" cy="39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153280" y="5486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838080"/>
            <a:ext cx="8305920" cy="49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2860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0040" y="1177920"/>
            <a:ext cx="8082720" cy="5055480"/>
            <a:chOff x="680040" y="1177920"/>
            <a:chExt cx="8082720" cy="5055480"/>
          </a:xfrm>
        </p:grpSpPr>
        <p:sp>
          <p:nvSpPr>
            <p:cNvPr id="64" name=""/>
            <p:cNvSpPr/>
            <p:nvPr/>
          </p:nvSpPr>
          <p:spPr>
            <a:xfrm>
              <a:off x="3674160" y="2675520"/>
              <a:ext cx="2294640" cy="5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ектное об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в т.ч. на основе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l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77760" y="2301480"/>
              <a:ext cx="109800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ба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67640" y="2675520"/>
              <a:ext cx="159588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КЧМ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040" y="2769480"/>
              <a:ext cx="159588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азновозрастное об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77680" y="4172760"/>
              <a:ext cx="2294640" cy="56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едаре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02520" y="4964400"/>
              <a:ext cx="2294280" cy="56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улако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01080" y="5671080"/>
              <a:ext cx="2293200" cy="5623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ёрно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9080" y="4641840"/>
              <a:ext cx="2294280" cy="56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липпо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70320" y="3518280"/>
              <a:ext cx="2294280" cy="56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68480" y="1458720"/>
              <a:ext cx="2294280" cy="56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акобякинская С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73680" y="1365480"/>
              <a:ext cx="2294280" cy="56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рмаковская С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78440" y="1177920"/>
              <a:ext cx="2294640" cy="56124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77680" y="3423960"/>
              <a:ext cx="2294640" cy="5630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армановская 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971240" y="1926720"/>
              <a:ext cx="720" cy="748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74920" y="1645920"/>
              <a:ext cx="897480" cy="1029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5760" y="1739520"/>
              <a:ext cx="897120" cy="936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76440" y="1739520"/>
              <a:ext cx="720" cy="564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76920" y="1739520"/>
              <a:ext cx="1080" cy="564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378080" y="1645920"/>
              <a:ext cx="399240" cy="1123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76840" y="3237480"/>
              <a:ext cx="189720" cy="237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78880" y="3237480"/>
              <a:ext cx="498960" cy="10508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79360" y="3237480"/>
              <a:ext cx="698400" cy="18925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0200" y="3237480"/>
              <a:ext cx="942840" cy="2652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763080" y="3237480"/>
              <a:ext cx="110160" cy="280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896640" y="3237480"/>
              <a:ext cx="375840" cy="105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929040" y="3237480"/>
              <a:ext cx="642600" cy="187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569560" y="1977840"/>
              <a:ext cx="1488960" cy="697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5469120" y="3237120"/>
              <a:ext cx="399240" cy="280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7066800" y="3143520"/>
              <a:ext cx="399240" cy="468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65120" y="3143520"/>
              <a:ext cx="720" cy="1529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72080" y="3237480"/>
              <a:ext cx="1196640" cy="1684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65120" y="2019960"/>
              <a:ext cx="0" cy="655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996360" y="3237480"/>
              <a:ext cx="675000" cy="263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73920" y="1645920"/>
              <a:ext cx="3592440" cy="1029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хема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4240" y="5638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4680" y="5791320"/>
            <a:ext cx="36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- - банк методических разрабо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79600" y="716040"/>
            <a:ext cx="423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9080" y="1771200"/>
            <a:ext cx="75376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еализовано 15 проектов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здана брошюра с опытом работы Бармановской школ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азработаны учебно-тематические планы и конспекты урок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ыпуск диска «Образование в Любимском районе: опыт и перспективы развития»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№ 53 от 11.08.2008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523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ратегическая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ышение эффектив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ьзования ИКТ в учеб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809880"/>
            <a:ext cx="8915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нкретная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ирование информационн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разовательных ресурсов для уч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ографии и физ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 работы на 2008, 2009 г.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1143000"/>
          <a:ext cx="8305920" cy="4876920"/>
        </p:xfrm>
        <a:graphic>
          <a:graphicData uri="http://schemas.openxmlformats.org/drawingml/2006/table">
            <a:tbl>
              <a:tblPr/>
              <a:tblGrid>
                <a:gridCol w="3505320"/>
                <a:gridCol w="48006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емые результат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 творческих групп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Положение</a:t>
                      </a:r>
                      <a:r>
                        <a:rPr b="0" lang="en-US" sz="2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о творческой групп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едание рабочей группы, консультация научных руководител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Учебно-тематический пла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ая карта урока:</a:t>
                      </a:r>
                      <a:r>
                        <a:rPr b="0" lang="en-US" sz="2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физика, географ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Модель расчета эффективност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ы-практикумы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 предметам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фрагменты урок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кет документ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ный и областной конкурс учебных проект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е проекты (муниципальный банк данных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мута С.А.</cp:lastModifiedBy>
  <dcterms:modified xsi:type="dcterms:W3CDTF">2010-08-23T05:55:12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