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AB4-6B5C-425F-85EA-2526E89D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879-C6ED-46EF-B06B-CE2EC88C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9C5-14C1-4A53-8F31-29DD9658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D41-BCB4-4075-9FBC-FA4A3280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A58C-596A-4F86-ABC3-6A2EBC9E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8410-E85D-4CA7-8C63-64514BB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6BD0-E205-42FD-AF89-0E436355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3ABB-C3F1-4241-833B-79A1DDF0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100-E70E-4CE0-B0BE-7B7E71C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18AA-19F2-429E-AF71-E8A53474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9461-2CCC-4B78-945F-57D2EEB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F36-9000-4006-9632-7765D1F9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1A8C-0095-4852-A3F6-A499E320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10DA-9262-416F-98E6-FA863C4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85A6-718D-49F9-9751-2F8D68A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9A47-43BC-4662-A062-4B027638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D262-88D7-4879-B677-2343C469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B8218-93D0-452A-ACDA-F9EF80D5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EEF9D-090B-4976-8BDF-E51EBF49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415F5-E12A-4903-9032-B31FB550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88DAD-3158-4192-9A3C-DAEB064A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6A389-03F9-42C0-A807-4D2C8A62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381-2774-4D48-B089-4B2CF430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1F261-3C5B-4E05-ABC8-8FD10E58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DA6CE-6855-41F0-9E23-837D041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CBE7A-FF59-47FD-8716-6932B298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4D8C7-A725-4BDC-816B-3D8C2B78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35440-1D08-4A4D-B4D2-B7D9A2D4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AE2AA-35BC-4916-AEF2-014C6B4B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FBB2B-E49A-4155-93EC-A98F40AD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8673-21ED-4EF1-AE10-B34F5EAD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26D2-31DD-4B57-B799-78E350E4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3E33-6BF9-45F1-88FB-020C6EEF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F6F-0CF9-4391-AE88-1AAE672D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149B-1B73-4DC9-967B-C5340C23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3DCC-3916-4AF4-BB44-850A3EC8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9CD7-8237-4A97-A15B-DABCE2D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AC30-75A0-49A6-BC20-82115039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EC62-4BA5-4B2D-A855-DF38CDA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5693-03D7-4BAE-AE47-0F197A28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3165-4DD6-4780-BAC4-6EBC24F3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DB44-8285-4243-8C01-C750BBFF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5019-C423-451A-9472-FB92F91F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F3FD0-B568-4EDA-93DF-DC088257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FA9-B50F-40D9-B7F3-AA92F70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DC4C0-F118-457E-A905-D7918D2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246B3-5F96-4609-9ED5-BA7198D7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B2D1D-691F-493D-8551-94EB48A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C7CC3-67D1-4E81-A747-8EC9FEC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8E298-537F-4184-956C-F5722E7B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43CA3-949E-4FB2-9588-85122B8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9E3BB-650F-423D-B903-1C293B96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532D7-8C3E-4865-999A-5ADA8ED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3E32D-AEA6-4011-A2DE-4CDB969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7AEA0-78E5-4D7C-A9CF-CDB08E62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8E4-9B3C-4402-9690-F80F88B1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5B03E-51A7-47D5-84DF-1F079511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A33DE-A370-4A22-BD13-83C82CB0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D91E9-9C22-44DA-A1B9-FB4233B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CA8D3-7264-4A6C-BC14-2E46D8A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082A3-1D12-47A7-A6DD-4CBE6EC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7641C-4333-40B8-ADCA-DC98C5D3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10A71-5EC3-4E6C-97F5-41669C76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7ADE9-DA00-4498-865D-0BC29BD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F60EB-F490-416A-A1F9-4C18C02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209E7-0740-4819-9CC7-7EAE2A9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262-798D-430D-812E-63043C2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75CB7-6F93-46F1-8898-77EF229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40A7C-EE2D-4422-9A4D-0AEE7059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8D60F-A626-4A1A-AEDF-574C2604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DE999-8461-426E-81F6-8962FBA8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588FF-8FB9-4942-B898-6F43FC85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B6310-0FA9-4DD1-8BA6-623A9103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B176A-BDF5-421B-8077-8EAB9D5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92952-99D4-4511-AE31-DB7DB525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60003-5CA2-40C5-8B86-5AE60738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E3224-D59D-4843-A950-065673D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B0A-40CF-4C16-BB86-DB87ABB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C6F86-7CF9-4416-BD99-7EE90C4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C041D-8A7F-481F-BC5C-54418F6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437D53-3B6A-41B9-B347-27F0635B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7AF36-F96C-4612-94C2-E4713CDE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0919A-83B7-42CF-8609-084C4449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C05-350D-4A24-BA66-D5CBD968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5BD-2480-4F76-A18A-316F8548B90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0B5D-C95D-4573-8275-56BB4B465F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924C-0F73-4E3F-A691-7D7C46151C5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9FD4-B865-45F3-8A41-F646DED929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4596-E351-40E4-9225-F11F375C54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3C19-4BD2-45C2-AC34-9708FBAEBD5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FD00-DD5F-42C0-9E12-ED6231B596E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8;&#1054;&#1052;%20&#1052;&#1072;&#1083;&#1086;&#1074;&#1086;&#1081;%20&#1070;&#1083;&#1080;.doc" TargetMode="External"/><Relationship Id="rId2" Type="http://schemas.openxmlformats.org/officeDocument/2006/relationships/hyperlink" Target="file:///&#1048;&#1054;&#1052;%20&#1052;&#1072;&#1083;&#1086;&#1074;&#1086;&#1081;%20&#1070;&#1083;&#1080;.doc" TargetMode="External"/><Relationship Id="rId3" Type="http://schemas.openxmlformats.org/officeDocument/2006/relationships/hyperlink" Target="file:///&#1048;&#1054;&#1052;%20&#1052;&#1072;&#1083;&#1086;&#1074;&#1086;&#1081;%20&#1070;&#1083;&#1080;.doc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571680"/>
            <a:ext cx="482436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5a160b"/>
                </a:solidFill>
                <a:latin typeface="Century Schoolbook"/>
              </a:rPr>
              <a:t>ИНДИВИДУАЛЬНАЯ ОБРАЗОВАТЕЛЬНАЯ ДЕЯТЕЛЬНОСТЬ УЧАЩИХСЯ СТАРШИХ КЛАССОВ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4500360"/>
            <a:ext cx="617220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Century Schoolbook"/>
              </a:rPr>
              <a:t>Автор – классный руководитель 11 класса Махаева Любовь Борис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IMG_9087"/>
          <p:cNvPicPr/>
          <p:nvPr/>
        </p:nvPicPr>
        <p:blipFill>
          <a:blip r:embed="rId1"/>
          <a:srcRect l="3643" t="9709" r="0" b="0"/>
          <a:stretch/>
        </p:blipFill>
        <p:spPr>
          <a:xfrm>
            <a:off x="5000760" y="714240"/>
            <a:ext cx="3781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СПАСИБО </a:t>
            </a:r>
            <a:br>
              <a:rPr sz="4800"/>
            </a:b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ЗА ВНИМАНИЕ!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ДИАГНОСТИЧЕСКАЯ 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Учет интересов и склонностей обучающего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сильных и слабых сторон лич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учебных достижений и возможност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Готовность к профессиональному самоопределени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пределение заказа родител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000080"/>
            <a:ext cx="74674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ФУНКЦИЯ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ГНОЗИРОВАНИЯ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И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ЕКТИРОВАНИЯ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Овал 3"/>
          <p:cNvSpPr/>
          <p:nvPr/>
        </p:nvSpPr>
        <p:spPr>
          <a:xfrm>
            <a:off x="285840" y="285840"/>
            <a:ext cx="3429000" cy="17143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Определение последовательности сроков и средств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4"/>
          <p:cNvSpPr/>
          <p:nvPr/>
        </p:nvSpPr>
        <p:spPr>
          <a:xfrm>
            <a:off x="285840" y="2286000"/>
            <a:ext cx="3714840" cy="17146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Составление программы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5"/>
          <p:cNvSpPr/>
          <p:nvPr/>
        </p:nvSpPr>
        <p:spPr>
          <a:xfrm>
            <a:off x="500040" y="4429080"/>
            <a:ext cx="3500640" cy="20001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Выбор предметов для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5357880" y="285840"/>
            <a:ext cx="2928960" cy="1428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образовательный маршр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5357880" y="2357280"/>
            <a:ext cx="2857320" cy="1500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ндивидуальная образователь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5429160" y="4500720"/>
            <a:ext cx="2714760" cy="15001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учеб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верх 9"/>
          <p:cNvSpPr/>
          <p:nvPr/>
        </p:nvSpPr>
        <p:spPr>
          <a:xfrm>
            <a:off x="2071800" y="3857760"/>
            <a:ext cx="412560" cy="64296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верх 10"/>
          <p:cNvSpPr/>
          <p:nvPr/>
        </p:nvSpPr>
        <p:spPr>
          <a:xfrm>
            <a:off x="2000160" y="1928880"/>
            <a:ext cx="412920" cy="64296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трелка вправо 11"/>
          <p:cNvSpPr/>
          <p:nvPr/>
        </p:nvSpPr>
        <p:spPr>
          <a:xfrm>
            <a:off x="3571920" y="642960"/>
            <a:ext cx="1928880" cy="6984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констру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трелка вправо 13"/>
          <p:cNvSpPr/>
          <p:nvPr/>
        </p:nvSpPr>
        <p:spPr>
          <a:xfrm>
            <a:off x="3500280" y="4929120"/>
            <a:ext cx="214344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право 14"/>
          <p:cNvSpPr/>
          <p:nvPr/>
        </p:nvSpPr>
        <p:spPr>
          <a:xfrm>
            <a:off x="3500280" y="2786040"/>
            <a:ext cx="2071800" cy="62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7758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ИНДИВИДУАЛЬНЫЙ ОБРАЗОВАТЕЛЬНЫЙ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 маршрут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3"/>
              </a:rPr>
              <a:t> ОБУЧАЮЩЕГОСЯ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6211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РОДИТЕЛИ -</a:t>
            </a: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УЧАСТНИКИ ПРОГРАМ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будущей профессии, учебного заведения(ВУЗ, СУЗ, П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 рынком профессий Ярославской об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предметов, требующих углуб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уровнем возможностей и уровнем обученности по каждому предмету, с рекомендациями для успешности достижения ц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нсультирование по составлению индивидуаль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РАЗВИВАЮЩАЯ ФУНКЦ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Оказывать помощь и поддержку ученику 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физ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псих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оциально-личностн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духовно-нравственн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трудов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IMG_7916"/>
          <p:cNvPicPr/>
          <p:nvPr/>
        </p:nvPicPr>
        <p:blipFill>
          <a:blip r:embed="rId1"/>
          <a:stretch/>
        </p:blipFill>
        <p:spPr>
          <a:xfrm>
            <a:off x="755640" y="141300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374" name="Заголовок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Arial"/>
              </a:rPr>
              <a:t>Победители конкурсов и олимпи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КООРДИНАЦИОННАЯ</a:t>
            </a:r>
            <a:r>
              <a:rPr b="0" lang="en-US" sz="4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Классный руководитель организует встречи с учителями-предметниками, психологом школы, социальными партнёрами, специалистами в системе дополнительного образования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7:35:57Z</dcterms:created>
  <dc:creator>UserN</dc:creator>
  <dc:description/>
  <dc:language>en-US</dc:language>
  <cp:lastModifiedBy>usv</cp:lastModifiedBy>
  <dcterms:modified xsi:type="dcterms:W3CDTF">2010-09-01T07:28:34Z</dcterms:modified>
  <cp:revision>16</cp:revision>
  <dc:subject/>
  <dc:title>         Роль классного руководителя  в психолого-педагогическом сопровождении учащихся старших  классов  </dc:title>
</cp:coreProperties>
</file>