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4B1-6E4E-4795-830B-E8AC88D2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1E1-A39F-474C-8E96-7238F970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A40-97DA-4160-9CFB-F4C28A6C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DFF-CB89-4AA7-BE53-34B24B95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A059-80CD-4468-81FF-1D24D96F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F5E9-48FD-4624-A272-0E0CF7D0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1FAE-54AD-44FE-B741-029E5CA8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3C5B-50DD-4AAC-AE3C-7B276A1E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8320-950A-488D-868F-C45291BC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BEA6-20AF-474A-804B-3CA592D2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07BD-8951-4BE4-8B32-65CBD0F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6D2-63BF-436E-AD55-2E749335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91C5-D842-491E-9C3E-D792540C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1DAB-4E0F-4AC2-B911-B296556D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3697-3310-43E3-A866-31949AED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B524-AADD-466B-BFA4-7B620B40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D09A-4AF2-4D60-9679-7FF1D3C0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F89-45C8-43E5-B3E7-6D1059C6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031-FCE5-4151-B158-3317FF51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835-15D7-4C53-8030-4FBF5027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161-2D2D-45D3-AFEA-6C20CE9E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6AD-8967-4EFA-AA6A-B42B180F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702-80BF-4D0A-AAA6-261F1600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0CB-4CE6-4E50-B45E-2AA24741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4E32-F81A-499D-BE75-55A683621C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4540-71D7-4260-835F-F9FFE0A27D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8;&#1077;&#1084;&#1072;%20&#1051;&#1077;&#1082;&#1089;&#1080;&#1082;&#1072;%2010%20&#1082;&#1083;&#1072;&#1089;&#1089;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4;&#1073;&#1103;&#1079;&#1072;&#1090;&#1077;&#1083;&#1100;&#1085;&#1099;&#1077;%20&#1088;&#1077;&#1079;&#1091;&#1083;&#1100;&#1090;&#1072;&#1090;&#1099;%20&#1086;&#1073;&#1091;&#1095;&#1077;&#1085;&#1080;&#1103;%20&#1087;&#1086;%20&#1090;&#1077;&#1084;&#1077;.doc" TargetMode="External"/><Relationship Id="rId2" Type="http://schemas.openxmlformats.org/officeDocument/2006/relationships/hyperlink" Target="file:///&#1059;&#1088;&#1086;&#1082;.doc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1;&#1080;&#1089;&#1090;%20&#1089;&#1072;&#1084;&#1086;&#1082;&#1086;&#1085;&#1090;&#1088;&#1086;&#1083;&#1103;%20&#1080;%20&#1089;&#1072;&#1084;&#1086;&#1086;&#1094;&#1077;&#1085;&#1082;&#1080;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846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Индивидуальная 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деятельность учащихся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на уроках русского язык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32000" y="2997360"/>
            <a:ext cx="3786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МОУ Великосельская средняя общеобразовательная школ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Учитель: Ильичева Е. 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Необходимые условия индивидуальной деятель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бразовательный процесс – субъект-субъектное взаимодейств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своение знаний – средство развития способност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вобода выбора цели, содержания, способов учен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читель – организатор процесса учения, консультант, старший товари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редства учебной деятель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2355840"/>
          <a:ext cx="7777080" cy="40971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радиционны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новационны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бник, дидактические материалы, справочник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грамма действий </a:t>
                      </a:r>
                      <a:r>
                        <a:rPr b="0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1"/>
                        </a:rPr>
                        <a:t>(технологическая карта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глядные пособ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редства субъективизации, антиципация, самоконтроль и самооценк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бная техник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формационные технолог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Учебные элемен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Знакомство с темой (модулем), задачами темы,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ОР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Постановка индивидуальных целей и задач на каждом уро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Входной контроль знаний и умений, необходимых для освоения те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Целевая программа действ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Дополнительный материал, альтернативные учебные действия, формы работы и зад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Рефлексия (оценка достигнутых результатов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Дифференцированное домашнее зада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Показатели индивидуальной деятельности на уро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Деятельность учащихся мотивированная, целенаправленна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Создание ситуации выбо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Это процесс саморазвития, самореализации учени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Поэтапная рефлекс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Активная и эффективная учебно-познавательная деятель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Индивидуализация контроля, самоконтроля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, коррекции, консультирования, степени самосто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Формирование познавательной самостоятельности школьни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Показатели эффективности индивидуальной деятель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Осознанная постановка учебных целей, выбор пути освоения материала, домашнего зад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Умение работать с различными источниками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Повышение мотивации учебн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Продвижение на более высокий уровень обучения (углублённое изучени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Освоение структуры учебн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Повышение уровня успеваем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5522760" cy="589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4653000"/>
            <a:ext cx="71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66"/>
                </a:solidFill>
                <a:latin typeface="Arial"/>
              </a:rPr>
              <a:t>С началом нового учебного года!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05:54Z</dcterms:created>
  <dc:creator>1</dc:creator>
  <dc:description/>
  <dc:language>en-US</dc:language>
  <cp:lastModifiedBy>Елена</cp:lastModifiedBy>
  <dcterms:modified xsi:type="dcterms:W3CDTF">2010-08-24T15:40:29Z</dcterms:modified>
  <cp:revision>24</cp:revision>
  <dc:subject/>
  <dc:title>Средства индивидуальной  деятельности учащихся на различных этапах учебного занятия</dc:title>
</cp:coreProperties>
</file>