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7A2-80C1-4F0F-80D3-7A7CB63A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1B2-D6D3-488C-B672-F5A01F53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AA7-CC9F-4D2D-B00D-7E1AC1BA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13F-D4BE-425E-84EF-BB983157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F9E1-CDA9-45AD-9AD3-4CBFC2CE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A0D0-A5C0-45D2-93D0-25A8C3B1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5AF1-8D89-4596-A695-E10E2489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EC26-0D10-46E1-BB47-5DA29B1C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0CAF-83FA-4922-B7CB-119CF530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6212-58AE-4A32-83F0-6CBEC547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F0C8-4C71-4284-AC93-76B8E017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E92-9051-4C3C-8BE8-23A52FC3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2C3F-2EFF-4467-8222-F011DD5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8EF1-5957-445E-A0DC-343DDB34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2B88-3175-444D-BFEC-F1543A2D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43A6-B88A-49F2-9F3D-71429624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0306-BC56-408D-A6F4-9A7CE764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732-57FD-4604-A16A-6A11FC65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225-4184-4439-9237-C1CBEC36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9B6-4E90-4923-8DD4-B5F155C9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8AF-A97D-4D47-A4C4-33A2FFB4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0AD-EF0E-466D-B4D4-7F2C32E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CF2-8FEA-4F93-9092-F0724ED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C81-7A67-40F8-9FAB-C11A59C4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F262-CE45-423A-B2F7-F4D4312DA59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D627-6659-41D1-AB3E-EABC7DE753A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ПЕДАГОГИЧЕСКИЙ ИНСТРУМЕНТАРИЙ </a:t>
            </a:r>
            <a:br>
              <a:rPr sz="3000"/>
            </a:b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ФОРМИРОВАНИЯ И ДИАГНОСТИКИ ОБЩИХ КОМПЕТЕНЦИЙ: опыт и перспективы работы лицея 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30481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уева Марина Леоно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меститель директора 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ОУ НПО ЯО ПЛ №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.п.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48320" y="563868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ГОУ НПО ЯО профессиональный лицей № 7 20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4DD634-BB85-464A-9408-3A45CF699339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1066680" y="251460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 = 40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иагностирован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Шкала</a:t>
            </a:r>
            <a:r>
              <a:rPr b="0" lang="ru-RU" sz="2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ангова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4191120" y="3429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0 –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 – скорее нет, чем д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 – не знаю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 – скорее да, чем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 – 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7D43D6-FDD3-4334-BD26-6BF0F2C4AE18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914400" y="22096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процеду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варительный инструктаж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зависимость экспер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ограниченности по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сперты при повторной диагностике те ж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иодичность – не чаще 1 раза в год, период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FD22D2-9E05-4DC9-96CA-8EDAA7DFFDAD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5"/>
          <p:cNvSpPr/>
          <p:nvPr/>
        </p:nvSpPr>
        <p:spPr>
          <a:xfrm>
            <a:off x="914400" y="2438280"/>
            <a:ext cx="7238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нализ собранных данных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дные таблиц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тистический критерий однород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ный проду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9CC0AD-FF2E-4399-BACC-C541FFCA6BE4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838080" y="1665360"/>
          <a:ext cx="7077240" cy="51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65360"/>
                    <a:ext cx="70772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880" y="2590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агностическая карта учащего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90720" y="4343400"/>
            <a:ext cx="7619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у положено соотнесение типа педагогического процесса и образовательного результата (В.В.Юдин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228600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ровни компетентности по В.В.Юдин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аль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ормальное применение известных способов действий: методик, технологий, способов, алгоритмов (иногда по прямому на них указанию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осознанные выбор и  применение  способов действ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ворческая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сознанные выбор, применение и адаптация способов действий в нестандартных ситуац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бъект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йствия основанные на возможности самореал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25909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тализация ОК ФГОС НПО по уровн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гнитивном и поведенческом аспект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ценностно-смысловом, мотивационном и эмоционально-волевом аспекта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7432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леживание эффективности педагогической системы О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нение статистических критериев для сравнения входных, промежуточных и итоговых результатов в формировании 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едагогические средства (педагогический инструментарий) 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овокупность компонентов, позволяющих управлять педагогическим процессом, воздействовать на образовательный результа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ы: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методика, содержание дисциплины, методы, приемы обучения, формы организации познавательной деятельности, средства обучения (в узком смысле), задача, упражнение, пример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76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Основание для выбора инструментария: направленность на активную субъектную деятельность учащихся, комплекс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блемного обучения Е.Л.Мельников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КМЧ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рной работы и работы в малых группа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гров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альная технология В.В.Гузее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При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ты с понятиями, таблицами, задачам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ципы выбора и использования педагогических средст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омпетентностной направл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истем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реализации педагогического инструмента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инцип вариативности и сопряж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693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аблица эффективности выбранных педагогических средст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руирование комплекса педагогических средств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й технологией в основ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заимодействие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зм реализации комплекса педагогических средств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Дополнительный курс «Учись учиться» в 1 семестре в рамках выбранны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Проведение внеаудиторных мероприятий в рамка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Системная реализация технологий в рамках ОД, СД, ПМ, внеаудиторной рабо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КА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рамках ПМ, ЭК, Г(И)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ОД, СД, внеаудиторных мероприят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FCD2AB-9412-435E-9CAC-4B52F7E0CC63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55"/>
          <p:cNvSpPr/>
          <p:nvPr/>
        </p:nvSpPr>
        <p:spPr>
          <a:xfrm>
            <a:off x="1066680" y="2438280"/>
            <a:ext cx="754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кспертной 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ценка надпрофессиональных компетенц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ятельность учащих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спер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мастера и преподаватели группы (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ев</cp:lastModifiedBy>
  <dcterms:modified xsi:type="dcterms:W3CDTF">2011-11-30T18:34:5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