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AFB-1AA7-47ED-B4BF-2BF5BB83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F1D-52E6-44DA-B7CB-B7260A78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853-CFEA-4769-8C8F-23DCA70E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D6A-B54A-49EF-97D0-EC1E7987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901D-AFE7-4E8F-98F7-43058812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094E-7C27-4605-8544-0692E286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89CE-2204-4060-B6FB-905592B0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59A5-8E83-404F-8686-636D4838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6A23-C803-4E97-9B3A-9F76F5FB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0336-5EB4-4DE1-B4EB-EBCEB918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FBA7-633E-4806-AB71-BE33D3EB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C63-4389-47A5-BE25-D093C192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6499-AD17-4629-96BD-B17B4DCC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B63C-D8B7-4B72-80FC-EA21994F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A860-E61F-4127-B9C4-BB97098A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D614-2417-4CCB-AB0A-FAD382A5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4C8A-8FFC-4724-A95D-737D1D37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C288-5FB4-4D34-B128-8DB0A857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D409-3724-4958-AE11-F010BFB3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F3C8-27E8-424D-A726-E00B268D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2042-8E14-437E-9656-5FCB6563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4298-9B4C-4208-A8A9-FD30DB8A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99E-B3F5-4FE5-952C-DB188457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C036-A31D-47E1-80F8-CE6D4297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DA0A-66FD-4AB7-B2A9-97DFF2E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9D01-B550-462E-8F99-8547D01E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62DA-9594-49A3-A9DC-1B4F020E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524B-048C-438F-899B-625AEFAF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2573-636D-48D1-A158-9FA0D21E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8C86-4896-47D2-A6D6-5F7A9015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9221C-0521-4A0C-8157-F153EB99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D6D97-8E0A-4C58-A3F5-A42A85BB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6AF8-EDCE-4686-AF08-21B3AF0A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785-C341-45AE-8D1C-97F04751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8A52-92DE-456A-9128-BE045BE2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9C38-C90D-4949-9642-67829AC0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C237D-BAD1-4A99-90E5-DE1A888D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3C555-DABF-430C-A168-904F057D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8CC1C-DEDB-4933-8C4A-7FC5F76E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B8169-A6D7-446A-82F2-F9FC661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6487F-D466-4DE2-9C17-21878EA2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3659-9F1E-4AC9-B6FE-3066E283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9F238-E274-4C8D-B0EF-E25B4053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38A-05EC-4841-997C-6C6A5DBD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467-2E90-4160-B529-74C96259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8D5-8FD1-4716-B55F-3004D766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2E2-1170-4BA8-9582-49606EB3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196-3476-4060-9F6D-707CEB93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78CB-FA4F-4874-8B50-5CB803BEC98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685A-5164-4BA4-B6B5-701D89293A4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35E1-8660-4F73-B0D3-CF1467ED8B3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8581-0AE7-4D7B-918C-FC3A108D57E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7;&#1088;&#1086;&#1075;&#1088;&#1072;&#1084;&#1084;&#1084;&#1072;%20&#1087;&#1086;%20&#1087;&#1088;&#1072;&#1082;&#1090;&#1080;&#1082;&#1077;%20&#1055;&#1053;&#1050;%20&#1087;&#1086;%20&#1060;&#1043;&#1054;&#1057;.doc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5" descr=""/>
          <p:cNvPicPr/>
          <p:nvPr/>
        </p:nvPicPr>
        <p:blipFill>
          <a:blip r:embed="rId2"/>
          <a:stretch/>
        </p:blipFill>
        <p:spPr>
          <a:xfrm>
            <a:off x="378000" y="1859040"/>
            <a:ext cx="8461080" cy="4217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85480" y="5428800"/>
            <a:ext cx="86439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ласова Светлана Александровн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аведующая профессиональной практикой студент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500040" y="9288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СПО ЯО Ростовский педагогический колле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Документы, регламентирующие порядок организации и проведения практи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РФ «Об образован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СП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чие учебные планы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ожение об учебной и производственной практике студентов (курсантов), осваивающих ОПОП СПО, утвержденное приказом Минобрнауки от 26 ноября 2009г. №673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профессиональной практике студентов по специальностям СПО (Минобразование России, 03.03.2003 г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Виды профессиональной практи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чебная практик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оизводственная практика (практика по профилю специальности и преддипломная практик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Методологические подходы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к организации профессиональной практики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3286080"/>
            <a:ext cx="822960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ятельностны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ны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ультурологически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петентностный подх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ринципы организации профессиональной практи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76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довате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емствен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намич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ифункциона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спек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гра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бода выбора и ответствен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связь теоретического обучения и практ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трудничеств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блемность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Структура рабочей программы практи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АСПОРТ РАБОЧЕЙ ПРОГРАММЫ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ЕЗУЛЬТАТЫ ПРОХОЖДЕН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ТРУКТУРА И ПРИМЕРНОЕ СОДЕРЖАНИЕ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УСЛОВИЯ РЕАЛИЗАЦИИ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ТРОЛЬ И ОЦЕНКА РЕЗУЛЬТАТОВ ОСВОЕНИЯ ПРАК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i="1" lang="en-US" sz="3000" spc="-1" strike="noStrike">
                <a:solidFill>
                  <a:srgbClr val="04617b"/>
                </a:solidFill>
                <a:latin typeface="Calibri"/>
              </a:rPr>
              <a:t>КОНТРОЛЬ И ОЦЕНКА РЕЗУЛЬТАТОВ ОСВОЕНИЯ</a:t>
            </a:r>
            <a:br>
              <a:rPr sz="3000"/>
            </a:br>
            <a:r>
              <a:rPr b="1" i="1" lang="en-US" sz="3000" spc="-1" strike="noStrike">
                <a:solidFill>
                  <a:srgbClr val="04617b"/>
                </a:solidFill>
                <a:latin typeface="Calibri"/>
              </a:rPr>
              <a:t> ПРОФЕССИОНАЛЬНОЙ ДЕЯТЕЛЬНОСТИ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2920" y="1714680"/>
          <a:ext cx="8786880" cy="4876560"/>
        </p:xfrm>
        <a:graphic>
          <a:graphicData uri="http://schemas.openxmlformats.org/drawingml/2006/table">
            <a:tbl>
              <a:tblPr/>
              <a:tblGrid>
                <a:gridCol w="612720"/>
                <a:gridCol w="2070000"/>
                <a:gridCol w="2616480"/>
                <a:gridCol w="348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д П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Наименование результата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ПК и показатели сформирова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Формы и методы контроля и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пределять цели и задачи, планирова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.Информацион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. Проектировоч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проверка конспектов уроков на педагогической практик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защита, подобранных форм и методов обучения младших шк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роводи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рганизаторск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. Коммуника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наблюдение и анализ проведения уроков в ходе педагогическо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нализирова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. Анализ и самоанализ деятельнос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ние 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ние 2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экспертная оценка представленного анали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одсистемы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профессиональной практики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рганизац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етодическое обеспечение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териально-техническое обеспечение практи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азы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тчетная документац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троль работы субъектов и объектов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еловеческий фактор профессиональной прак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Базовый набор контрольно-измерительных параметр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8760" y="2928960"/>
          <a:ext cx="8229600" cy="3044880"/>
        </p:xfrm>
        <a:graphic>
          <a:graphicData uri="http://schemas.openxmlformats.org/drawingml/2006/table">
            <a:tbl>
              <a:tblPr/>
              <a:tblGrid>
                <a:gridCol w="542880"/>
                <a:gridCol w="6072120"/>
                <a:gridCol w="161460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нтролируемые элемент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Оценка эксперт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ендарно-тематический план практи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рекомендации по проведению профессиональной практи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индивидуальных заданий на практику и т.п..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428760" y="18608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обеспечение практик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 № _______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 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7:18:29Z</dcterms:created>
  <dc:creator>1</dc:creator>
  <dc:description/>
  <dc:language>en-US</dc:language>
  <cp:lastModifiedBy>ASUS</cp:lastModifiedBy>
  <dcterms:modified xsi:type="dcterms:W3CDTF">2011-12-01T10:20:20Z</dcterms:modified>
  <cp:revision>49</cp:revision>
  <dc:subject/>
  <dc:title>СОВЕРШЕНСТВОВАНИЕ КАЧЕСТВА ПОДГОТОВКИ СПЕЦИАЛИСТОВ  В ПРОЦЕССЕ ОРГАНИЗАЦИИ ПРОФЕССИОНАЛЬНОЙ ПРАКТИКИ</dc:title>
</cp:coreProperties>
</file>