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17F-BAE2-418A-9CF8-9E49B1D0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894-C692-4788-9C20-AC5171EE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17C-F433-4457-B0C0-DCD014F5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FA1-858E-4022-9A26-2D9AF28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7BD-D8C8-4FEA-B9C1-A14C168D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447-946E-40C1-8C7B-0561AD1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2210-7BF4-4BC7-8372-67A6E01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EB2A-1047-4D0D-8C97-3841A26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DE29-6AEC-4E6B-9433-24B98DF4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27E5-1F47-420E-AAF4-87B3D70F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C9DC-7949-4F05-BC31-034F74C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73A-1D0B-4B3F-9130-23893BEE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F95-4A11-4AC9-ADC0-FD2A101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245-4258-42AC-87CE-8D22A5E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B03-07D6-4787-A7A7-D6A8521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5CF-A3A6-472E-A837-958592D5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1AC1-0BC1-4ABA-92EA-5C4F81D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59B-041F-437B-B8AB-731D102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164-EBF0-469D-AFA5-881F6C8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71D-5417-4DCA-8F91-EED8654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1F7-689E-4847-8670-98D8FE1F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16F-CD4A-424E-9036-1E7873C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F59-5A8B-4B80-B986-2DCC0FA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0D4-48EE-44BE-8CC2-9D4E7F8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3E2-A040-4B3B-8FFF-7A2FE21D4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74E-7359-4EC9-9CCF-9B0849CC36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Scan1.PDF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5;&#1086;&#1103;&#1089;&#1085;&#1080;&#1090;&#1077;&#1083;&#1100;&#1085;&#1072;&#1103;%20&#1079;&#1072;&#1087;&#1080;&#1089;&#1082;&#1072;%20&#1082;%20&#1054;&#1055;&#1054;&#1055;.doc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1056;&#1059;&#1055;%20&#1052;&#1040;&#1057;&#1058;&#1045;&#1056;%20&#1062;&#1048;%2020.05.2011.xls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56;&#1077;&#1082;&#1086;&#1084;&#1077;&#1085;&#1076;&#1072;&#1094;&#1080;&#1080;-&#1052;&#1054;&#1053;-2007.doc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1053;&#1086;&#1074;&#1099;&#1077;%20&#1088;&#1077;&#1082;&#1086;&#1084;&#1077;&#1085;&#1076;&#1072;&#1094;&#1080;&#1080;%20&#1060;&#1048;&#1056;&#1054;%20&#1087;&#1086;%20&#1054;&#1044;.doc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1056;&#1072;&#1089;&#1095;&#1077;&#1090;%20&#1095;&#1072;&#1089;&#1086;&#1074;.xl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hyperlink" Target="file:///&#1041;&#1102;&#1076;&#1078;&#1077;&#1090;%20&#1074;&#1088;&#1077;&#1084;&#1077;&#1085;&#1080;.doc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055;&#1077;&#1088;&#1077;&#1095;&#1077;&#1085;&#1100;%20&#1082;&#1072;&#1073;&#1080;&#1085;&#1077;&#1090;&#1086;&#1074;.doc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86;&#1075;&#1088;&#1072;&#1084;&#1084;&#1072;%20%20&#1054;&#1089;&#1085;&#1086;&#1074;&#1099;%20&#1080;&#1085;&#1092;&#1086;&#1088;&#1084;&#1072;&#1094;&#1080;&#1086;&#1085;&#1085;&#1099;&#1093;%20&#1090;&#1077;&#1093;&#1085;&#1086;&#1083;&#1086;&#1075;&#1080;&#1081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55;&#1086;&#1091;&#1088;&#1086;&#1095;&#1085;&#1086;&#1077;%20&#1087;&#1083;&#1072;&#1085;&#1080;&#1088;&#1086;&#1074;&#1072;&#1085;&#1080;&#1077;%20&#1087;&#1086;%20&#1054;&#1048;&#1058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88;&#1086;&#1075;&#1088;&#1072;&#1084;&#1084;&#1072;%20&#1055;&#1052;1%20&#1042;&#1074;&#1086;&#1076;%20&#1080;%20&#1086;&#1073;&#1088;&#1072;&#1073;&#1086;&#1090;&#1082;&#1072;%20&#1062;&#1048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ОПОП в соответствии с требованиями ФГОС НП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6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С.Новиков - заместитель директора по УП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ЯО ПЛ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тульный лист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Пояснительная записка к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Учебны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(рекомендации МОН от 29.05.2007г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(рекомендации ФИРО№ 1 от 03 февраля 2011 г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2"/>
              </a:rPr>
              <a:t>(профили НП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учеб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Сводные данные по бюджету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Перечень кабинетов, мастерских и пр.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Программы учебных дисциплин (ОД, ОП, ФК, БЖ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Программы профессиональных моду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а и содержание 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ческое сопровождение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ОД и 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моду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обучаю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тивно-правовое и учебно-методическое обеспечение образовательного процесса в условиях введения нового ФГОС НП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56:14Z</dcterms:created>
  <dc:creator>Admin</dc:creator>
  <dc:description/>
  <dc:language>en-US</dc:language>
  <cp:lastModifiedBy>Admin</cp:lastModifiedBy>
  <dcterms:modified xsi:type="dcterms:W3CDTF">2011-11-30T12:15:24Z</dcterms:modified>
  <cp:revision>9</cp:revision>
  <dc:subject/>
  <dc:title>Учебно-методическое обеспечение ОПОП в соответствии с требованиями ФГОС НПО</dc:title>
</cp:coreProperties>
</file>