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463-6E8D-490E-938E-F9D3B629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DA0-938B-48FA-B871-D10F5EA8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CD-6AFE-420D-8E48-3C199419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4268-2FD0-4A5B-8D8E-178869E2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E80-00B2-4228-9EF6-F83F7EC9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1957-DC93-4458-99FC-C9116F61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FE8-A321-473B-96F4-CA26BA1D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5BB9-A21A-48BC-999C-C47797C0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29B-5547-45D9-AB9D-6697C2F2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C34F-5C13-4D06-A1A2-5143BEEA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620-2A14-4AAD-9B5D-6826505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F24-E8B8-42DB-ABAC-9CC4B61D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D22-E49C-4335-A164-17701CA2B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41;&#1059;&#1055;%20&#1085;&#1072;&#1095;%20&#1082;&#1083;&#1072;&#1089;&#1089;&#1099;%2021.01.xls" TargetMode="External"/><Relationship Id="rId2" Type="http://schemas.openxmlformats.org/officeDocument/2006/relationships/hyperlink" Target="file:///&#1059;&#1044;%20&#1055;&#1088;&#1072;&#1074;&#1086;&#1074;&#1086;&#1077;%20&#1086;&#1073;&#1077;&#1089;&#1087;&#1077;&#1095;&#1077;&#1085;&#1080;&#1077;%2003.05.11.doc" TargetMode="External"/><Relationship Id="rId3" Type="http://schemas.openxmlformats.org/officeDocument/2006/relationships/hyperlink" Target="file:///&#1055;&#1052;%20&#1052;&#1054;%20&#1053;&#1050;%2013.04.11.doc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8;&#1088;&#1091;&#1076;&#1086;&#1105;&#1084;&#1082;&#1086;&#1089;&#1090;&#1100;%20&#1057;&#1056;&#1057;.doc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1056;&#1077;&#1082;&#1086;&#1084;&#1077;&#1085;&#1076;&#1072;&#1094;&#1080;&#1080;%20&#1087;&#1086;%20&#1057;&#1056;&#1057;.doc" TargetMode="Externa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coll@mail.ru" TargetMode="External"/><Relationship Id="rId2" Type="http://schemas.openxmlformats.org/officeDocument/2006/relationships/hyperlink" Target="mailto:rcoll@mail.ru" TargetMode="External"/><Relationship Id="rId3" Type="http://schemas.openxmlformats.org/officeDocument/2006/relationships/hyperlink" Target="mailto:rcoll@mail.ru" TargetMode="External"/><Relationship Id="rId4" Type="http://schemas.openxmlformats.org/officeDocument/2006/relationships/hyperlink" Target="mailto:rcoll@mail.ru" TargetMode="External"/><Relationship Id="rId5" Type="http://schemas.openxmlformats.org/officeDocument/2006/relationships/hyperlink" Target="mailto:rcoll@mail.ru" TargetMode="External"/><Relationship Id="rId6" Type="http://schemas.openxmlformats.org/officeDocument/2006/relationships/hyperlink" Target="http://www.gou_rpk/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6;&#1072;&#1079;&#1076;&#1077;&#1083;%207%20&#1060;&#1043;&#1054;&#1057;.doc" TargetMode="External"/><Relationship Id="rId2" Type="http://schemas.openxmlformats.org/officeDocument/2006/relationships/hyperlink" Target="file:///&#1056;&#1077;&#1082;&#1086;&#1084;&#1077;&#1085;&#1076;&#1072;&#1094;&#1080;&#1080;%20&#1087;&#1086;%20&#1057;&#1056;.doc" TargetMode="External"/><Relationship Id="rId3" Type="http://schemas.openxmlformats.org/officeDocument/2006/relationships/hyperlink" Target="file:///&#1056;&#1077;&#1082;&#1086;&#1084;&#1077;&#1085;&#1076;&#1072;&#1094;&#1080;&#1080;%20&#1087;&#1086;%20&#1057;&#1056;.doc" TargetMode="External"/><Relationship Id="rId4" Type="http://schemas.openxmlformats.org/officeDocument/2006/relationships/hyperlink" Target="file:///&#1056;&#1077;&#1082;&#1086;&#1084;&#1077;&#1085;&#1076;&#1072;&#1094;&#1080;&#1080;%20&#1087;&#1086;%20&#1057;&#1056;.doc" TargetMode="External"/><Relationship Id="rId5" Type="http://schemas.openxmlformats.org/officeDocument/2006/relationships/hyperlink" Target="file:///&#1041;&#1088;&#1086;&#1096;&#1102;&#1088;&#1072;%20&#1086;%20&#1057;&#1056;&#1057;.doc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рганизация самостоятельной работы обучающихся в условиях введения ФГОС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рославл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7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Базисный учебный пл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бочий учебны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абочая программа по У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абочая программа по П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5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уководство СР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Подготов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1. Отбор целей самостоятельной работ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2. Отбор содержан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3.  Отбор  форм, типов и видов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. Комплексное методическое обеспечение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Основно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. Мотиваци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. Руководство выполнением 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3. Заключительный этап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1. Организация контроля СР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2. Рефлексия руководства СР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ледует учитывать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42472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ожность изучаемого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м изучаем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рс обучения и получаемую специальность, профес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уемые педагогом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тодическое обеспечение учебной дисципл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зможность использования информационно-коммуникационных средств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ленность состава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обенности студентов и уровень их самосто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63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Проблема перегрузки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 студентки 5 курса…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25 декабря 2009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ить конспект занятия по 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долг подождет, она хорошо ко мне относи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зачету по …….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ало оценок – 4, а могла бы и на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работать конспект лекции по…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«пронесло» и не спроси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готовиться к семинару по…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(может освободят от экзамена – 5 УР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Подготовить сообщение по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сказала, что не успела распечатать, перенесли на следующую недел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олучить зачет по ВКР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очень рада, что в колледже не встретилис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ы внеаудиторной СР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675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ПиН определяет время, ежедневно выделяемое на выполнение домашнего задания по всем предметам, вместе взят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класс – не превышает 1 ч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ласс – 1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4 класс – 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6 класс – 2,5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-8 класс – 3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-11 класс – 4 ча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Учет СР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50560" y="765000"/>
            <a:ext cx="8675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объема внеаудиторной СРС на заседании Ц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инструктажа используется время, отведенное на изучение УД и МД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жно проводить консультации из общего объема времени, отведенного на консультации (100 часов в год на учебную груп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троль  результатов может проходить на учебных занятиях и (или) в форме предъявления изделия или продукта творческ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, формы и методы контроля прописываются в КТ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Учет СР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250560" y="162828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ния на внеаудиторную СРС записываются в классном журнале, в графе: «Домашняя рабо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а контроля отражается в содержании учебного занятия (справа) и фиксируется колонкой отметок (зачетов) на левой сторо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ультации записываются в журнале консультац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иси в классном журнале и КТП должны совпа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50560" y="3860280"/>
            <a:ext cx="86756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Г.Копотю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ректор ГОАУ СП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ыбинского педколлед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coll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i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gou_rp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Что такое самостоятельная работа (СР)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В каких нормативных и методических документах она пропис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им образом она может быть организована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Как вести учет самостоятельной работы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ид учебной деятельности учащихся как на уроке, так и во вне урочное время (Т.А.Иль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 обучения, при котором учащиеся под руководством учителя и  по его заданию самостоятельно решают поставленную задачу (Л.В.Жар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а самостоятельной деятельности, которая всегда строго ограничена временными рамками и является обязательной для каждого ученика (Н.Ю.Лейк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едство вовлечения учащихся в самостоятельную познавательную деятельность (П.И.Пидкасисты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нятие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им для всех подходов является то, что самостоятельная работа является орудием педагогического руководства и управления самостоятельной познавательной деятельностью обучающегося в процессе обучения. Результаты СР в том числе и домашней используются в учебном проце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ы и  тип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количеству обучающихс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 месту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Типы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оспроизводящая (копирующи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конструктивная (репродуктив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вристическая (частично-поискова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ворческая (самостоятельные действ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овладения знания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формирования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ды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иды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по дидактическим целя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овладения знаниями (самостоятельное изучение отдельных тем курса, чтение текста, конспектирование текста и т.п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закрепления и систематизации знаний (работа с конспектом лекции, учебником, работа с опорными сигналами, составление таблиц, подготовка сообщен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формирования умений (решение задач и упражнений, упражнение на тренажёре, подготовка к деловым играм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проверки сформированности знаний и умений (подготовка к контрольной работе, опросу, зачету, семина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исьмо 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Минобразования</a:t>
            </a: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России от 29.12.2000 № 16-52-138 ин/16-13 «О рекомендациях по планированию и организации СР студентов (СРС)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Рекомендации по руководству СРС педагогического колледжа (201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0T07:49:57Z</dcterms:created>
  <dc:creator>Kopotuk</dc:creator>
  <dc:description/>
  <dc:language>en-US</dc:language>
  <cp:lastModifiedBy>Kopotuk</cp:lastModifiedBy>
  <dcterms:modified xsi:type="dcterms:W3CDTF">2002-01-20T11:04:22Z</dcterms:modified>
  <cp:revision>8</cp:revision>
  <dc:subject/>
  <dc:title>Организация самостоятельной работы обучающихся в условиях введения ФГОС   Ярославль 2011</dc:title>
</cp:coreProperties>
</file>