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7EC-6904-402C-A29F-D192DF24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5C9-14FA-404E-973C-36ED366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616-66DF-400E-88C8-18ABA0F5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CA0-C500-44D2-9BE0-BED95D94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BA1-B07F-4C01-9B98-FAC94888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94F-4B71-4406-945F-E7A312A5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247-ACC3-4F2D-9865-182E320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415-4547-4F00-A408-ED900BA4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9B7-881D-4FA8-9AC7-A9BFF8D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777-F0FF-4E7F-B197-AE7BE2E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365-CB85-4E6C-9A72-49C06AB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3F2-5EE9-484A-B513-40F07FC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529B-0096-46EA-AE1B-F8C1988BA70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80;&#1096;&#1072;%20&#1044;&#1077;&#1084;&#1077;&#1085;&#1090;&#1100;&#1077;&#1074;.%20&#1052;&#1072;&#1075;&#1085;&#1080;&#1090;.ppt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Рисунок 11" descr="head2.jpg"/>
          <p:cNvPicPr/>
          <p:nvPr/>
        </p:nvPicPr>
        <p:blipFill>
          <a:blip r:embed="rId1"/>
          <a:stretch/>
        </p:blipFill>
        <p:spPr>
          <a:xfrm>
            <a:off x="900000" y="115920"/>
            <a:ext cx="7396200" cy="151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s://encrypted-tbn0.gstatic.com/images?q=tbn:ANd9GcSmSr161omg6cpR-OSCcSpeThsRGO_6AJdxca9DJ2-DO_P-J8yM"/>
          <p:cNvPicPr/>
          <p:nvPr/>
        </p:nvPicPr>
        <p:blipFill>
          <a:blip r:embed="rId2"/>
          <a:stretch/>
        </p:blipFill>
        <p:spPr>
          <a:xfrm>
            <a:off x="2916360" y="1916280"/>
            <a:ext cx="2681280" cy="42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Изготовление игрушки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«Рыболов»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для малыш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bewitchit.com/wp-content/uploads/2012/10/magiya-magni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877000"/>
            <a:ext cx="532080" cy="4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l136.ru/sites/default/files/79908.jpg"/>
          <p:cNvPicPr/>
          <p:nvPr/>
        </p:nvPicPr>
        <p:blipFill>
          <a:blip r:embed="rId3"/>
          <a:stretch/>
        </p:blipFill>
        <p:spPr>
          <a:xfrm>
            <a:off x="4067280" y="3213000"/>
            <a:ext cx="470700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660680" y="722160"/>
            <a:ext cx="5143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74840" y="1125360"/>
            <a:ext cx="647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Bookman Old Style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Bookman Old Style"/>
              </a:rPr>
              <a:t>за работу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53:28Z</dcterms:created>
  <dc:creator>Галина</dc:creator>
  <dc:description/>
  <dc:language>en-US</dc:language>
  <cp:lastModifiedBy>Grand</cp:lastModifiedBy>
  <dcterms:modified xsi:type="dcterms:W3CDTF">2013-10-27T19:29:53Z</dcterms:modified>
  <cp:revision>35</cp:revision>
  <dc:subject/>
  <dc:title>Как люди узнали о магните</dc:title>
</cp:coreProperties>
</file>