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E898-C26D-484C-A14E-7CC57B09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BC31-6642-485E-873A-50D373AA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07D-36FF-4995-B9E2-68F27461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8DE-B5D9-47F2-BF6F-B948EB58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3E97-3326-498F-86FC-D89980FF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616E-9DEE-4CB2-9DC0-6DEF0995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76EF-192B-41EE-B321-02A90B41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334C-2338-469F-9846-1E765641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4CFC-E8E7-45B9-A66D-5E526421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1D69-384F-4A98-881D-BCCDE96D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5F3A-98D7-4A6E-A2E2-3833B404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C774-B7ED-4AC3-BB6C-0D7705E6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FABB-AD08-4D70-BA33-B9A3F1C6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3E74-93EB-41BF-836F-9D3092D6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23F8-4F3C-41B4-AFE9-B672DC63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6E81-039C-4226-9588-9E71DB51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B288-2B2D-4A58-9368-7EA44CF9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F422-7941-4945-947D-E4573D95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145D-E378-4095-ABFB-6123C76A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0EF0-7C47-478C-B028-252118F3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E15B-3475-4EDF-B468-6D5D438A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1C4F-6D77-424C-872C-34C7C561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4BFC-3B00-4159-93B5-A26D6E6C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2956-461E-4B49-8C31-4B1EE61F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4C9B-9BD9-4759-8E45-E0BD3BD808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A713-4F01-4CC5-B336-B5288384A6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1628280"/>
            <a:ext cx="705672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Как люди узнали о магните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4149720"/>
            <a:ext cx="54720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ементьев Михаи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4В класс СОШ №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. Гаврилов Я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7280" y="692280"/>
            <a:ext cx="7632720" cy="102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36" descr=""/>
          <p:cNvPicPr/>
          <p:nvPr/>
        </p:nvPicPr>
        <p:blipFill>
          <a:blip r:embed="rId1"/>
          <a:stretch/>
        </p:blipFill>
        <p:spPr>
          <a:xfrm>
            <a:off x="2556000" y="1125360"/>
            <a:ext cx="4786200" cy="5116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7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1870200" cy="1325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8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1869840" cy="1325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9" descr=""/>
          <p:cNvPicPr/>
          <p:nvPr/>
        </p:nvPicPr>
        <p:blipFill>
          <a:blip r:embed="rId4"/>
          <a:stretch/>
        </p:blipFill>
        <p:spPr>
          <a:xfrm>
            <a:off x="6372360" y="4221000"/>
            <a:ext cx="1869840" cy="1325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0" descr=""/>
          <p:cNvPicPr/>
          <p:nvPr/>
        </p:nvPicPr>
        <p:blipFill>
          <a:blip r:embed="rId5"/>
          <a:stretch/>
        </p:blipFill>
        <p:spPr>
          <a:xfrm>
            <a:off x="1403280" y="2421000"/>
            <a:ext cx="1870200" cy="1325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1" descr=""/>
          <p:cNvPicPr/>
          <p:nvPr/>
        </p:nvPicPr>
        <p:blipFill>
          <a:blip r:embed="rId6"/>
          <a:stretch/>
        </p:blipFill>
        <p:spPr>
          <a:xfrm>
            <a:off x="6443640" y="2852640"/>
            <a:ext cx="1870200" cy="1325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2" descr=""/>
          <p:cNvPicPr/>
          <p:nvPr/>
        </p:nvPicPr>
        <p:blipFill>
          <a:blip r:embed="rId7"/>
          <a:stretch/>
        </p:blipFill>
        <p:spPr>
          <a:xfrm>
            <a:off x="2340000" y="620640"/>
            <a:ext cx="1870200" cy="1325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49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L 0.25 0.33302 E">
                                      <p:cBhvr>
                                        <p:cTn id="6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620640"/>
            <a:ext cx="7489800" cy="102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4859640" cy="5710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2000" y="313920"/>
            <a:ext cx="7488000" cy="13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0560" y="105228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848720" cy="4471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7408800" cy="563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3"/>
          <p:cNvSpPr txBox="1"/>
          <p:nvPr/>
        </p:nvSpPr>
        <p:spPr>
          <a:xfrm>
            <a:off x="611280" y="3141720"/>
            <a:ext cx="480204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6666"/>
                    </a:gs>
                    <a:gs pos="100000">
                      <a:srgbClr val="006666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Спасиб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6666"/>
                  </a:gs>
                  <a:gs pos="100000">
                    <a:srgbClr val="006666"/>
                  </a:gs>
                </a:gsLst>
                <a:lin ang="0"/>
              </a:gra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6:53:28Z</dcterms:created>
  <dc:creator>Галина</dc:creator>
  <dc:description/>
  <dc:language>en-US</dc:language>
  <cp:lastModifiedBy>Grand</cp:lastModifiedBy>
  <dcterms:modified xsi:type="dcterms:W3CDTF">2013-10-27T14:32:07Z</dcterms:modified>
  <cp:revision>5</cp:revision>
  <dc:subject/>
  <dc:title>Как люди узнали о магните</dc:title>
</cp:coreProperties>
</file>