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ED1-2C18-4A20-901B-F168DE72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A48-1116-48E6-B1EA-B2E54665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11D-0B52-4BF8-8101-07527C89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E44-9ED5-4DFF-A43F-E4AD7582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10B-7D1C-4B5C-B061-6C1C14A9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80D-FFE8-4998-8BDE-39031C83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07D-E34E-4779-9788-75853812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EDF-987D-43D8-960D-95079413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A81-EB86-4090-8C5B-87206DFB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870-D92C-49AD-ABA0-C57DBD33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C23-C9AE-40DD-A798-2735C702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473-6E36-4BBA-A94F-D36E85B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9A4C-1D83-4D50-AF75-278A9201D9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3;&#1080;&#1095;&#1085;&#1086;&#1089;&#1090;&#1085;&#1099;&#1077;%20&#1088;&#1077;&#1079;&#1091;&#1083;&#1100;&#1090;&#1072;&#1090;&#1099;.doc" TargetMode="External"/><Relationship Id="rId2" Type="http://schemas.openxmlformats.org/officeDocument/2006/relationships/hyperlink" Target="file:///&#1084;&#1077;&#1090;&#1072;&#1087;&#1088;&#1077;&#1076;&#1084;&#1077;&#1090;&#1085;&#1099;&#1077;%20&#1088;&#1077;&#1079;&#1091;&#1083;&#1100;&#1090;&#1072;&#1090;&#1099;.doc" TargetMode="External"/><Relationship Id="rId3" Type="http://schemas.openxmlformats.org/officeDocument/2006/relationships/hyperlink" Target="file:///&#1087;&#1088;&#1077;&#1076;&#1084;&#1077;&#1090;&#1085;&#1099;&#1077;%20&#1088;&#1077;&#1079;&#1091;&#1083;&#1100;&#1090;&#1072;&#1090;&#1099;.doc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ставление рабочих материалов по итогам КПК детей с ОВ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риалы подготовили: Аксенова Дарья Валерьевна, заместитель директора по ВР, педагог — психолог, МОУ Лучинская СШ ЯМ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ухалова Людмила Владимировна, учитель русского языка и литературы, МОУ Лучинская СШ ЯМР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рылова Светлана Юрьев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читель начальных классов, МОУ Большесельская СО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нько Марина Александровна, учитель  началь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лассов, заместитель директора по УВР, средняя школа № 44 г. Ярослав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6048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я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765000"/>
          <a:ext cx="8424720" cy="5646960"/>
        </p:xfrm>
        <a:graphic>
          <a:graphicData uri="http://schemas.openxmlformats.org/drawingml/2006/table">
            <a:tbl>
              <a:tblPr/>
              <a:tblGrid>
                <a:gridCol w="1368360"/>
                <a:gridCol w="3240000"/>
                <a:gridCol w="3816360"/>
              </a:tblGrid>
              <a:tr h="64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и приемы для  детей с норм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ы и приемы для  детей с ЗП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рмирование потреб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мотр видеофиль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Зачем нужно знать ПД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щение к личному опыту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 желаемого результ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Как мы можем помочь малышам научиться переходить проезжую часть». Согласование образца, выбор наглядного материала для составления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а «Как мы можем помочь малышам научиться переходить проезжую часть». Показ конкретного образца, выдача наглядного материала для изготовления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т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изация личного опыта, создание ситуации успеха через принятие необходимости создания памятки для дошкольник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визация личного опыта, создание ситуации успеха через оказание учителем помощи  в  создании памятки для дошкольник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еполаг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яющий вопрос учителя, приводящий к четкой совместной формулировке. Фиксация це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ация цели ребенком с помощью прикрепления карточе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ение совместного плана, фиксац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ация ребенком плана на доске с помощью прикрепления карточе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в группах по выбору дорожных знаков, необходимых для пешеходов. Фронтальная работа с моделью светофора. Оформление и представление памятк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 в конкретной группе с выданным материалом (знаками). Участие в оформлении и представлении памя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беседе повторяем цель и определяем степень достигнутости. Подчеркивание личного вклада каждого в образование. Самоанали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черкивание личной значимости ребенка на конкретном уроке. Самооценка по критериям, данным учител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403280" y="249228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Желаем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полагаемые результаты обучения детей с ОВ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84360" y="2133720"/>
            <a:ext cx="5688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Личнос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Мета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матическое планирование рабочей программы по предмету (окружающий мир, начальная школа 21 века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95280" y="1557360"/>
          <a:ext cx="8280360" cy="5102280"/>
        </p:xfrm>
        <a:graphic>
          <a:graphicData uri="http://schemas.openxmlformats.org/drawingml/2006/table">
            <a:tbl>
              <a:tblPr/>
              <a:tblGrid>
                <a:gridCol w="1655640"/>
                <a:gridCol w="1657440"/>
                <a:gridCol w="1655640"/>
                <a:gridCol w="1656000"/>
                <a:gridCol w="1655640"/>
              </a:tblGrid>
              <a:tr h="4222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 (час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обучения в клас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на обучение со специ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. Этот удивительный ми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- школь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с дефектологом или логопе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при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+2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, тьютор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люд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, тью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а страна – Россия. Родной кра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, психолог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е здоровь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, психоло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и другие лю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, логоп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 поурочного  планир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573120"/>
          <a:ext cx="8435880" cy="6026040"/>
        </p:xfrm>
        <a:graphic>
          <a:graphicData uri="http://schemas.openxmlformats.org/drawingml/2006/table">
            <a:tbl>
              <a:tblPr/>
              <a:tblGrid>
                <a:gridCol w="1687680"/>
                <a:gridCol w="1685880"/>
                <a:gridCol w="1687320"/>
                <a:gridCol w="1687680"/>
                <a:gridCol w="1687320"/>
              </a:tblGrid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азовательные резуль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пользуемые методы и при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а го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зывает времена года, осенние месяц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пределяет последовательность времен года, различает 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нает правила поведения в ученическом коллектив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меет представление об учебном сообще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ставляет коллаж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ланирует учебную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ный творческий проект – коллаж «Золотая осень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с привлечением личного опыта «Как мы можем украсить школу к осеннему балу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ик, дневник наблюдений, журналы, книги, стихи об осе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549360"/>
          <a:ext cx="8229600" cy="5973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97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ила поведения на доро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равильно переходит проезжую част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ет значение сигналов светофо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выполняет ПД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ет одно из правил безопасной жиз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меет представление о личной ответственности за свои поступ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оставляет памятк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имеет представление о знаково–символических средствах представлениях информации (дорожные зна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мятка в картинках по ПДД для воспитанников детского са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еседа «Зачем нужно соблюдать правила поведения на дороге», «Кто может не знать правил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глядный материал (картинки для памят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монстрация видеофраг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хождение интерактивного тес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бники, ИКТ, индивидуальный раздаточный материал (светофор, знаки, зебра и т.д.), учебный фильм, игра по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404640"/>
          <a:ext cx="8229600" cy="5688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568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фессии люд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знают названия профессий работников школ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различают особенности деятельности людей разных професс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онимают важность каждого человека в общест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оставляет схем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сравнивает и обобщает  знания о профессия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хема «Люди каких профессий работают в школ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кскурсия по школ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монстрация видеофрагмен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лечение жизненного опы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идактическая иг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КТ, «скелет» схемы, наглядность (картинки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 инклюзивного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611280" y="1700280"/>
            <a:ext cx="77058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а урока из рабочей програм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ила поведения на дор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МК: Начальная школа 21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-ый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дполагаемые результа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557360"/>
          <a:ext cx="8353440" cy="492264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779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 с нормой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и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44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чнос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ет правило безопасной жизни – дорожные знаки, необходимые для безопасного пребывания на улице. Имеет представление об ответственном поведении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нает среди предложенных дорожные знаки, необходимые для безопасного пребывания на улице. Имеет представление об ответственном поведении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предме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ляет памятку. Имеет представление о знаково – символических средствах представления информации – знает дорожные знаки, регулирующие поведение пешеходов на дорог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азывает помощь в составлении памятки (выстригает, раскрашивает, приклеивает). Знакомится со знаково – символическими средствами представления информации –дорожными зна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ны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ает дорожные знаки, необходимые для безопасного пребывания на улице, переходит проезжую часть в соответствии с правилами дорожного движ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воение правил поведения пешехода на дороге посредством создания памятки – рисунка «Правила поведения на дороге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07:23:05Z</dcterms:created>
  <dc:creator>student</dc:creator>
  <dc:description/>
  <dc:language>en-US</dc:language>
  <cp:lastModifiedBy>О.Г. Воронина</cp:lastModifiedBy>
  <dcterms:modified xsi:type="dcterms:W3CDTF">2016-04-25T10:09:23Z</dcterms:modified>
  <cp:revision>12</cp:revision>
  <dc:subject/>
  <dc:title>Представление рабочих материалов по итогам КПК детей с ОВЗ</dc:title>
</cp:coreProperties>
</file>