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1FF9-2650-4D20-9CEE-5B613AF44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6F33-214D-4785-AB77-5741C895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A709-575A-48E7-BF8E-B24B885D0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8811-00A0-461D-83A4-1508F97B2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DCE3-502E-4645-8565-E1395A83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178C-3AA9-4E43-B63B-D3784484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3E80-6E81-4D57-ADC2-17155C81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985D-733F-4B49-8C25-E7E0B800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49F5-8BE9-4C3F-9C19-027076AF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9E74-371D-4D24-AACF-D135FA54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2C26-BACE-4A93-BB89-DD61FC02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9FC4-75D8-4A2D-B744-749647C4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8BDD-EE22-43CD-ACD1-54B3E0F99D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М.В. Ломоносов – великий учёный и человек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2852640"/>
            <a:ext cx="7848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ружающий ми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Начальная школ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XXI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ек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ДАЧИ НАМ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овательные результ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едметные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оздают словесный портрет М.В. Ломоносова как человека и учён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называют этапы жизни М.В. Ломонос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называют открытия, сделанные учёным в разных областях нау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овательные результ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Метапредметные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находят необходимую информацию в различных информационных источника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контролируют собственные действия в соответствии с алгоритмом построения текс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оценивают себя и своих одноклассников по заданным критерия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высказывают собственные суждения и обосновывают и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работают в группе, выполняя порученную роль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Личностны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-наличие потребности к саморазвитию  на примере жизни великого учёного М.В. Ломонос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овательные результ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 навыка составления словесного портрета посредством поиска информации в различных источник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1285920" y="1428840"/>
            <a:ext cx="614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лавная идея реализации содерж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чем основан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ована на интересе детей, вызванном просмотром филь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ма со-бытийн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Составляем словесный портрет  М.В. Ломоносов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856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ация учебной деятельности на уро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08000" y="836640"/>
          <a:ext cx="8856720" cy="7670880"/>
        </p:xfrm>
        <a:graphic>
          <a:graphicData uri="http://schemas.openxmlformats.org/drawingml/2006/table">
            <a:tbl>
              <a:tblPr/>
              <a:tblGrid>
                <a:gridCol w="1727280"/>
                <a:gridCol w="5113080"/>
                <a:gridCol w="2016360"/>
              </a:tblGrid>
              <a:tr h="646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тап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пособы организации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Дидак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6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ормирование потреб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 фрагмента документального фильма о М.В. Ломоносов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седа о герое  фильм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окументальный фильм «М.В. Ломоносов. Путь в науку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77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Формирование образа желаемого результ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ановка уточняющего вопроса «Как можно представить полученные знания, что может быть продуктом нашей деятельности в конце урока?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бсуждение в полилоге  образа желаемого результа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отив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седа о том, где могут пригодиться полученные зн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Целеполаг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туативная  бесед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4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ланир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овместное  составление плана деятель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77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ыполнение действ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бота в группах с разными источниками информации. Составляют рассказ по предложенному план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ебник, энциклопедии, научно-познавательная литера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нализ результ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амооценка и взаимооценка выполненной работы группы по совместно выработанным критерия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нализ со-бытийности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85680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ные  методы организации учебной деятельности соответствуют требованиям деятельностного подход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ные методы соответствуют  со-бытийному подход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еская грамотность проекта со-бытия: проект разработан в соответствии с основными этапами деятельно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вность проекта со-бытия: при реализации  со-бытия был создан продукт совместной деятельности «Словесный портрет М.В. Ломоносова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е выводы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ыла чётко организована деятельность   детей по созданию совместного продукта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ащиеся сумели сформулировать цель собственной  деятельности, наметили пути её достижения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умели распределить роли при работе в группах, оценить результаты  деятельности  группы и презентовать полученный продук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нее проработан оказался этап планирования деятельно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2T16:26:22Z</dcterms:created>
  <dc:creator>Ольга Вячеславовна Тихомирова</dc:creator>
  <dc:description/>
  <dc:language>en-US</dc:language>
  <cp:lastModifiedBy>Windows User</cp:lastModifiedBy>
  <dcterms:modified xsi:type="dcterms:W3CDTF">2016-03-28T17:01:38Z</dcterms:modified>
  <cp:revision>26</cp:revision>
  <dc:subject/>
  <dc:title>«Играем сказку»</dc:title>
</cp:coreProperties>
</file>