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7D9C-251C-478B-A63A-1B55CF82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E51F-DBF9-45AF-A3A1-B3AF259D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7EE58-24E6-4BC3-9604-BAED97B6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FA2F-5D9F-48E0-AC27-9D481DEB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B986-82E3-4D9C-9440-982AEC5B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21A1-50E4-433D-96FF-E4F31332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3C18-CB9D-48F4-BDB3-8E5BD060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B4BB-DCBB-46B6-A512-81BD782F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02BC-8B21-4797-B5BC-1B558B0A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9CE1-FB2B-4CDF-BC46-DD3748BC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8E32-2CBA-4FED-8ABD-A28E5A91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3593-62A4-4DBA-9B91-ACD4CEF8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9D0B-1C99-40B6-AC80-AEB088D3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17EC-D99C-4088-A13E-527F8594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74A4-CAE6-43D1-A38F-97AC7B21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C4DD-9A0A-4F59-A9BA-A966B89A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4FE4-8B88-413B-B692-4BCDACF7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4F0C-540F-4215-A2EB-A372E732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5236-920D-482D-9A14-D7DD8D67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3E1B-2396-4BA5-BBF3-FA1C8FC2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C9E94-1567-434A-9617-6FD0843D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FB41-C5B5-4750-8CDA-BC6D7A76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ABA5-30CE-430B-B5F9-6E14EDCD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A465-887A-4501-9FDD-48C4D146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6a737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AEFE-47F6-41DD-A07C-402166261E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70797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DB2E-7A7D-42F4-884D-9AF8DB30A5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70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42900"/>
                </a:solidFill>
                <a:latin typeface="Arial"/>
              </a:rPr>
              <a:t>Воспитание семейных цен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20.01.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азарова Инна Григорьевна, заведующий кафедрой общей педагогики и псих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6" descr="http://cs620728.vk.me/v620728597/2694/UkFEvQNSolc.jpg"/>
          <p:cNvPicPr/>
          <p:nvPr/>
        </p:nvPicPr>
        <p:blipFill>
          <a:blip r:embed="rId1"/>
          <a:stretch/>
        </p:blipFill>
        <p:spPr>
          <a:xfrm>
            <a:off x="2843280" y="333360"/>
            <a:ext cx="3047760" cy="202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Задачи курсов для родителе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навыка и потребности, повышение мотивации учиться родитель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йствие развитию ключевых компетенций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аганда обобщенно-позитивных образов семьи, отца, матери, родного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йствие развитию навыков родительского само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чувства Родины через изучение истории своего рода, родного края, сво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801800" y="1197000"/>
          <a:ext cx="5540400" cy="5675400"/>
        </p:xfrm>
        <a:graphic>
          <a:graphicData uri="http://schemas.openxmlformats.org/drawingml/2006/table">
            <a:tbl>
              <a:tblPr/>
              <a:tblGrid>
                <a:gridCol w="5540400"/>
              </a:tblGrid>
              <a:tr h="60012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ы семейной психолог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636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ы семейного уклад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36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ы семейного прав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2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ы семейного воспит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636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рия семьи, история род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540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ы здорового образа жизни и содержательного досуг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80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ые формы взаимодействия  семьи и образовательной организа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мейный бюдж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Успехов! Приглашаем к сотрудничеств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2"/>
          <a:stretch/>
        </p:blipFill>
        <p:spPr>
          <a:xfrm>
            <a:off x="468360" y="1481040"/>
            <a:ext cx="8207280" cy="468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Анализ социальной ситу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5d4e"/>
                </a:solidFill>
                <a:latin typeface="Arial"/>
              </a:rPr>
              <a:t>Изменился вектор семейных ценнос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чезло почитание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ажение к истории своего рода и сво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ошел разрыв связи между покол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ья, её уклад и традиции,  для большинства молодых людей перестали быть цен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родителей сформировалась потребительская позиция по отношению к государству, а по отношению к своему ребенку – безответст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ФГОС и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общественный догов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ное закрепление роли родителей в жизни О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и принятие локальных актов ОО, обеспечивающих государственно – общественный характер 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ение в совместную творческую деятельность, направленную на создание нравственного уклада школьн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ение родителей в решении задач, поставленных Стандар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зменение родительской ро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ици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ш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ьюторы собственным де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тив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торы деятельности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сители цен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торы 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торы социальных прак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Задачи О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тивное закрепление роли родителей(договор, соглашение, локальные ак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е сопровождение и просвещение(форум на сайте О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социального заказа родителей к содержанию и реализации части, формируемой участниками ОП(анкетирование, диагностика, опрос, переговорная площадка, фокус-гру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влечение родителей(законных представителей) в процессе реализации образовательного процесса в 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Учить быть родител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количества разв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культурного уровня взрослого и детского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словий для самостоятельного решения семьей своих социальных фун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государственно-общественного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ая оценка качества образовательных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овернуть» родителей лицом к  ОО, совместно искать решения возникающи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редпосылки изме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5d4e"/>
                </a:solidFill>
                <a:latin typeface="Arial"/>
              </a:rPr>
              <a:t>Педагогическое просвещение родителей позвол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отно выстроить детско-родительские 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адить психологический климат в родительском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уться к таким традиционным семейным ценностям, как любовь, верность, забота, честь, достоинство, ответственность, почитание старших, знание и уважение своей  родослов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условия для саморазвития и совершенствования в выполнении главнейшей социальной функции – функции семьянина и р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Формирование позитивной родительской пози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Родительская позиц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совокупность отношений родителя к себе, к своему ребенку, к семье, к своему роду,  к своей малой и большой Родине, к учителю, к образовательной организации, к образованию в це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Курсы для родителей ориентируют 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41300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раивание позитивных детско-родительских 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ешение споров и конфликтных ситуаций в сем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у семейного неблагополучия и социального сирот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уровня правовой культуры в области семейного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и повышение экономической грамотности 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ответственной и позитивной родительской поз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аганду семейных традиций и ценностей российской 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9:01:42Z</dcterms:created>
  <dc:creator>Hope</dc:creator>
  <dc:description/>
  <dc:language>en-US</dc:language>
  <cp:lastModifiedBy>Инна Назарова</cp:lastModifiedBy>
  <dcterms:modified xsi:type="dcterms:W3CDTF">2016-01-19T18:40:05Z</dcterms:modified>
  <cp:revision>93</cp:revision>
  <dc:subject/>
  <dc:title>   Управление образования Администрации РМР   МОУ Центр психолого-медико-социального сопровождения детей</dc:title>
</cp:coreProperties>
</file>